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702C9-8381-4BF1-9B3E-3CDF5797A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C6B09-5E9E-4E58-94D9-49EDC4B8D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53158-77BA-41C5-9E78-5FC79C00D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1073F-407C-4EB4-B0F8-5E5DAA551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6A9603-51F3-40D0-9559-9358A30950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78581-A0E7-4CB3-865C-93C6A0AEE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890EA-5181-46C9-9193-80D384A68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15E19-4DAA-454B-AB86-764EED371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5FC7A-DCFE-45B3-8750-725455149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CD703-E04E-476F-A682-E16139F6B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BCB67-4BB4-42B6-8861-AAC601491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91756-CD40-4504-891D-D44F19AD9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FEE3B-E6A1-49CA-98BA-1D67C45A9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C2096-F987-4B0D-85D6-10B6791AC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FD903-9BD9-43B3-8394-2D08AF858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036D97-00BD-47FD-9FD7-C3D1C02949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ED4D9A-B7BB-455D-A977-18EC00F8E1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B0C75-66F7-4477-9569-5E1039FD9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81749-2A15-4CFD-BFCA-47C496DEC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2DD97-6DAB-4DE3-AEE1-83ED90E5D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DA7DB-0235-4BE1-8A6D-6EBEC8A5D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C78BF-7315-4CC1-8C54-0A60252F7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0DF46-4260-4A45-8F56-29A2258EA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FD430-0006-4ADE-B464-05F5AD963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45DE6-2C84-4A90-9659-D297EFFA0CCC}"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8"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4"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2ACE-A608-4CE1-9061-7C3A695CE1C8}"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0" y="60199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vantGarde"/>
              </a:rPr>
              <a:t>Aligning Quality &amp; Quantity </a:t>
            </a:r>
            <a:endParaRPr b="0" lang="en-US" sz="3200" spc="-1" strike="noStrike">
              <a:solidFill>
                <a:srgbClr val="f8f8f8"/>
              </a:solidFill>
              <a:latin typeface="Times New Roman"/>
            </a:endParaRPr>
          </a:p>
        </p:txBody>
      </p:sp>
      <p:grpSp>
        <p:nvGrpSpPr>
          <p:cNvPr id="110" name=""/>
          <p:cNvGrpSpPr/>
          <p:nvPr/>
        </p:nvGrpSpPr>
        <p:grpSpPr>
          <a:xfrm>
            <a:off x="293400" y="1084320"/>
            <a:ext cx="8615160" cy="3936960"/>
            <a:chOff x="293400" y="1084320"/>
            <a:chExt cx="8615160" cy="3936960"/>
          </a:xfrm>
        </p:grpSpPr>
        <p:sp>
          <p:nvSpPr>
            <p:cNvPr id="111" name=""/>
            <p:cNvSpPr/>
            <p:nvPr/>
          </p:nvSpPr>
          <p:spPr>
            <a:xfrm flipV="1">
              <a:off x="590400" y="1858680"/>
              <a:ext cx="228600" cy="53316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12" name=""/>
            <p:cNvSpPr/>
            <p:nvPr/>
          </p:nvSpPr>
          <p:spPr>
            <a:xfrm>
              <a:off x="590400" y="3763800"/>
              <a:ext cx="228600" cy="5032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13" name=""/>
            <p:cNvSpPr/>
            <p:nvPr/>
          </p:nvSpPr>
          <p:spPr>
            <a:xfrm rot="5400000">
              <a:off x="7022520" y="2421000"/>
              <a:ext cx="152424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vantGarde"/>
                </a:rPr>
                <a:t>Successful Completion</a:t>
              </a:r>
              <a:endParaRPr b="0" lang="en-US" sz="16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vantGarde"/>
                </a:rPr>
                <a:t>Primary School Curriculum</a:t>
              </a:r>
              <a:endParaRPr b="0" lang="en-US" sz="1600" spc="-1" strike="noStrike">
                <a:solidFill>
                  <a:srgbClr val="f8f8f8"/>
                </a:solidFill>
                <a:latin typeface="Times New Roman"/>
              </a:endParaRPr>
            </a:p>
          </p:txBody>
        </p:sp>
        <p:sp>
          <p:nvSpPr>
            <p:cNvPr id="114" name=""/>
            <p:cNvSpPr/>
            <p:nvPr/>
          </p:nvSpPr>
          <p:spPr>
            <a:xfrm rot="16183800">
              <a:off x="-825480" y="289368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vantGarde"/>
                </a:rPr>
                <a:t>REFORMS</a:t>
              </a:r>
              <a:endParaRPr b="0" lang="en-US" sz="1800" spc="-1" strike="noStrike">
                <a:solidFill>
                  <a:srgbClr val="f8f8f8"/>
                </a:solidFill>
                <a:latin typeface="Times New Roman"/>
              </a:endParaRPr>
            </a:p>
          </p:txBody>
        </p:sp>
        <p:sp>
          <p:nvSpPr>
            <p:cNvPr id="115" name=""/>
            <p:cNvSpPr/>
            <p:nvPr/>
          </p:nvSpPr>
          <p:spPr>
            <a:xfrm>
              <a:off x="425160" y="1084320"/>
              <a:ext cx="43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vantGarde"/>
                </a:rPr>
                <a:t>IN</a:t>
              </a:r>
              <a:endParaRPr b="0" lang="en-US" sz="1800" spc="-1" strike="noStrike">
                <a:solidFill>
                  <a:srgbClr val="f8f8f8"/>
                </a:solidFill>
                <a:latin typeface="Times New Roman"/>
              </a:endParaRPr>
            </a:p>
          </p:txBody>
        </p:sp>
        <p:sp>
          <p:nvSpPr>
            <p:cNvPr id="116" name=""/>
            <p:cNvSpPr/>
            <p:nvPr/>
          </p:nvSpPr>
          <p:spPr>
            <a:xfrm>
              <a:off x="8046000" y="1389240"/>
              <a:ext cx="65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vantGarde"/>
                </a:rPr>
                <a:t>OUT</a:t>
              </a:r>
              <a:endParaRPr b="0" lang="en-US" sz="1800" spc="-1" strike="noStrike">
                <a:solidFill>
                  <a:srgbClr val="f8f8f8"/>
                </a:solidFill>
                <a:latin typeface="Times New Roman"/>
              </a:endParaRPr>
            </a:p>
          </p:txBody>
        </p:sp>
        <p:sp>
          <p:nvSpPr>
            <p:cNvPr id="117" name=""/>
            <p:cNvSpPr/>
            <p:nvPr/>
          </p:nvSpPr>
          <p:spPr>
            <a:xfrm>
              <a:off x="293400" y="465300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vantGarde"/>
                </a:rPr>
                <a:t>LOW</a:t>
              </a:r>
              <a:endParaRPr b="0" lang="en-US" sz="1800" spc="-1" strike="noStrike">
                <a:solidFill>
                  <a:srgbClr val="f8f8f8"/>
                </a:solidFill>
                <a:latin typeface="Times New Roman"/>
              </a:endParaRPr>
            </a:p>
          </p:txBody>
        </p:sp>
        <p:sp>
          <p:nvSpPr>
            <p:cNvPr id="118" name=""/>
            <p:cNvSpPr/>
            <p:nvPr/>
          </p:nvSpPr>
          <p:spPr>
            <a:xfrm>
              <a:off x="8145720" y="4437000"/>
              <a:ext cx="76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vantGarde"/>
                </a:rPr>
                <a:t>HIGH</a:t>
              </a:r>
              <a:endParaRPr b="0" lang="en-US" sz="1800" spc="-1" strike="noStrike">
                <a:solidFill>
                  <a:srgbClr val="f8f8f8"/>
                </a:solidFill>
                <a:latin typeface="Times New Roman"/>
              </a:endParaRPr>
            </a:p>
          </p:txBody>
        </p:sp>
      </p:grpSp>
      <p:grpSp>
        <p:nvGrpSpPr>
          <p:cNvPr id="119" name=""/>
          <p:cNvGrpSpPr/>
          <p:nvPr/>
        </p:nvGrpSpPr>
        <p:grpSpPr>
          <a:xfrm>
            <a:off x="895320" y="1066680"/>
            <a:ext cx="7354080" cy="4041360"/>
            <a:chOff x="895320" y="1066680"/>
            <a:chExt cx="7354080" cy="4041360"/>
          </a:xfrm>
        </p:grpSpPr>
        <p:grpSp>
          <p:nvGrpSpPr>
            <p:cNvPr id="120" name=""/>
            <p:cNvGrpSpPr/>
            <p:nvPr/>
          </p:nvGrpSpPr>
          <p:grpSpPr>
            <a:xfrm>
              <a:off x="895320" y="1066680"/>
              <a:ext cx="7258680" cy="1250640"/>
              <a:chOff x="895320" y="1066680"/>
              <a:chExt cx="7258680" cy="1250640"/>
            </a:xfrm>
          </p:grpSpPr>
          <p:grpSp>
            <p:nvGrpSpPr>
              <p:cNvPr id="121" name=""/>
              <p:cNvGrpSpPr/>
              <p:nvPr/>
            </p:nvGrpSpPr>
            <p:grpSpPr>
              <a:xfrm>
                <a:off x="895320" y="1096920"/>
                <a:ext cx="7258680" cy="1220400"/>
                <a:chOff x="895320" y="1096920"/>
                <a:chExt cx="7258680" cy="1220400"/>
              </a:xfrm>
            </p:grpSpPr>
            <p:sp>
              <p:nvSpPr>
                <p:cNvPr id="122" name=""/>
                <p:cNvSpPr/>
                <p:nvPr/>
              </p:nvSpPr>
              <p:spPr>
                <a:xfrm rot="5413800">
                  <a:off x="7161480" y="1325880"/>
                  <a:ext cx="1217520" cy="762120"/>
                </a:xfrm>
                <a:custGeom>
                  <a:avLst/>
                  <a:gdLst>
                    <a:gd name="textAreaLeft" fmla="*/ 0 w 1217520"/>
                    <a:gd name="textAreaRight" fmla="*/ 1217880 w 1217520"/>
                    <a:gd name="textAreaTop" fmla="*/ 0 h 762120"/>
                    <a:gd name="textAreaBottom" fmla="*/ 762480 h 762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23" name=""/>
                <p:cNvSpPr/>
                <p:nvPr/>
              </p:nvSpPr>
              <p:spPr>
                <a:xfrm flipV="1">
                  <a:off x="895320" y="1096560"/>
                  <a:ext cx="6553080" cy="3715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24" name=""/>
              <p:cNvSpPr/>
              <p:nvPr/>
            </p:nvSpPr>
            <p:spPr>
              <a:xfrm>
                <a:off x="895320" y="106668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vantGarde"/>
                  </a:rPr>
                  <a:t>Quantity</a:t>
                </a:r>
                <a:endParaRPr b="0" lang="en-US" sz="2400" spc="-1" strike="noStrike">
                  <a:solidFill>
                    <a:srgbClr val="f8f8f8"/>
                  </a:solidFill>
                  <a:latin typeface="Times New Roman"/>
                </a:endParaRPr>
              </a:p>
            </p:txBody>
          </p:sp>
        </p:grpSp>
        <p:grpSp>
          <p:nvGrpSpPr>
            <p:cNvPr id="125" name=""/>
            <p:cNvGrpSpPr/>
            <p:nvPr/>
          </p:nvGrpSpPr>
          <p:grpSpPr>
            <a:xfrm>
              <a:off x="971640" y="3838680"/>
              <a:ext cx="7277760" cy="1269360"/>
              <a:chOff x="971640" y="3838680"/>
              <a:chExt cx="7277760" cy="1269360"/>
            </a:xfrm>
          </p:grpSpPr>
          <p:grpSp>
            <p:nvGrpSpPr>
              <p:cNvPr id="126" name=""/>
              <p:cNvGrpSpPr/>
              <p:nvPr/>
            </p:nvGrpSpPr>
            <p:grpSpPr>
              <a:xfrm>
                <a:off x="990720" y="3838680"/>
                <a:ext cx="7258680" cy="1220760"/>
                <a:chOff x="990720" y="3838680"/>
                <a:chExt cx="7258680" cy="1220760"/>
              </a:xfrm>
            </p:grpSpPr>
            <p:sp>
              <p:nvSpPr>
                <p:cNvPr id="127" name=""/>
                <p:cNvSpPr/>
                <p:nvPr/>
              </p:nvSpPr>
              <p:spPr>
                <a:xfrm flipV="1" rot="16186200">
                  <a:off x="7256880" y="4067640"/>
                  <a:ext cx="1217520" cy="761760"/>
                </a:xfrm>
                <a:custGeom>
                  <a:avLst/>
                  <a:gdLst>
                    <a:gd name="textAreaLeft" fmla="*/ 0 w 1217520"/>
                    <a:gd name="textAreaRight" fmla="*/ 1217880 w 1217520"/>
                    <a:gd name="textAreaTop" fmla="*/ 360 h 761760"/>
                    <a:gd name="textAreaBottom" fmla="*/ 762480 h 7617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28" name=""/>
                <p:cNvSpPr/>
                <p:nvPr/>
              </p:nvSpPr>
              <p:spPr>
                <a:xfrm>
                  <a:off x="990720" y="4687920"/>
                  <a:ext cx="6553080" cy="3711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29" name=""/>
              <p:cNvSpPr/>
              <p:nvPr/>
            </p:nvSpPr>
            <p:spPr>
              <a:xfrm>
                <a:off x="971640" y="4648320"/>
                <a:ext cx="716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vantGarde"/>
                  </a:rPr>
                  <a:t>Quality</a:t>
                </a:r>
                <a:endParaRPr b="0" lang="en-US" sz="2400" spc="-1" strike="noStrike">
                  <a:solidFill>
                    <a:srgbClr val="f8f8f8"/>
                  </a:solidFill>
                  <a:latin typeface="Times New Roman"/>
                </a:endParaRPr>
              </a:p>
            </p:txBody>
          </p:sp>
        </p:grpSp>
      </p:grpSp>
      <p:grpSp>
        <p:nvGrpSpPr>
          <p:cNvPr id="130" name=""/>
          <p:cNvGrpSpPr/>
          <p:nvPr/>
        </p:nvGrpSpPr>
        <p:grpSpPr>
          <a:xfrm>
            <a:off x="1384200" y="1932120"/>
            <a:ext cx="5902920" cy="2247840"/>
            <a:chOff x="1384200" y="1932120"/>
            <a:chExt cx="5902920" cy="2247840"/>
          </a:xfrm>
        </p:grpSpPr>
        <p:sp>
          <p:nvSpPr>
            <p:cNvPr id="131" name=""/>
            <p:cNvSpPr/>
            <p:nvPr/>
          </p:nvSpPr>
          <p:spPr>
            <a:xfrm flipH="1" rot="12013800">
              <a:off x="5925600" y="2133000"/>
              <a:ext cx="1284480" cy="672840"/>
            </a:xfrm>
            <a:custGeom>
              <a:avLst/>
              <a:gdLst>
                <a:gd name="textAreaLeft" fmla="*/ 209520 w 1284480"/>
                <a:gd name="textAreaRight" fmla="*/ 1006560 w 1284480"/>
                <a:gd name="textAreaTop" fmla="*/ 90000 h 672840"/>
                <a:gd name="textAreaBottom" fmla="*/ 582840 h 672840"/>
              </a:gdLst>
              <a:ahLst/>
              <a:rect l="textAreaLeft" t="textAreaTop" r="textAreaRight" b="textAreaBottom"/>
              <a:pathLst>
                <a:path w="21600" h="21600">
                  <a:moveTo>
                    <a:pt x="0" y="0"/>
                  </a:moveTo>
                  <a:arcTo wR="7054" hR="21600" stAng="10800000" swAng="-5400000"/>
                  <a:lnTo>
                    <a:pt x="13398" y="21600"/>
                  </a:lnTo>
                  <a:arcTo wR="7054" hR="21600" stAng="5400000" swAng="-2817808"/>
                  <a:lnTo>
                    <a:pt x="21293" y="6300"/>
                  </a:lnTo>
                  <a:lnTo>
                    <a:pt x="17280" y="0"/>
                  </a:lnTo>
                  <a:lnTo>
                    <a:pt x="12653" y="6300"/>
                  </a:lnTo>
                  <a:lnTo>
                    <a:pt x="13801" y="6300"/>
                  </a:lnTo>
                  <a:arcTo wR="7054" hR="21600" stAng="2582192" swAng="2257612"/>
                  <a:lnTo>
                    <a:pt x="10226" y="19293"/>
                  </a:lnTo>
                  <a:arcTo wR="7054" hR="21600" stAng="5960196" swAng="4839804"/>
                  <a:close/>
                </a:path>
                <a:path fill="darkenLess" w="21600" h="21600">
                  <a:moveTo>
                    <a:pt x="0" y="0"/>
                  </a:moveTo>
                  <a:arcTo wR="7054" hR="21600" stAng="10800000" swAng="-5400000"/>
                  <a:lnTo>
                    <a:pt x="13398" y="21600"/>
                  </a:lnTo>
                  <a:arcTo wR="7054" hR="21600" stAng="5400000" swAng="560196"/>
                  <a:lnTo>
                    <a:pt x="10226" y="19293"/>
                  </a:lnTo>
                  <a:arcTo wR="7054" hR="21600" stAng="5960196" swAng="4839804"/>
                  <a:close/>
                </a:path>
              </a:pathLst>
            </a:custGeom>
            <a:solidFill>
              <a:srgbClr val="6600cc"/>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32" name=""/>
            <p:cNvSpPr/>
            <p:nvPr/>
          </p:nvSpPr>
          <p:spPr>
            <a:xfrm flipH="1" rot="20182200">
              <a:off x="5619240" y="3277800"/>
              <a:ext cx="1284480" cy="672840"/>
            </a:xfrm>
            <a:custGeom>
              <a:avLst/>
              <a:gdLst>
                <a:gd name="textAreaLeft" fmla="*/ 209520 w 1284480"/>
                <a:gd name="textAreaRight" fmla="*/ 1006560 w 1284480"/>
                <a:gd name="textAreaTop" fmla="*/ 90000 h 672840"/>
                <a:gd name="textAreaBottom" fmla="*/ 582840 h 672840"/>
              </a:gdLst>
              <a:ahLst/>
              <a:rect l="textAreaLeft" t="textAreaTop" r="textAreaRight" b="textAreaBottom"/>
              <a:pathLst>
                <a:path w="21600" h="21600">
                  <a:moveTo>
                    <a:pt x="0" y="0"/>
                  </a:moveTo>
                  <a:arcTo wR="7054" hR="21600" stAng="10800000" swAng="-5400000"/>
                  <a:lnTo>
                    <a:pt x="13398" y="21600"/>
                  </a:lnTo>
                  <a:arcTo wR="7054" hR="21600" stAng="5400000" swAng="-2817808"/>
                  <a:lnTo>
                    <a:pt x="21293" y="6300"/>
                  </a:lnTo>
                  <a:lnTo>
                    <a:pt x="17280" y="0"/>
                  </a:lnTo>
                  <a:lnTo>
                    <a:pt x="12653" y="6300"/>
                  </a:lnTo>
                  <a:lnTo>
                    <a:pt x="13801" y="6300"/>
                  </a:lnTo>
                  <a:arcTo wR="7054" hR="21600" stAng="2582192" swAng="2257612"/>
                  <a:lnTo>
                    <a:pt x="10226" y="19293"/>
                  </a:lnTo>
                  <a:arcTo wR="7054" hR="21600" stAng="5960196" swAng="4839804"/>
                  <a:close/>
                </a:path>
                <a:path fill="darkenLess" w="21600" h="21600">
                  <a:moveTo>
                    <a:pt x="0" y="0"/>
                  </a:moveTo>
                  <a:arcTo wR="7054" hR="21600" stAng="10800000" swAng="-5400000"/>
                  <a:lnTo>
                    <a:pt x="13398" y="21600"/>
                  </a:lnTo>
                  <a:arcTo wR="7054" hR="21600" stAng="5400000" swAng="560196"/>
                  <a:lnTo>
                    <a:pt x="10226" y="19293"/>
                  </a:lnTo>
                  <a:arcTo wR="7054" hR="21600" stAng="5960196" swAng="4839804"/>
                  <a:close/>
                </a:path>
              </a:pathLst>
            </a:custGeom>
            <a:solidFill>
              <a:srgbClr val="6600cc"/>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33" name=""/>
            <p:cNvSpPr/>
            <p:nvPr/>
          </p:nvSpPr>
          <p:spPr>
            <a:xfrm flipH="1" rot="446400">
              <a:off x="1427760" y="3282840"/>
              <a:ext cx="1218600" cy="761760"/>
            </a:xfrm>
            <a:custGeom>
              <a:avLst/>
              <a:gdLst>
                <a:gd name="textAreaLeft" fmla="*/ 198720 w 1218600"/>
                <a:gd name="textAreaRight" fmla="*/ 955080 w 1218600"/>
                <a:gd name="textAreaTop" fmla="*/ 101880 h 761760"/>
                <a:gd name="textAreaBottom" fmla="*/ 659880 h 761760"/>
              </a:gdLst>
              <a:ahLst/>
              <a:rect l="textAreaLeft" t="textAreaTop" r="textAreaRight" b="textAreaBottom"/>
              <a:pathLst>
                <a:path w="21600" h="21600">
                  <a:moveTo>
                    <a:pt x="0" y="0"/>
                  </a:moveTo>
                  <a:arcTo wR="7054" hR="21600" stAng="10800000" swAng="-5400000"/>
                  <a:lnTo>
                    <a:pt x="13398" y="21600"/>
                  </a:lnTo>
                  <a:arcTo wR="7054" hR="21600" stAng="5400000" swAng="-2817808"/>
                  <a:lnTo>
                    <a:pt x="21293" y="6300"/>
                  </a:lnTo>
                  <a:lnTo>
                    <a:pt x="17280" y="0"/>
                  </a:lnTo>
                  <a:lnTo>
                    <a:pt x="12653" y="6300"/>
                  </a:lnTo>
                  <a:lnTo>
                    <a:pt x="13801" y="6300"/>
                  </a:lnTo>
                  <a:arcTo wR="7054" hR="21600" stAng="2582192" swAng="2257612"/>
                  <a:lnTo>
                    <a:pt x="10226" y="19293"/>
                  </a:lnTo>
                  <a:arcTo wR="7054" hR="21600" stAng="5960196" swAng="4839804"/>
                  <a:close/>
                </a:path>
                <a:path fill="darkenLess" w="21600" h="21600">
                  <a:moveTo>
                    <a:pt x="0" y="0"/>
                  </a:moveTo>
                  <a:arcTo wR="7054" hR="21600" stAng="10800000" swAng="-5400000"/>
                  <a:lnTo>
                    <a:pt x="13398" y="21600"/>
                  </a:lnTo>
                  <a:arcTo wR="7054" hR="21600" stAng="5400000" swAng="560196"/>
                  <a:lnTo>
                    <a:pt x="10226" y="19293"/>
                  </a:lnTo>
                  <a:arcTo wR="7054" hR="21600" stAng="5960196" swAng="4839804"/>
                  <a:close/>
                </a:path>
              </a:pathLst>
            </a:custGeom>
            <a:solidFill>
              <a:srgbClr val="6600cc"/>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34" name=""/>
            <p:cNvSpPr/>
            <p:nvPr/>
          </p:nvSpPr>
          <p:spPr>
            <a:xfrm flipH="1" rot="3973800">
              <a:off x="1443240" y="2323080"/>
              <a:ext cx="990360" cy="762120"/>
            </a:xfrm>
            <a:custGeom>
              <a:avLst/>
              <a:gdLst>
                <a:gd name="textAreaLeft" fmla="*/ 161640 w 990360"/>
                <a:gd name="textAreaRight" fmla="*/ 776160 w 990360"/>
                <a:gd name="textAreaTop" fmla="*/ 101880 h 762120"/>
                <a:gd name="textAreaBottom" fmla="*/ 660240 h 762120"/>
              </a:gdLst>
              <a:ahLst/>
              <a:rect l="textAreaLeft" t="textAreaTop" r="textAreaRight" b="textAreaBottom"/>
              <a:pathLst>
                <a:path w="21600" h="21600">
                  <a:moveTo>
                    <a:pt x="0" y="0"/>
                  </a:moveTo>
                  <a:arcTo wR="7054" hR="21600" stAng="10800000" swAng="-5400000"/>
                  <a:lnTo>
                    <a:pt x="13398" y="21600"/>
                  </a:lnTo>
                  <a:arcTo wR="7054" hR="21600" stAng="5400000" swAng="-2817808"/>
                  <a:lnTo>
                    <a:pt x="21293" y="6300"/>
                  </a:lnTo>
                  <a:lnTo>
                    <a:pt x="17280" y="0"/>
                  </a:lnTo>
                  <a:lnTo>
                    <a:pt x="12653" y="6300"/>
                  </a:lnTo>
                  <a:lnTo>
                    <a:pt x="13801" y="6300"/>
                  </a:lnTo>
                  <a:arcTo wR="7054" hR="21600" stAng="2582192" swAng="2257612"/>
                  <a:lnTo>
                    <a:pt x="10226" y="19293"/>
                  </a:lnTo>
                  <a:arcTo wR="7054" hR="21600" stAng="5960196" swAng="4839804"/>
                  <a:close/>
                </a:path>
                <a:path fill="darkenLess" w="21600" h="21600">
                  <a:moveTo>
                    <a:pt x="0" y="0"/>
                  </a:moveTo>
                  <a:arcTo wR="7054" hR="21600" stAng="10800000" swAng="-5400000"/>
                  <a:lnTo>
                    <a:pt x="13398" y="21600"/>
                  </a:lnTo>
                  <a:arcTo wR="7054" hR="21600" stAng="5400000" swAng="560196"/>
                  <a:lnTo>
                    <a:pt x="10226" y="19293"/>
                  </a:lnTo>
                  <a:arcTo wR="7054" hR="21600" stAng="5960196" swAng="4839804"/>
                  <a:close/>
                </a:path>
              </a:pathLst>
            </a:custGeom>
            <a:solidFill>
              <a:srgbClr val="6600cc"/>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35" name="" descr=""/>
            <p:cNvPicPr/>
            <p:nvPr/>
          </p:nvPicPr>
          <p:blipFill>
            <a:blip r:embed="rId1"/>
            <a:stretch/>
          </p:blipFill>
          <p:spPr>
            <a:xfrm>
              <a:off x="2419200" y="2819160"/>
              <a:ext cx="3934080" cy="495000"/>
            </a:xfrm>
            <a:prstGeom prst="rect">
              <a:avLst/>
            </a:prstGeom>
            <a:ln w="0">
              <a:noFill/>
            </a:ln>
          </p:spPr>
        </p:pic>
      </p:grpSp>
      <p:grpSp>
        <p:nvGrpSpPr>
          <p:cNvPr id="136" name=""/>
          <p:cNvGrpSpPr/>
          <p:nvPr/>
        </p:nvGrpSpPr>
        <p:grpSpPr>
          <a:xfrm>
            <a:off x="152280" y="125280"/>
            <a:ext cx="941400" cy="941400"/>
            <a:chOff x="152280" y="125280"/>
            <a:chExt cx="941400" cy="941400"/>
          </a:xfrm>
        </p:grpSpPr>
        <p:sp>
          <p:nvSpPr>
            <p:cNvPr id="137" name=""/>
            <p:cNvSpPr/>
            <p:nvPr/>
          </p:nvSpPr>
          <p:spPr>
            <a:xfrm>
              <a:off x="152280" y="125280"/>
              <a:ext cx="941400" cy="941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38" name="" descr=""/>
            <p:cNvPicPr/>
            <p:nvPr/>
          </p:nvPicPr>
          <p:blipFill>
            <a:blip r:embed="rId2"/>
            <a:stretch/>
          </p:blipFill>
          <p:spPr>
            <a:xfrm>
              <a:off x="171360" y="173160"/>
              <a:ext cx="914400" cy="85572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2362320"/>
            <a:ext cx="7619760" cy="350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must not be forgotten where the ultimate power to change is and always has been in the hands and hearts of the educators who work in our schools.  True reform must go where the action is</a:t>
            </a:r>
            <a:br>
              <a:rPr sz="3600"/>
            </a:br>
            <a:br>
              <a:rPr sz="3600"/>
            </a:br>
            <a:r>
              <a:rPr b="0" lang="en-US" sz="3600" spc="-1" strike="noStrike">
                <a:solidFill>
                  <a:srgbClr val="ffffff"/>
                </a:solidFill>
                <a:latin typeface="Tahoma"/>
              </a:rPr>
              <a:t>Sirontnik (1989)</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Lessons Learned from the Improving Educational Quality (IEQ) Approach</a:t>
            </a:r>
            <a:endParaRPr b="0" lang="en-US" sz="4000" spc="-1" strike="noStrike">
              <a:solidFill>
                <a:srgbClr val="f8f8f8"/>
              </a:solidFill>
              <a:latin typeface="Tahoma"/>
            </a:endParaRPr>
          </a:p>
        </p:txBody>
      </p:sp>
      <p:sp>
        <p:nvSpPr>
          <p:cNvPr id="1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Jane G. Schubert</a:t>
            </a: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merican Institutes for Research</a:t>
            </a: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DEA Biennale Dec 2003</a:t>
            </a: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EQ supported by USAID (5 bureaus and 17 missions)</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ntext of IEQ Project</a:t>
            </a:r>
            <a:endParaRPr b="0" lang="en-US" sz="3600" spc="-1" strike="noStrike">
              <a:solidFill>
                <a:srgbClr val="ffffff"/>
              </a:solidFill>
              <a:latin typeface="Tahoma"/>
            </a:endParaRPr>
          </a:p>
        </p:txBody>
      </p:sp>
      <p:sp>
        <p:nvSpPr>
          <p:cNvPr id="142" name="PlaceHolder 2"/>
          <p:cNvSpPr>
            <a:spLocks noGrp="1"/>
          </p:cNvSpPr>
          <p:nvPr>
            <p:ph/>
          </p:nvPr>
        </p:nvSpPr>
        <p:spPr>
          <a:xfrm>
            <a:off x="685440" y="1752480"/>
            <a:ext cx="3809880" cy="419112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Knowledge base</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Well-resourced environments</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Less-resourced environments</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Using knowledge</a:t>
            </a:r>
            <a:endParaRPr b="0" lang="en-US" sz="2400" spc="-1" strike="noStrike">
              <a:solidFill>
                <a:srgbClr val="f8f8f8"/>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
        <p:nvSpPr>
          <p:cNvPr id="143" name="PlaceHolder 3"/>
          <p:cNvSpPr>
            <a:spLocks noGrp="1"/>
          </p:cNvSpPr>
          <p:nvPr>
            <p:ph/>
          </p:nvPr>
        </p:nvSpPr>
        <p:spPr>
          <a:xfrm>
            <a:off x="4647960" y="1752480"/>
            <a:ext cx="3809880" cy="419112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rinciples</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National reform priorities</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Host country institutional partners</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eaching/learning environment</a:t>
            </a:r>
            <a:endParaRPr b="0" lang="en-US" sz="2400" spc="-1" strike="noStrike">
              <a:solidFill>
                <a:srgbClr val="f8f8f8"/>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5257800" y="3773520"/>
            <a:ext cx="3657600" cy="2855880"/>
          </a:xfrm>
          <a:prstGeom prst="rect">
            <a:avLst/>
          </a:prstGeom>
          <a:ln w="0">
            <a:noFill/>
          </a:ln>
        </p:spPr>
      </p:pic>
      <p:pic>
        <p:nvPicPr>
          <p:cNvPr id="145" name="" descr=""/>
          <p:cNvPicPr/>
          <p:nvPr/>
        </p:nvPicPr>
        <p:blipFill>
          <a:blip r:embed="rId2"/>
          <a:stretch/>
        </p:blipFill>
        <p:spPr>
          <a:xfrm>
            <a:off x="304920" y="304920"/>
            <a:ext cx="3695760" cy="2712960"/>
          </a:xfrm>
          <a:prstGeom prst="rect">
            <a:avLst/>
          </a:prstGeom>
          <a:ln w="0">
            <a:noFill/>
          </a:ln>
        </p:spPr>
      </p:pic>
      <p:pic>
        <p:nvPicPr>
          <p:cNvPr id="146" name="" descr=""/>
          <p:cNvPicPr/>
          <p:nvPr/>
        </p:nvPicPr>
        <p:blipFill>
          <a:blip r:embed="rId3"/>
          <a:stretch/>
        </p:blipFill>
        <p:spPr>
          <a:xfrm>
            <a:off x="5257800" y="304920"/>
            <a:ext cx="3657600" cy="2741400"/>
          </a:xfrm>
          <a:prstGeom prst="rect">
            <a:avLst/>
          </a:prstGeom>
          <a:ln w="0">
            <a:noFill/>
          </a:ln>
        </p:spPr>
      </p:pic>
      <p:grpSp>
        <p:nvGrpSpPr>
          <p:cNvPr id="147" name=""/>
          <p:cNvGrpSpPr/>
          <p:nvPr/>
        </p:nvGrpSpPr>
        <p:grpSpPr>
          <a:xfrm>
            <a:off x="304920" y="2980440"/>
            <a:ext cx="4726080" cy="3850560"/>
            <a:chOff x="304920" y="2980440"/>
            <a:chExt cx="4726080" cy="3850560"/>
          </a:xfrm>
        </p:grpSpPr>
        <p:grpSp>
          <p:nvGrpSpPr>
            <p:cNvPr id="148" name=""/>
            <p:cNvGrpSpPr/>
            <p:nvPr/>
          </p:nvGrpSpPr>
          <p:grpSpPr>
            <a:xfrm>
              <a:off x="987480" y="2980440"/>
              <a:ext cx="4043520" cy="3850560"/>
              <a:chOff x="987480" y="2980440"/>
              <a:chExt cx="4043520" cy="3850560"/>
            </a:xfrm>
          </p:grpSpPr>
          <p:sp>
            <p:nvSpPr>
              <p:cNvPr id="149" name=""/>
              <p:cNvSpPr/>
              <p:nvPr/>
            </p:nvSpPr>
            <p:spPr>
              <a:xfrm flipV="1" rot="10433400">
                <a:off x="1065960" y="4944600"/>
                <a:ext cx="3886200" cy="1684080"/>
              </a:xfrm>
              <a:custGeom>
                <a:avLst/>
                <a:gdLst>
                  <a:gd name="textAreaLeft" fmla="*/ 600480 w 3886200"/>
                  <a:gd name="textAreaRight" fmla="*/ 2907000 w 3886200"/>
                  <a:gd name="textAreaTop" fmla="*/ 225360 h 1684080"/>
                  <a:gd name="textAreaBottom" fmla="*/ 1458720 h 1684080"/>
                </a:gdLst>
                <a:ahLst/>
                <a:rect l="textAreaLeft" t="textAreaTop" r="textAreaRight" b="textAreaBottom"/>
                <a:pathLst>
                  <a:path w="21600" h="21600">
                    <a:moveTo>
                      <a:pt x="0" y="0"/>
                    </a:moveTo>
                    <a:arcTo wR="6678" hR="21600" stAng="10800000" swAng="-5400000"/>
                    <a:lnTo>
                      <a:pt x="12817" y="21600"/>
                    </a:lnTo>
                    <a:arcTo wR="6678" hR="21600" stAng="5400000" swAng="-2470095"/>
                    <a:lnTo>
                      <a:pt x="21218" y="7200"/>
                    </a:lnTo>
                    <a:lnTo>
                      <a:pt x="16426" y="0"/>
                    </a:lnTo>
                    <a:lnTo>
                      <a:pt x="10869" y="7200"/>
                    </a:lnTo>
                    <a:lnTo>
                      <a:pt x="12974" y="7200"/>
                    </a:lnTo>
                    <a:arcTo wR="6678" hR="21600" stAng="2929905" swAng="1924641"/>
                    <a:lnTo>
                      <a:pt x="9748" y="19183"/>
                    </a:lnTo>
                    <a:arcTo wR="6678" hR="21600" stAng="5945454" swAng="4854546"/>
                    <a:close/>
                  </a:path>
                  <a:path fill="darkenLess" w="21600" h="21600">
                    <a:moveTo>
                      <a:pt x="0" y="0"/>
                    </a:moveTo>
                    <a:arcTo wR="6678" hR="21600" stAng="10800000" swAng="-5400000"/>
                    <a:lnTo>
                      <a:pt x="12817" y="21600"/>
                    </a:lnTo>
                    <a:arcTo wR="6678" hR="21600" stAng="5400000" swAng="545454"/>
                    <a:lnTo>
                      <a:pt x="9748" y="19183"/>
                    </a:lnTo>
                    <a:arcTo wR="6678" hR="21600" stAng="5945454" swAng="4854546"/>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50" name=""/>
              <p:cNvSpPr/>
              <p:nvPr/>
            </p:nvSpPr>
            <p:spPr>
              <a:xfrm rot="11058600">
                <a:off x="1066320" y="3123360"/>
                <a:ext cx="3886200" cy="1896840"/>
              </a:xfrm>
              <a:custGeom>
                <a:avLst/>
                <a:gdLst>
                  <a:gd name="textAreaLeft" fmla="*/ 597600 w 3886200"/>
                  <a:gd name="textAreaRight" fmla="*/ 2909880 w 3886200"/>
                  <a:gd name="textAreaTop" fmla="*/ 254160 h 1896840"/>
                  <a:gd name="textAreaBottom" fmla="*/ 1642680 h 1896840"/>
                </a:gdLst>
                <a:ahLst/>
                <a:rect l="textAreaLeft" t="textAreaTop" r="textAreaRight" b="textAreaBottom"/>
                <a:pathLst>
                  <a:path w="21600" h="21600">
                    <a:moveTo>
                      <a:pt x="0" y="0"/>
                    </a:moveTo>
                    <a:arcTo wR="6644" hR="21600" stAng="10800000" swAng="-5400000"/>
                    <a:lnTo>
                      <a:pt x="12852" y="21600"/>
                    </a:lnTo>
                    <a:arcTo wR="6644" hR="21600" stAng="5400000" swAng="-2461274"/>
                    <a:lnTo>
                      <a:pt x="21220" y="7200"/>
                    </a:lnTo>
                    <a:lnTo>
                      <a:pt x="16391" y="0"/>
                    </a:lnTo>
                    <a:lnTo>
                      <a:pt x="10802" y="7200"/>
                    </a:lnTo>
                    <a:lnTo>
                      <a:pt x="12907" y="7200"/>
                    </a:lnTo>
                    <a:arcTo wR="6644" hR="21600" stAng="2938726" swAng="1907363"/>
                    <a:lnTo>
                      <a:pt x="9748" y="19097"/>
                    </a:lnTo>
                    <a:arcTo wR="6644" hR="21600" stAng="5953911" swAng="4846089"/>
                    <a:close/>
                  </a:path>
                  <a:path fill="darkenLess" w="21600" h="21600">
                    <a:moveTo>
                      <a:pt x="0" y="0"/>
                    </a:moveTo>
                    <a:arcTo wR="6644" hR="21600" stAng="10800000" swAng="-5400000"/>
                    <a:lnTo>
                      <a:pt x="12852" y="21600"/>
                    </a:lnTo>
                    <a:arcTo wR="6644" hR="21600" stAng="5400000" swAng="553911"/>
                    <a:lnTo>
                      <a:pt x="9748" y="19097"/>
                    </a:lnTo>
                    <a:arcTo wR="6644" hR="21600" stAng="5953911" swAng="4846089"/>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51" name=""/>
            <p:cNvGrpSpPr/>
            <p:nvPr/>
          </p:nvGrpSpPr>
          <p:grpSpPr>
            <a:xfrm>
              <a:off x="879840" y="4903200"/>
              <a:ext cx="2257200" cy="1234080"/>
              <a:chOff x="879840" y="4903200"/>
              <a:chExt cx="2257200" cy="1234080"/>
            </a:xfrm>
          </p:grpSpPr>
          <p:sp>
            <p:nvSpPr>
              <p:cNvPr id="152" name=""/>
              <p:cNvSpPr/>
              <p:nvPr/>
            </p:nvSpPr>
            <p:spPr>
              <a:xfrm rot="21168600">
                <a:off x="914040" y="5028840"/>
                <a:ext cx="2057400" cy="679320"/>
              </a:xfrm>
              <a:prstGeom prst="triangle">
                <a:avLst>
                  <a:gd name="adj" fmla="val 50000"/>
                </a:avLst>
              </a:prstGeom>
              <a:solidFill>
                <a:srgbClr val="009c00"/>
              </a:solidFill>
              <a:ln w="9360">
                <a:solidFill>
                  <a:srgbClr val="009c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53" name=""/>
              <p:cNvSpPr/>
              <p:nvPr/>
            </p:nvSpPr>
            <p:spPr>
              <a:xfrm flipV="1" rot="21460200">
                <a:off x="1066680" y="5416200"/>
                <a:ext cx="2057400" cy="679680"/>
              </a:xfrm>
              <a:prstGeom prst="triangle">
                <a:avLst>
                  <a:gd name="adj" fmla="val 50000"/>
                </a:avLst>
              </a:prstGeom>
              <a:solidFill>
                <a:srgbClr val="009c00"/>
              </a:solidFill>
              <a:ln w="9360">
                <a:solidFill>
                  <a:srgbClr val="009c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54" name=""/>
            <p:cNvSpPr/>
            <p:nvPr/>
          </p:nvSpPr>
          <p:spPr>
            <a:xfrm>
              <a:off x="304920" y="4952880"/>
              <a:ext cx="3352680" cy="762120"/>
            </a:xfrm>
            <a:prstGeom prst="roundRect">
              <a:avLst>
                <a:gd name="adj" fmla="val 16667"/>
              </a:avLst>
            </a:prstGeom>
            <a:solidFill>
              <a:srgbClr val="6699ff"/>
            </a:soli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Minion"/>
                </a:rPr>
                <a:t>IEQ Begins and Ends </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Minion"/>
                </a:rPr>
                <a:t>in the Classroom</a:t>
              </a:r>
              <a:endParaRPr b="0" lang="en-US" sz="2400" spc="-1" strike="noStrike">
                <a:solidFill>
                  <a:srgbClr val="f8f8f8"/>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7"/>
                                        </p:tgtEl>
                                        <p:attrNameLst>
                                          <p:attrName>style.visibility</p:attrName>
                                        </p:attrNameLst>
                                      </p:cBhvr>
                                      <p:to>
                                        <p:strVal val="visible"/>
                                      </p:to>
                                    </p:set>
                                    <p:anim calcmode="lin" valueType="num">
                                      <p:cBhvr additive="base">
                                        <p:cTn id="7" dur="500" fill="hold"/>
                                        <p:tgtEl>
                                          <p:spTgt spid="147"/>
                                        </p:tgtEl>
                                        <p:attrNameLst>
                                          <p:attrName>ppt_x</p:attrName>
                                        </p:attrNameLst>
                                      </p:cBhvr>
                                      <p:tavLst>
                                        <p:tav tm="0">
                                          <p:val>
                                            <p:strVal val="0-#ppt_w/2"/>
                                          </p:val>
                                        </p:tav>
                                        <p:tav tm="100000">
                                          <p:val>
                                            <p:strVal val="#ppt_x"/>
                                          </p:val>
                                        </p:tav>
                                      </p:tavLst>
                                    </p:anim>
                                    <p:anim calcmode="lin" valueType="num">
                                      <p:cBhvr additive="base">
                                        <p:cTn id="8"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56"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57" name=""/>
          <p:cNvSpPr/>
          <p:nvPr/>
        </p:nvSpPr>
        <p:spPr>
          <a:xfrm>
            <a:off x="762120" y="533520"/>
            <a:ext cx="7467480" cy="76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58"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DUCATIONAL QUALITY</a:t>
            </a:r>
            <a:br>
              <a:rPr sz="2800"/>
            </a:br>
            <a:r>
              <a:rPr b="0" lang="en-US" sz="2800" spc="-1" strike="noStrike">
                <a:solidFill>
                  <a:srgbClr val="f8f8f8"/>
                </a:solidFill>
                <a:latin typeface="Tahoma"/>
              </a:rPr>
              <a:t>AN IEQ DEFINITION</a:t>
            </a:r>
            <a:br>
              <a:rPr sz="3200"/>
            </a:br>
            <a:endParaRPr b="0" lang="en-US" sz="2800" spc="-1" strike="noStrike">
              <a:solidFill>
                <a:srgbClr val="f8f8f8"/>
              </a:solidFill>
              <a:latin typeface="Tahoma"/>
            </a:endParaRPr>
          </a:p>
        </p:txBody>
      </p:sp>
      <p:sp>
        <p:nvSpPr>
          <p:cNvPr id="159" name="PlaceHolder 2"/>
          <p:cNvSpPr>
            <a:spLocks noGrp="1"/>
          </p:cNvSpPr>
          <p:nvPr>
            <p:ph type="subTitle"/>
          </p:nvPr>
        </p:nvSpPr>
        <p:spPr>
          <a:xfrm>
            <a:off x="533520" y="1142640"/>
            <a:ext cx="8076960" cy="4876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vantGarde"/>
                <a:ea typeface="Times New Roman"/>
              </a:rPr>
              <a:t>IEQ’s </a:t>
            </a:r>
            <a:r>
              <a:rPr b="1" lang="en-US" sz="2800" spc="-1" strike="noStrike" u="sng">
                <a:solidFill>
                  <a:srgbClr val="f8f8f8"/>
                </a:solidFill>
                <a:uFillTx/>
                <a:latin typeface="AvantGarde"/>
                <a:ea typeface="Times New Roman"/>
              </a:rPr>
              <a:t>working</a:t>
            </a:r>
            <a:r>
              <a:rPr b="0" lang="en-US" sz="2800" spc="-1" strike="noStrike">
                <a:solidFill>
                  <a:srgbClr val="f8f8f8"/>
                </a:solidFill>
                <a:latin typeface="AvantGarde"/>
                <a:ea typeface="Times New Roman"/>
              </a:rPr>
              <a:t> definition of quality is </a:t>
            </a:r>
            <a:r>
              <a:rPr b="1" lang="en-US" sz="2800" spc="-1" strike="noStrike" u="sng">
                <a:solidFill>
                  <a:srgbClr val="f8f8f8"/>
                </a:solidFill>
                <a:uFillTx/>
                <a:latin typeface="AvantGarde"/>
                <a:ea typeface="Times New Roman"/>
              </a:rPr>
              <a:t>relative</a:t>
            </a:r>
            <a:r>
              <a:rPr b="0" lang="en-US" sz="2800" spc="-1" strike="noStrike">
                <a:solidFill>
                  <a:srgbClr val="f8f8f8"/>
                </a:solidFill>
                <a:latin typeface="AvantGarde"/>
                <a:ea typeface="Times New Roman"/>
              </a:rPr>
              <a:t>, not absolute.  It views the following elements as essential.  Quality is </a:t>
            </a:r>
            <a:r>
              <a:rPr b="1" lang="en-US" sz="2800" spc="-1" strike="noStrike" u="sng">
                <a:solidFill>
                  <a:srgbClr val="f8f8f8"/>
                </a:solidFill>
                <a:uFillTx/>
                <a:latin typeface="AvantGarde"/>
                <a:ea typeface="Times New Roman"/>
              </a:rPr>
              <a:t>dynamic</a:t>
            </a:r>
            <a:r>
              <a:rPr b="0" lang="en-US" sz="2800" spc="-1" strike="noStrike">
                <a:solidFill>
                  <a:srgbClr val="f8f8f8"/>
                </a:solidFill>
                <a:latin typeface="AvantGarde"/>
                <a:ea typeface="Times New Roman"/>
              </a:rPr>
              <a:t> – a work in progress characterized by </a:t>
            </a:r>
            <a:r>
              <a:rPr b="1" lang="en-US" sz="2800" spc="-1" strike="noStrike" u="sng">
                <a:solidFill>
                  <a:srgbClr val="f8f8f8"/>
                </a:solidFill>
                <a:uFillTx/>
                <a:latin typeface="AvantGarde"/>
                <a:ea typeface="Times New Roman"/>
              </a:rPr>
              <a:t>dialogue</a:t>
            </a:r>
            <a:r>
              <a:rPr b="0" lang="en-US" sz="2800" spc="-1" strike="noStrike">
                <a:solidFill>
                  <a:srgbClr val="f8f8f8"/>
                </a:solidFill>
                <a:latin typeface="AvantGarde"/>
                <a:ea typeface="Times New Roman"/>
              </a:rPr>
              <a:t> among policymakers and practitioners.  Quality is reflected in </a:t>
            </a:r>
            <a:r>
              <a:rPr b="1" lang="en-US" sz="2800" spc="-1" strike="noStrike" u="sng">
                <a:solidFill>
                  <a:srgbClr val="f8f8f8"/>
                </a:solidFill>
                <a:uFillTx/>
                <a:latin typeface="AvantGarde"/>
                <a:ea typeface="Times New Roman"/>
              </a:rPr>
              <a:t>student progress</a:t>
            </a:r>
            <a:r>
              <a:rPr b="0" lang="en-US" sz="2800" spc="-1" strike="noStrike">
                <a:solidFill>
                  <a:srgbClr val="f8f8f8"/>
                </a:solidFill>
                <a:latin typeface="AvantGarde"/>
                <a:ea typeface="Times New Roman"/>
              </a:rPr>
              <a:t> and </a:t>
            </a:r>
            <a:r>
              <a:rPr b="1" lang="en-US" sz="2800" spc="-1" strike="noStrike" u="sng">
                <a:solidFill>
                  <a:srgbClr val="f8f8f8"/>
                </a:solidFill>
                <a:uFillTx/>
                <a:latin typeface="AvantGarde"/>
                <a:ea typeface="Times New Roman"/>
              </a:rPr>
              <a:t>teacher performance</a:t>
            </a:r>
            <a:r>
              <a:rPr b="0" lang="en-US" sz="2800" spc="-1" strike="noStrike">
                <a:solidFill>
                  <a:srgbClr val="f8f8f8"/>
                </a:solidFill>
                <a:latin typeface="AvantGarde"/>
                <a:ea typeface="Times New Roman"/>
              </a:rPr>
              <a:t> in meeting or exceeding appropriate standards (e.g., agreed-upon objectives in knowledge, skills, attitudes, values…socialization).  Progress in outcomes related to teaching and learning must be set in </a:t>
            </a:r>
            <a:r>
              <a:rPr b="1" lang="en-US" sz="2800" spc="-1" strike="noStrike" u="sng">
                <a:solidFill>
                  <a:srgbClr val="f8f8f8"/>
                </a:solidFill>
                <a:uFillTx/>
                <a:latin typeface="AvantGarde"/>
                <a:ea typeface="Times New Roman"/>
              </a:rPr>
              <a:t>measurable terms</a:t>
            </a:r>
            <a:r>
              <a:rPr b="0" lang="en-US" sz="2800" spc="-1" strike="noStrike">
                <a:solidFill>
                  <a:srgbClr val="f8f8f8"/>
                </a:solidFill>
                <a:latin typeface="AvantGarde"/>
                <a:ea typeface="Times New Roman"/>
              </a:rPr>
              <a:t>.</a:t>
            </a:r>
            <a:endParaRPr b="0" lang="en-US" sz="2800" spc="-1" strike="noStrike">
              <a:solidFill>
                <a:srgbClr val="f8f8f8"/>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vantGarde"/>
                <a:ea typeface="Times New Roman"/>
              </a:rPr>
              <a:t> </a:t>
            </a:r>
            <a:endParaRPr b="0" lang="en-US" sz="2800" spc="-1" strike="noStrike">
              <a:solidFill>
                <a:srgbClr val="f8f8f8"/>
              </a:solidFill>
              <a:latin typeface="Tahoma"/>
            </a:endParaRPr>
          </a:p>
        </p:txBody>
      </p:sp>
      <p:graphicFrame>
        <p:nvGraphicFramePr>
          <p:cNvPr id="160" name=""/>
          <p:cNvGraphicFramePr/>
          <p:nvPr/>
        </p:nvGraphicFramePr>
        <p:xfrm>
          <a:off x="457200" y="380880"/>
          <a:ext cx="682560" cy="685800"/>
        </p:xfrm>
        <a:graphic>
          <a:graphicData uri="http://schemas.openxmlformats.org/presentationml/2006/ole">
            <p:oleObj r:id="rId1" spid="">
              <p:embed/>
              <p:pic>
                <p:nvPicPr>
                  <p:cNvPr id="161" name="" descr=""/>
                  <p:cNvPicPr/>
                  <p:nvPr/>
                </p:nvPicPr>
                <p:blipFill>
                  <a:blip r:embed="rId2"/>
                  <a:stretch/>
                </p:blipFill>
                <p:spPr>
                  <a:xfrm>
                    <a:off x="457200" y="380880"/>
                    <a:ext cx="68256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
          <p:cNvSpPr/>
          <p:nvPr/>
        </p:nvSpPr>
        <p:spPr>
          <a:xfrm>
            <a:off x="914400" y="6019920"/>
            <a:ext cx="7315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vantGarde"/>
              </a:rPr>
              <a:t>THE CYCLE OF IMPROVEMENT</a:t>
            </a:r>
            <a:endParaRPr b="0" lang="en-US" sz="3200" spc="-1" strike="noStrike">
              <a:solidFill>
                <a:srgbClr val="f8f8f8"/>
              </a:solidFill>
              <a:latin typeface="Times New Roman"/>
            </a:endParaRPr>
          </a:p>
        </p:txBody>
      </p:sp>
      <p:grpSp>
        <p:nvGrpSpPr>
          <p:cNvPr id="163" name=""/>
          <p:cNvGrpSpPr/>
          <p:nvPr/>
        </p:nvGrpSpPr>
        <p:grpSpPr>
          <a:xfrm>
            <a:off x="2131920" y="1343160"/>
            <a:ext cx="4235400" cy="3876480"/>
            <a:chOff x="2131920" y="1343160"/>
            <a:chExt cx="4235400" cy="3876480"/>
          </a:xfrm>
        </p:grpSpPr>
        <p:grpSp>
          <p:nvGrpSpPr>
            <p:cNvPr id="164" name=""/>
            <p:cNvGrpSpPr/>
            <p:nvPr/>
          </p:nvGrpSpPr>
          <p:grpSpPr>
            <a:xfrm>
              <a:off x="4959360" y="1343160"/>
              <a:ext cx="1407960" cy="2065320"/>
              <a:chOff x="4959360" y="1343160"/>
              <a:chExt cx="1407960" cy="2065320"/>
            </a:xfrm>
          </p:grpSpPr>
          <p:sp>
            <p:nvSpPr>
              <p:cNvPr id="165" name=""/>
              <p:cNvSpPr/>
              <p:nvPr/>
            </p:nvSpPr>
            <p:spPr>
              <a:xfrm>
                <a:off x="4959360" y="1343160"/>
                <a:ext cx="1387440" cy="2065320"/>
              </a:xfrm>
              <a:custGeom>
                <a:avLst/>
                <a:gdLst/>
                <a:ahLst/>
                <a:rect l="l" t="t" r="r" b="b"/>
                <a:pathLst>
                  <a:path w="874" h="1427">
                    <a:moveTo>
                      <a:pt x="83" y="5"/>
                    </a:moveTo>
                    <a:lnTo>
                      <a:pt x="65" y="0"/>
                    </a:lnTo>
                    <a:lnTo>
                      <a:pt x="0" y="189"/>
                    </a:lnTo>
                    <a:lnTo>
                      <a:pt x="18" y="197"/>
                    </a:lnTo>
                    <a:lnTo>
                      <a:pt x="32" y="203"/>
                    </a:lnTo>
                    <a:lnTo>
                      <a:pt x="46" y="209"/>
                    </a:lnTo>
                    <a:lnTo>
                      <a:pt x="65" y="217"/>
                    </a:lnTo>
                    <a:lnTo>
                      <a:pt x="81" y="223"/>
                    </a:lnTo>
                    <a:lnTo>
                      <a:pt x="97" y="231"/>
                    </a:lnTo>
                    <a:lnTo>
                      <a:pt x="110" y="238"/>
                    </a:lnTo>
                    <a:lnTo>
                      <a:pt x="127" y="247"/>
                    </a:lnTo>
                    <a:lnTo>
                      <a:pt x="141" y="254"/>
                    </a:lnTo>
                    <a:lnTo>
                      <a:pt x="158" y="265"/>
                    </a:lnTo>
                    <a:lnTo>
                      <a:pt x="173" y="273"/>
                    </a:lnTo>
                    <a:lnTo>
                      <a:pt x="188" y="284"/>
                    </a:lnTo>
                    <a:lnTo>
                      <a:pt x="202" y="294"/>
                    </a:lnTo>
                    <a:lnTo>
                      <a:pt x="214" y="302"/>
                    </a:lnTo>
                    <a:lnTo>
                      <a:pt x="225" y="311"/>
                    </a:lnTo>
                    <a:lnTo>
                      <a:pt x="239" y="322"/>
                    </a:lnTo>
                    <a:lnTo>
                      <a:pt x="252" y="332"/>
                    </a:lnTo>
                    <a:lnTo>
                      <a:pt x="266" y="343"/>
                    </a:lnTo>
                    <a:lnTo>
                      <a:pt x="279" y="355"/>
                    </a:lnTo>
                    <a:lnTo>
                      <a:pt x="288" y="362"/>
                    </a:lnTo>
                    <a:lnTo>
                      <a:pt x="300" y="372"/>
                    </a:lnTo>
                    <a:lnTo>
                      <a:pt x="314" y="386"/>
                    </a:lnTo>
                    <a:lnTo>
                      <a:pt x="329" y="401"/>
                    </a:lnTo>
                    <a:lnTo>
                      <a:pt x="347" y="418"/>
                    </a:lnTo>
                    <a:lnTo>
                      <a:pt x="363" y="435"/>
                    </a:lnTo>
                    <a:lnTo>
                      <a:pt x="380" y="453"/>
                    </a:lnTo>
                    <a:lnTo>
                      <a:pt x="397" y="473"/>
                    </a:lnTo>
                    <a:lnTo>
                      <a:pt x="413" y="494"/>
                    </a:lnTo>
                    <a:lnTo>
                      <a:pt x="426" y="511"/>
                    </a:lnTo>
                    <a:lnTo>
                      <a:pt x="439" y="532"/>
                    </a:lnTo>
                    <a:lnTo>
                      <a:pt x="453" y="551"/>
                    </a:lnTo>
                    <a:lnTo>
                      <a:pt x="468" y="574"/>
                    </a:lnTo>
                    <a:lnTo>
                      <a:pt x="483" y="599"/>
                    </a:lnTo>
                    <a:lnTo>
                      <a:pt x="496" y="622"/>
                    </a:lnTo>
                    <a:lnTo>
                      <a:pt x="510" y="647"/>
                    </a:lnTo>
                    <a:lnTo>
                      <a:pt x="524" y="675"/>
                    </a:lnTo>
                    <a:lnTo>
                      <a:pt x="535" y="701"/>
                    </a:lnTo>
                    <a:lnTo>
                      <a:pt x="546" y="725"/>
                    </a:lnTo>
                    <a:lnTo>
                      <a:pt x="556" y="749"/>
                    </a:lnTo>
                    <a:lnTo>
                      <a:pt x="564" y="771"/>
                    </a:lnTo>
                    <a:lnTo>
                      <a:pt x="574" y="797"/>
                    </a:lnTo>
                    <a:lnTo>
                      <a:pt x="582" y="822"/>
                    </a:lnTo>
                    <a:lnTo>
                      <a:pt x="589" y="846"/>
                    </a:lnTo>
                    <a:lnTo>
                      <a:pt x="597" y="874"/>
                    </a:lnTo>
                    <a:lnTo>
                      <a:pt x="603" y="898"/>
                    </a:lnTo>
                    <a:lnTo>
                      <a:pt x="610" y="926"/>
                    </a:lnTo>
                    <a:lnTo>
                      <a:pt x="616" y="955"/>
                    </a:lnTo>
                    <a:lnTo>
                      <a:pt x="622" y="982"/>
                    </a:lnTo>
                    <a:lnTo>
                      <a:pt x="626" y="1012"/>
                    </a:lnTo>
                    <a:lnTo>
                      <a:pt x="630" y="1043"/>
                    </a:lnTo>
                    <a:lnTo>
                      <a:pt x="633" y="1070"/>
                    </a:lnTo>
                    <a:lnTo>
                      <a:pt x="635" y="1099"/>
                    </a:lnTo>
                    <a:lnTo>
                      <a:pt x="636" y="1132"/>
                    </a:lnTo>
                    <a:lnTo>
                      <a:pt x="636" y="1159"/>
                    </a:lnTo>
                    <a:lnTo>
                      <a:pt x="636" y="1192"/>
                    </a:lnTo>
                    <a:lnTo>
                      <a:pt x="574" y="1192"/>
                    </a:lnTo>
                    <a:lnTo>
                      <a:pt x="717" y="1426"/>
                    </a:lnTo>
                    <a:lnTo>
                      <a:pt x="873" y="1192"/>
                    </a:lnTo>
                    <a:lnTo>
                      <a:pt x="813" y="1192"/>
                    </a:lnTo>
                    <a:lnTo>
                      <a:pt x="813" y="1156"/>
                    </a:lnTo>
                    <a:lnTo>
                      <a:pt x="812" y="1123"/>
                    </a:lnTo>
                    <a:lnTo>
                      <a:pt x="810" y="1087"/>
                    </a:lnTo>
                    <a:lnTo>
                      <a:pt x="808" y="1056"/>
                    </a:lnTo>
                    <a:lnTo>
                      <a:pt x="806" y="1027"/>
                    </a:lnTo>
                    <a:lnTo>
                      <a:pt x="802" y="999"/>
                    </a:lnTo>
                    <a:lnTo>
                      <a:pt x="798" y="967"/>
                    </a:lnTo>
                    <a:lnTo>
                      <a:pt x="794" y="941"/>
                    </a:lnTo>
                    <a:lnTo>
                      <a:pt x="789" y="915"/>
                    </a:lnTo>
                    <a:lnTo>
                      <a:pt x="784" y="886"/>
                    </a:lnTo>
                    <a:lnTo>
                      <a:pt x="776" y="851"/>
                    </a:lnTo>
                    <a:lnTo>
                      <a:pt x="770" y="823"/>
                    </a:lnTo>
                    <a:lnTo>
                      <a:pt x="762" y="796"/>
                    </a:lnTo>
                    <a:lnTo>
                      <a:pt x="755" y="770"/>
                    </a:lnTo>
                    <a:lnTo>
                      <a:pt x="745" y="739"/>
                    </a:lnTo>
                    <a:lnTo>
                      <a:pt x="735" y="710"/>
                    </a:lnTo>
                    <a:lnTo>
                      <a:pt x="726" y="685"/>
                    </a:lnTo>
                    <a:lnTo>
                      <a:pt x="716" y="659"/>
                    </a:lnTo>
                    <a:lnTo>
                      <a:pt x="703" y="629"/>
                    </a:lnTo>
                    <a:lnTo>
                      <a:pt x="691" y="602"/>
                    </a:lnTo>
                    <a:lnTo>
                      <a:pt x="680" y="577"/>
                    </a:lnTo>
                    <a:lnTo>
                      <a:pt x="667" y="551"/>
                    </a:lnTo>
                    <a:lnTo>
                      <a:pt x="655" y="529"/>
                    </a:lnTo>
                    <a:lnTo>
                      <a:pt x="642" y="505"/>
                    </a:lnTo>
                    <a:lnTo>
                      <a:pt x="629" y="482"/>
                    </a:lnTo>
                    <a:lnTo>
                      <a:pt x="614" y="457"/>
                    </a:lnTo>
                    <a:lnTo>
                      <a:pt x="599" y="431"/>
                    </a:lnTo>
                    <a:lnTo>
                      <a:pt x="583" y="409"/>
                    </a:lnTo>
                    <a:lnTo>
                      <a:pt x="567" y="387"/>
                    </a:lnTo>
                    <a:lnTo>
                      <a:pt x="551" y="366"/>
                    </a:lnTo>
                    <a:lnTo>
                      <a:pt x="536" y="346"/>
                    </a:lnTo>
                    <a:lnTo>
                      <a:pt x="522" y="329"/>
                    </a:lnTo>
                    <a:lnTo>
                      <a:pt x="504" y="307"/>
                    </a:lnTo>
                    <a:lnTo>
                      <a:pt x="484" y="286"/>
                    </a:lnTo>
                    <a:lnTo>
                      <a:pt x="469" y="269"/>
                    </a:lnTo>
                    <a:lnTo>
                      <a:pt x="451" y="251"/>
                    </a:lnTo>
                    <a:lnTo>
                      <a:pt x="432" y="234"/>
                    </a:lnTo>
                    <a:lnTo>
                      <a:pt x="413" y="215"/>
                    </a:lnTo>
                    <a:lnTo>
                      <a:pt x="393" y="197"/>
                    </a:lnTo>
                    <a:lnTo>
                      <a:pt x="375" y="181"/>
                    </a:lnTo>
                    <a:lnTo>
                      <a:pt x="354" y="163"/>
                    </a:lnTo>
                    <a:lnTo>
                      <a:pt x="337" y="149"/>
                    </a:lnTo>
                    <a:lnTo>
                      <a:pt x="320" y="135"/>
                    </a:lnTo>
                    <a:lnTo>
                      <a:pt x="307" y="127"/>
                    </a:lnTo>
                    <a:lnTo>
                      <a:pt x="296" y="117"/>
                    </a:lnTo>
                    <a:lnTo>
                      <a:pt x="286" y="110"/>
                    </a:lnTo>
                    <a:lnTo>
                      <a:pt x="277" y="105"/>
                    </a:lnTo>
                    <a:lnTo>
                      <a:pt x="266" y="99"/>
                    </a:lnTo>
                    <a:lnTo>
                      <a:pt x="253" y="91"/>
                    </a:lnTo>
                    <a:lnTo>
                      <a:pt x="240" y="84"/>
                    </a:lnTo>
                    <a:lnTo>
                      <a:pt x="228" y="76"/>
                    </a:lnTo>
                    <a:lnTo>
                      <a:pt x="218" y="70"/>
                    </a:lnTo>
                    <a:lnTo>
                      <a:pt x="206" y="63"/>
                    </a:lnTo>
                    <a:lnTo>
                      <a:pt x="193" y="55"/>
                    </a:lnTo>
                    <a:lnTo>
                      <a:pt x="180" y="50"/>
                    </a:lnTo>
                    <a:lnTo>
                      <a:pt x="166" y="41"/>
                    </a:lnTo>
                    <a:lnTo>
                      <a:pt x="154" y="36"/>
                    </a:lnTo>
                    <a:lnTo>
                      <a:pt x="143" y="29"/>
                    </a:lnTo>
                    <a:lnTo>
                      <a:pt x="131" y="25"/>
                    </a:lnTo>
                    <a:lnTo>
                      <a:pt x="118" y="19"/>
                    </a:lnTo>
                    <a:lnTo>
                      <a:pt x="105" y="13"/>
                    </a:lnTo>
                    <a:lnTo>
                      <a:pt x="95" y="10"/>
                    </a:lnTo>
                    <a:lnTo>
                      <a:pt x="83" y="5"/>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6" name=""/>
              <p:cNvSpPr/>
              <p:nvPr/>
            </p:nvSpPr>
            <p:spPr>
              <a:xfrm rot="3589800">
                <a:off x="5047200" y="2099880"/>
                <a:ext cx="1545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vantGarde"/>
                  </a:rPr>
                  <a:t>Assessment</a:t>
                </a:r>
                <a:endParaRPr b="0" lang="en-US" sz="1800" spc="-1" strike="noStrike">
                  <a:solidFill>
                    <a:srgbClr val="f8f8f8"/>
                  </a:solidFill>
                  <a:latin typeface="Times New Roman"/>
                </a:endParaRPr>
              </a:p>
            </p:txBody>
          </p:sp>
        </p:grpSp>
        <p:grpSp>
          <p:nvGrpSpPr>
            <p:cNvPr id="167" name=""/>
            <p:cNvGrpSpPr/>
            <p:nvPr/>
          </p:nvGrpSpPr>
          <p:grpSpPr>
            <a:xfrm>
              <a:off x="2131920" y="3654360"/>
              <a:ext cx="1900440" cy="1565280"/>
              <a:chOff x="2131920" y="3654360"/>
              <a:chExt cx="1900440" cy="1565280"/>
            </a:xfrm>
          </p:grpSpPr>
          <p:sp>
            <p:nvSpPr>
              <p:cNvPr id="168" name=""/>
              <p:cNvSpPr/>
              <p:nvPr/>
            </p:nvSpPr>
            <p:spPr>
              <a:xfrm>
                <a:off x="2131920" y="3654360"/>
                <a:ext cx="1900440" cy="1565280"/>
              </a:xfrm>
              <a:custGeom>
                <a:avLst/>
                <a:gdLst/>
                <a:ahLst/>
                <a:rect l="l" t="t" r="r" b="b"/>
                <a:pathLst>
                  <a:path w="1197" h="1081">
                    <a:moveTo>
                      <a:pt x="1177" y="1080"/>
                    </a:moveTo>
                    <a:lnTo>
                      <a:pt x="1196" y="1078"/>
                    </a:lnTo>
                    <a:lnTo>
                      <a:pt x="1185" y="878"/>
                    </a:lnTo>
                    <a:lnTo>
                      <a:pt x="1166" y="877"/>
                    </a:lnTo>
                    <a:lnTo>
                      <a:pt x="1150" y="877"/>
                    </a:lnTo>
                    <a:lnTo>
                      <a:pt x="1135" y="877"/>
                    </a:lnTo>
                    <a:lnTo>
                      <a:pt x="1115" y="877"/>
                    </a:lnTo>
                    <a:lnTo>
                      <a:pt x="1097" y="876"/>
                    </a:lnTo>
                    <a:lnTo>
                      <a:pt x="1079" y="875"/>
                    </a:lnTo>
                    <a:lnTo>
                      <a:pt x="1065" y="874"/>
                    </a:lnTo>
                    <a:lnTo>
                      <a:pt x="1046" y="871"/>
                    </a:lnTo>
                    <a:lnTo>
                      <a:pt x="1030" y="870"/>
                    </a:lnTo>
                    <a:lnTo>
                      <a:pt x="1011" y="867"/>
                    </a:lnTo>
                    <a:lnTo>
                      <a:pt x="994" y="865"/>
                    </a:lnTo>
                    <a:lnTo>
                      <a:pt x="975" y="860"/>
                    </a:lnTo>
                    <a:lnTo>
                      <a:pt x="959" y="856"/>
                    </a:lnTo>
                    <a:lnTo>
                      <a:pt x="944" y="853"/>
                    </a:lnTo>
                    <a:lnTo>
                      <a:pt x="931" y="849"/>
                    </a:lnTo>
                    <a:lnTo>
                      <a:pt x="914" y="845"/>
                    </a:lnTo>
                    <a:lnTo>
                      <a:pt x="898" y="840"/>
                    </a:lnTo>
                    <a:lnTo>
                      <a:pt x="881" y="835"/>
                    </a:lnTo>
                    <a:lnTo>
                      <a:pt x="865" y="829"/>
                    </a:lnTo>
                    <a:lnTo>
                      <a:pt x="854" y="826"/>
                    </a:lnTo>
                    <a:lnTo>
                      <a:pt x="839" y="821"/>
                    </a:lnTo>
                    <a:lnTo>
                      <a:pt x="821" y="813"/>
                    </a:lnTo>
                    <a:lnTo>
                      <a:pt x="801" y="805"/>
                    </a:lnTo>
                    <a:lnTo>
                      <a:pt x="778" y="796"/>
                    </a:lnTo>
                    <a:lnTo>
                      <a:pt x="757" y="786"/>
                    </a:lnTo>
                    <a:lnTo>
                      <a:pt x="734" y="776"/>
                    </a:lnTo>
                    <a:lnTo>
                      <a:pt x="711" y="764"/>
                    </a:lnTo>
                    <a:lnTo>
                      <a:pt x="688" y="750"/>
                    </a:lnTo>
                    <a:lnTo>
                      <a:pt x="670" y="739"/>
                    </a:lnTo>
                    <a:lnTo>
                      <a:pt x="650" y="725"/>
                    </a:lnTo>
                    <a:lnTo>
                      <a:pt x="630" y="712"/>
                    </a:lnTo>
                    <a:lnTo>
                      <a:pt x="607" y="696"/>
                    </a:lnTo>
                    <a:lnTo>
                      <a:pt x="584" y="678"/>
                    </a:lnTo>
                    <a:lnTo>
                      <a:pt x="563" y="662"/>
                    </a:lnTo>
                    <a:lnTo>
                      <a:pt x="541" y="644"/>
                    </a:lnTo>
                    <a:lnTo>
                      <a:pt x="518" y="624"/>
                    </a:lnTo>
                    <a:lnTo>
                      <a:pt x="497" y="604"/>
                    </a:lnTo>
                    <a:lnTo>
                      <a:pt x="478" y="586"/>
                    </a:lnTo>
                    <a:lnTo>
                      <a:pt x="460" y="567"/>
                    </a:lnTo>
                    <a:lnTo>
                      <a:pt x="444" y="550"/>
                    </a:lnTo>
                    <a:lnTo>
                      <a:pt x="425" y="529"/>
                    </a:lnTo>
                    <a:lnTo>
                      <a:pt x="409" y="509"/>
                    </a:lnTo>
                    <a:lnTo>
                      <a:pt x="393" y="489"/>
                    </a:lnTo>
                    <a:lnTo>
                      <a:pt x="375" y="467"/>
                    </a:lnTo>
                    <a:lnTo>
                      <a:pt x="361" y="447"/>
                    </a:lnTo>
                    <a:lnTo>
                      <a:pt x="344" y="423"/>
                    </a:lnTo>
                    <a:lnTo>
                      <a:pt x="327" y="399"/>
                    </a:lnTo>
                    <a:lnTo>
                      <a:pt x="312" y="376"/>
                    </a:lnTo>
                    <a:lnTo>
                      <a:pt x="297" y="350"/>
                    </a:lnTo>
                    <a:lnTo>
                      <a:pt x="281" y="322"/>
                    </a:lnTo>
                    <a:lnTo>
                      <a:pt x="268" y="298"/>
                    </a:lnTo>
                    <a:lnTo>
                      <a:pt x="256" y="272"/>
                    </a:lnTo>
                    <a:lnTo>
                      <a:pt x="242" y="242"/>
                    </a:lnTo>
                    <a:lnTo>
                      <a:pt x="232" y="217"/>
                    </a:lnTo>
                    <a:lnTo>
                      <a:pt x="220" y="186"/>
                    </a:lnTo>
                    <a:lnTo>
                      <a:pt x="277" y="163"/>
                    </a:lnTo>
                    <a:lnTo>
                      <a:pt x="57" y="0"/>
                    </a:lnTo>
                    <a:lnTo>
                      <a:pt x="0" y="275"/>
                    </a:lnTo>
                    <a:lnTo>
                      <a:pt x="56" y="252"/>
                    </a:lnTo>
                    <a:lnTo>
                      <a:pt x="69" y="286"/>
                    </a:lnTo>
                    <a:lnTo>
                      <a:pt x="83" y="317"/>
                    </a:lnTo>
                    <a:lnTo>
                      <a:pt x="98" y="349"/>
                    </a:lnTo>
                    <a:lnTo>
                      <a:pt x="111" y="376"/>
                    </a:lnTo>
                    <a:lnTo>
                      <a:pt x="124" y="403"/>
                    </a:lnTo>
                    <a:lnTo>
                      <a:pt x="138" y="427"/>
                    </a:lnTo>
                    <a:lnTo>
                      <a:pt x="154" y="455"/>
                    </a:lnTo>
                    <a:lnTo>
                      <a:pt x="167" y="478"/>
                    </a:lnTo>
                    <a:lnTo>
                      <a:pt x="182" y="501"/>
                    </a:lnTo>
                    <a:lnTo>
                      <a:pt x="197" y="525"/>
                    </a:lnTo>
                    <a:lnTo>
                      <a:pt x="218" y="555"/>
                    </a:lnTo>
                    <a:lnTo>
                      <a:pt x="234" y="578"/>
                    </a:lnTo>
                    <a:lnTo>
                      <a:pt x="251" y="601"/>
                    </a:lnTo>
                    <a:lnTo>
                      <a:pt x="268" y="623"/>
                    </a:lnTo>
                    <a:lnTo>
                      <a:pt x="289" y="647"/>
                    </a:lnTo>
                    <a:lnTo>
                      <a:pt x="309" y="670"/>
                    </a:lnTo>
                    <a:lnTo>
                      <a:pt x="326" y="690"/>
                    </a:lnTo>
                    <a:lnTo>
                      <a:pt x="346" y="711"/>
                    </a:lnTo>
                    <a:lnTo>
                      <a:pt x="369" y="733"/>
                    </a:lnTo>
                    <a:lnTo>
                      <a:pt x="390" y="754"/>
                    </a:lnTo>
                    <a:lnTo>
                      <a:pt x="410" y="773"/>
                    </a:lnTo>
                    <a:lnTo>
                      <a:pt x="431" y="792"/>
                    </a:lnTo>
                    <a:lnTo>
                      <a:pt x="451" y="809"/>
                    </a:lnTo>
                    <a:lnTo>
                      <a:pt x="472" y="826"/>
                    </a:lnTo>
                    <a:lnTo>
                      <a:pt x="493" y="842"/>
                    </a:lnTo>
                    <a:lnTo>
                      <a:pt x="516" y="860"/>
                    </a:lnTo>
                    <a:lnTo>
                      <a:pt x="539" y="878"/>
                    </a:lnTo>
                    <a:lnTo>
                      <a:pt x="563" y="893"/>
                    </a:lnTo>
                    <a:lnTo>
                      <a:pt x="586" y="907"/>
                    </a:lnTo>
                    <a:lnTo>
                      <a:pt x="608" y="920"/>
                    </a:lnTo>
                    <a:lnTo>
                      <a:pt x="630" y="934"/>
                    </a:lnTo>
                    <a:lnTo>
                      <a:pt x="649" y="944"/>
                    </a:lnTo>
                    <a:lnTo>
                      <a:pt x="674" y="958"/>
                    </a:lnTo>
                    <a:lnTo>
                      <a:pt x="700" y="969"/>
                    </a:lnTo>
                    <a:lnTo>
                      <a:pt x="720" y="979"/>
                    </a:lnTo>
                    <a:lnTo>
                      <a:pt x="744" y="990"/>
                    </a:lnTo>
                    <a:lnTo>
                      <a:pt x="768" y="998"/>
                    </a:lnTo>
                    <a:lnTo>
                      <a:pt x="793" y="1008"/>
                    </a:lnTo>
                    <a:lnTo>
                      <a:pt x="818" y="1018"/>
                    </a:lnTo>
                    <a:lnTo>
                      <a:pt x="841" y="1026"/>
                    </a:lnTo>
                    <a:lnTo>
                      <a:pt x="867" y="1035"/>
                    </a:lnTo>
                    <a:lnTo>
                      <a:pt x="888" y="1041"/>
                    </a:lnTo>
                    <a:lnTo>
                      <a:pt x="909" y="1048"/>
                    </a:lnTo>
                    <a:lnTo>
                      <a:pt x="924" y="1050"/>
                    </a:lnTo>
                    <a:lnTo>
                      <a:pt x="938" y="1056"/>
                    </a:lnTo>
                    <a:lnTo>
                      <a:pt x="950" y="1058"/>
                    </a:lnTo>
                    <a:lnTo>
                      <a:pt x="960" y="1060"/>
                    </a:lnTo>
                    <a:lnTo>
                      <a:pt x="972" y="1061"/>
                    </a:lnTo>
                    <a:lnTo>
                      <a:pt x="988" y="1064"/>
                    </a:lnTo>
                    <a:lnTo>
                      <a:pt x="1002" y="1065"/>
                    </a:lnTo>
                    <a:lnTo>
                      <a:pt x="1016" y="1068"/>
                    </a:lnTo>
                    <a:lnTo>
                      <a:pt x="1028" y="1070"/>
                    </a:lnTo>
                    <a:lnTo>
                      <a:pt x="1041" y="1072"/>
                    </a:lnTo>
                    <a:lnTo>
                      <a:pt x="1056" y="1074"/>
                    </a:lnTo>
                    <a:lnTo>
                      <a:pt x="1071" y="1075"/>
                    </a:lnTo>
                    <a:lnTo>
                      <a:pt x="1087" y="1078"/>
                    </a:lnTo>
                    <a:lnTo>
                      <a:pt x="1100" y="1078"/>
                    </a:lnTo>
                    <a:lnTo>
                      <a:pt x="1113" y="1080"/>
                    </a:lnTo>
                    <a:lnTo>
                      <a:pt x="1125" y="1080"/>
                    </a:lnTo>
                    <a:lnTo>
                      <a:pt x="1140" y="1080"/>
                    </a:lnTo>
                    <a:lnTo>
                      <a:pt x="1154" y="1080"/>
                    </a:lnTo>
                    <a:lnTo>
                      <a:pt x="1164" y="1080"/>
                    </a:lnTo>
                    <a:lnTo>
                      <a:pt x="1177" y="1080"/>
                    </a:lnTo>
                  </a:path>
                </a:pathLst>
              </a:cu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9" name=""/>
              <p:cNvSpPr/>
              <p:nvPr/>
            </p:nvSpPr>
            <p:spPr>
              <a:xfrm rot="2058000">
                <a:off x="2517840" y="4559400"/>
                <a:ext cx="92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vantGarde"/>
                  </a:rPr>
                  <a:t>Action</a:t>
                </a:r>
                <a:endParaRPr b="0" lang="en-US" sz="1800" spc="-1" strike="noStrike">
                  <a:solidFill>
                    <a:srgbClr val="f8f8f8"/>
                  </a:solidFill>
                  <a:latin typeface="Times New Roman"/>
                </a:endParaRPr>
              </a:p>
            </p:txBody>
          </p:sp>
        </p:grpSp>
        <p:grpSp>
          <p:nvGrpSpPr>
            <p:cNvPr id="170" name=""/>
            <p:cNvGrpSpPr/>
            <p:nvPr/>
          </p:nvGrpSpPr>
          <p:grpSpPr>
            <a:xfrm>
              <a:off x="4317840" y="3565440"/>
              <a:ext cx="1863720" cy="1633680"/>
              <a:chOff x="4317840" y="3565440"/>
              <a:chExt cx="1863720" cy="1633680"/>
            </a:xfrm>
          </p:grpSpPr>
          <p:sp>
            <p:nvSpPr>
              <p:cNvPr id="171" name=""/>
              <p:cNvSpPr/>
              <p:nvPr/>
            </p:nvSpPr>
            <p:spPr>
              <a:xfrm>
                <a:off x="4317840" y="3565440"/>
                <a:ext cx="1863720" cy="1633680"/>
              </a:xfrm>
              <a:custGeom>
                <a:avLst/>
                <a:gdLst/>
                <a:ahLst/>
                <a:rect l="l" t="t" r="r" b="b"/>
                <a:pathLst>
                  <a:path w="1174" h="1129">
                    <a:moveTo>
                      <a:pt x="1173" y="26"/>
                    </a:moveTo>
                    <a:lnTo>
                      <a:pt x="1173" y="7"/>
                    </a:lnTo>
                    <a:lnTo>
                      <a:pt x="973" y="0"/>
                    </a:lnTo>
                    <a:lnTo>
                      <a:pt x="971" y="20"/>
                    </a:lnTo>
                    <a:lnTo>
                      <a:pt x="969" y="35"/>
                    </a:lnTo>
                    <a:lnTo>
                      <a:pt x="968" y="50"/>
                    </a:lnTo>
                    <a:lnTo>
                      <a:pt x="966" y="70"/>
                    </a:lnTo>
                    <a:lnTo>
                      <a:pt x="964" y="88"/>
                    </a:lnTo>
                    <a:lnTo>
                      <a:pt x="961" y="105"/>
                    </a:lnTo>
                    <a:lnTo>
                      <a:pt x="958" y="120"/>
                    </a:lnTo>
                    <a:lnTo>
                      <a:pt x="954" y="139"/>
                    </a:lnTo>
                    <a:lnTo>
                      <a:pt x="952" y="154"/>
                    </a:lnTo>
                    <a:lnTo>
                      <a:pt x="947" y="173"/>
                    </a:lnTo>
                    <a:lnTo>
                      <a:pt x="944" y="190"/>
                    </a:lnTo>
                    <a:lnTo>
                      <a:pt x="937" y="208"/>
                    </a:lnTo>
                    <a:lnTo>
                      <a:pt x="932" y="224"/>
                    </a:lnTo>
                    <a:lnTo>
                      <a:pt x="927" y="238"/>
                    </a:lnTo>
                    <a:lnTo>
                      <a:pt x="922" y="251"/>
                    </a:lnTo>
                    <a:lnTo>
                      <a:pt x="916" y="267"/>
                    </a:lnTo>
                    <a:lnTo>
                      <a:pt x="910" y="283"/>
                    </a:lnTo>
                    <a:lnTo>
                      <a:pt x="903" y="300"/>
                    </a:lnTo>
                    <a:lnTo>
                      <a:pt x="896" y="315"/>
                    </a:lnTo>
                    <a:lnTo>
                      <a:pt x="892" y="326"/>
                    </a:lnTo>
                    <a:lnTo>
                      <a:pt x="886" y="340"/>
                    </a:lnTo>
                    <a:lnTo>
                      <a:pt x="877" y="358"/>
                    </a:lnTo>
                    <a:lnTo>
                      <a:pt x="867" y="376"/>
                    </a:lnTo>
                    <a:lnTo>
                      <a:pt x="856" y="399"/>
                    </a:lnTo>
                    <a:lnTo>
                      <a:pt x="844" y="419"/>
                    </a:lnTo>
                    <a:lnTo>
                      <a:pt x="832" y="441"/>
                    </a:lnTo>
                    <a:lnTo>
                      <a:pt x="818" y="463"/>
                    </a:lnTo>
                    <a:lnTo>
                      <a:pt x="802" y="484"/>
                    </a:lnTo>
                    <a:lnTo>
                      <a:pt x="789" y="502"/>
                    </a:lnTo>
                    <a:lnTo>
                      <a:pt x="774" y="520"/>
                    </a:lnTo>
                    <a:lnTo>
                      <a:pt x="759" y="539"/>
                    </a:lnTo>
                    <a:lnTo>
                      <a:pt x="742" y="560"/>
                    </a:lnTo>
                    <a:lnTo>
                      <a:pt x="722" y="582"/>
                    </a:lnTo>
                    <a:lnTo>
                      <a:pt x="704" y="601"/>
                    </a:lnTo>
                    <a:lnTo>
                      <a:pt x="684" y="622"/>
                    </a:lnTo>
                    <a:lnTo>
                      <a:pt x="662" y="643"/>
                    </a:lnTo>
                    <a:lnTo>
                      <a:pt x="640" y="661"/>
                    </a:lnTo>
                    <a:lnTo>
                      <a:pt x="620" y="679"/>
                    </a:lnTo>
                    <a:lnTo>
                      <a:pt x="600" y="695"/>
                    </a:lnTo>
                    <a:lnTo>
                      <a:pt x="582" y="709"/>
                    </a:lnTo>
                    <a:lnTo>
                      <a:pt x="559" y="727"/>
                    </a:lnTo>
                    <a:lnTo>
                      <a:pt x="538" y="742"/>
                    </a:lnTo>
                    <a:lnTo>
                      <a:pt x="517" y="755"/>
                    </a:lnTo>
                    <a:lnTo>
                      <a:pt x="493" y="771"/>
                    </a:lnTo>
                    <a:lnTo>
                      <a:pt x="472" y="784"/>
                    </a:lnTo>
                    <a:lnTo>
                      <a:pt x="447" y="799"/>
                    </a:lnTo>
                    <a:lnTo>
                      <a:pt x="421" y="813"/>
                    </a:lnTo>
                    <a:lnTo>
                      <a:pt x="397" y="827"/>
                    </a:lnTo>
                    <a:lnTo>
                      <a:pt x="369" y="839"/>
                    </a:lnTo>
                    <a:lnTo>
                      <a:pt x="341" y="852"/>
                    </a:lnTo>
                    <a:lnTo>
                      <a:pt x="316" y="863"/>
                    </a:lnTo>
                    <a:lnTo>
                      <a:pt x="289" y="873"/>
                    </a:lnTo>
                    <a:lnTo>
                      <a:pt x="257" y="884"/>
                    </a:lnTo>
                    <a:lnTo>
                      <a:pt x="231" y="892"/>
                    </a:lnTo>
                    <a:lnTo>
                      <a:pt x="200" y="902"/>
                    </a:lnTo>
                    <a:lnTo>
                      <a:pt x="181" y="842"/>
                    </a:lnTo>
                    <a:lnTo>
                      <a:pt x="0" y="1047"/>
                    </a:lnTo>
                    <a:lnTo>
                      <a:pt x="269" y="1128"/>
                    </a:lnTo>
                    <a:lnTo>
                      <a:pt x="251" y="1071"/>
                    </a:lnTo>
                    <a:lnTo>
                      <a:pt x="286" y="1060"/>
                    </a:lnTo>
                    <a:lnTo>
                      <a:pt x="318" y="1049"/>
                    </a:lnTo>
                    <a:lnTo>
                      <a:pt x="351" y="1037"/>
                    </a:lnTo>
                    <a:lnTo>
                      <a:pt x="380" y="1026"/>
                    </a:lnTo>
                    <a:lnTo>
                      <a:pt x="408" y="1016"/>
                    </a:lnTo>
                    <a:lnTo>
                      <a:pt x="433" y="1004"/>
                    </a:lnTo>
                    <a:lnTo>
                      <a:pt x="462" y="991"/>
                    </a:lnTo>
                    <a:lnTo>
                      <a:pt x="486" y="979"/>
                    </a:lnTo>
                    <a:lnTo>
                      <a:pt x="510" y="967"/>
                    </a:lnTo>
                    <a:lnTo>
                      <a:pt x="536" y="954"/>
                    </a:lnTo>
                    <a:lnTo>
                      <a:pt x="567" y="936"/>
                    </a:lnTo>
                    <a:lnTo>
                      <a:pt x="592" y="922"/>
                    </a:lnTo>
                    <a:lnTo>
                      <a:pt x="616" y="906"/>
                    </a:lnTo>
                    <a:lnTo>
                      <a:pt x="639" y="892"/>
                    </a:lnTo>
                    <a:lnTo>
                      <a:pt x="665" y="873"/>
                    </a:lnTo>
                    <a:lnTo>
                      <a:pt x="690" y="855"/>
                    </a:lnTo>
                    <a:lnTo>
                      <a:pt x="711" y="839"/>
                    </a:lnTo>
                    <a:lnTo>
                      <a:pt x="733" y="822"/>
                    </a:lnTo>
                    <a:lnTo>
                      <a:pt x="758" y="801"/>
                    </a:lnTo>
                    <a:lnTo>
                      <a:pt x="781" y="781"/>
                    </a:lnTo>
                    <a:lnTo>
                      <a:pt x="801" y="764"/>
                    </a:lnTo>
                    <a:lnTo>
                      <a:pt x="822" y="744"/>
                    </a:lnTo>
                    <a:lnTo>
                      <a:pt x="840" y="726"/>
                    </a:lnTo>
                    <a:lnTo>
                      <a:pt x="859" y="706"/>
                    </a:lnTo>
                    <a:lnTo>
                      <a:pt x="877" y="687"/>
                    </a:lnTo>
                    <a:lnTo>
                      <a:pt x="897" y="665"/>
                    </a:lnTo>
                    <a:lnTo>
                      <a:pt x="916" y="644"/>
                    </a:lnTo>
                    <a:lnTo>
                      <a:pt x="934" y="622"/>
                    </a:lnTo>
                    <a:lnTo>
                      <a:pt x="950" y="600"/>
                    </a:lnTo>
                    <a:lnTo>
                      <a:pt x="965" y="579"/>
                    </a:lnTo>
                    <a:lnTo>
                      <a:pt x="980" y="558"/>
                    </a:lnTo>
                    <a:lnTo>
                      <a:pt x="992" y="540"/>
                    </a:lnTo>
                    <a:lnTo>
                      <a:pt x="1008" y="516"/>
                    </a:lnTo>
                    <a:lnTo>
                      <a:pt x="1022" y="491"/>
                    </a:lnTo>
                    <a:lnTo>
                      <a:pt x="1034" y="472"/>
                    </a:lnTo>
                    <a:lnTo>
                      <a:pt x="1046" y="449"/>
                    </a:lnTo>
                    <a:lnTo>
                      <a:pt x="1057" y="426"/>
                    </a:lnTo>
                    <a:lnTo>
                      <a:pt x="1069" y="403"/>
                    </a:lnTo>
                    <a:lnTo>
                      <a:pt x="1080" y="378"/>
                    </a:lnTo>
                    <a:lnTo>
                      <a:pt x="1090" y="356"/>
                    </a:lnTo>
                    <a:lnTo>
                      <a:pt x="1102" y="331"/>
                    </a:lnTo>
                    <a:lnTo>
                      <a:pt x="1110" y="311"/>
                    </a:lnTo>
                    <a:lnTo>
                      <a:pt x="1118" y="290"/>
                    </a:lnTo>
                    <a:lnTo>
                      <a:pt x="1122" y="276"/>
                    </a:lnTo>
                    <a:lnTo>
                      <a:pt x="1128" y="262"/>
                    </a:lnTo>
                    <a:lnTo>
                      <a:pt x="1132" y="251"/>
                    </a:lnTo>
                    <a:lnTo>
                      <a:pt x="1135" y="240"/>
                    </a:lnTo>
                    <a:lnTo>
                      <a:pt x="1137" y="228"/>
                    </a:lnTo>
                    <a:lnTo>
                      <a:pt x="1141" y="213"/>
                    </a:lnTo>
                    <a:lnTo>
                      <a:pt x="1144" y="199"/>
                    </a:lnTo>
                    <a:lnTo>
                      <a:pt x="1148" y="185"/>
                    </a:lnTo>
                    <a:lnTo>
                      <a:pt x="1150" y="174"/>
                    </a:lnTo>
                    <a:lnTo>
                      <a:pt x="1153" y="160"/>
                    </a:lnTo>
                    <a:lnTo>
                      <a:pt x="1157" y="146"/>
                    </a:lnTo>
                    <a:lnTo>
                      <a:pt x="1159" y="131"/>
                    </a:lnTo>
                    <a:lnTo>
                      <a:pt x="1164" y="115"/>
                    </a:lnTo>
                    <a:lnTo>
                      <a:pt x="1164" y="103"/>
                    </a:lnTo>
                    <a:lnTo>
                      <a:pt x="1168" y="90"/>
                    </a:lnTo>
                    <a:lnTo>
                      <a:pt x="1169" y="77"/>
                    </a:lnTo>
                    <a:lnTo>
                      <a:pt x="1170" y="63"/>
                    </a:lnTo>
                    <a:lnTo>
                      <a:pt x="1172" y="49"/>
                    </a:lnTo>
                    <a:lnTo>
                      <a:pt x="1172" y="38"/>
                    </a:lnTo>
                    <a:lnTo>
                      <a:pt x="1173" y="26"/>
                    </a:lnTo>
                  </a:path>
                </a:pathLst>
              </a:custGeom>
              <a:solidFill>
                <a:srgbClr val="99ff66"/>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2" name=""/>
              <p:cNvSpPr/>
              <p:nvPr/>
            </p:nvSpPr>
            <p:spPr>
              <a:xfrm rot="19159200">
                <a:off x="4920840" y="4317480"/>
                <a:ext cx="1131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vantGarde"/>
                  </a:rPr>
                  <a:t>Analysis</a:t>
                </a:r>
                <a:endParaRPr b="0" lang="en-US" sz="1800" spc="-1" strike="noStrike">
                  <a:solidFill>
                    <a:srgbClr val="f8f8f8"/>
                  </a:solidFill>
                  <a:latin typeface="Times New Roman"/>
                </a:endParaRPr>
              </a:p>
            </p:txBody>
          </p:sp>
        </p:grpSp>
      </p:grpSp>
      <p:grpSp>
        <p:nvGrpSpPr>
          <p:cNvPr id="173" name=""/>
          <p:cNvGrpSpPr/>
          <p:nvPr/>
        </p:nvGrpSpPr>
        <p:grpSpPr>
          <a:xfrm>
            <a:off x="1763280" y="333360"/>
            <a:ext cx="5415480" cy="5533920"/>
            <a:chOff x="1763280" y="333360"/>
            <a:chExt cx="5415480" cy="5533920"/>
          </a:xfrm>
        </p:grpSpPr>
        <p:grpSp>
          <p:nvGrpSpPr>
            <p:cNvPr id="174" name=""/>
            <p:cNvGrpSpPr/>
            <p:nvPr/>
          </p:nvGrpSpPr>
          <p:grpSpPr>
            <a:xfrm>
              <a:off x="3114720" y="333360"/>
              <a:ext cx="2714760" cy="639720"/>
              <a:chOff x="3114720" y="333360"/>
              <a:chExt cx="2714760" cy="639720"/>
            </a:xfrm>
          </p:grpSpPr>
          <p:sp>
            <p:nvSpPr>
              <p:cNvPr id="175" name=""/>
              <p:cNvSpPr/>
              <p:nvPr/>
            </p:nvSpPr>
            <p:spPr>
              <a:xfrm>
                <a:off x="3114720" y="380880"/>
                <a:ext cx="2714760" cy="592200"/>
              </a:xfrm>
              <a:custGeom>
                <a:avLst/>
                <a:gdLst/>
                <a:ahLst/>
                <a:rect l="l" t="t" r="r" b="b"/>
                <a:pathLst>
                  <a:path w="1710" h="409">
                    <a:moveTo>
                      <a:pt x="0" y="267"/>
                    </a:moveTo>
                    <a:lnTo>
                      <a:pt x="145" y="408"/>
                    </a:lnTo>
                    <a:lnTo>
                      <a:pt x="159" y="398"/>
                    </a:lnTo>
                    <a:lnTo>
                      <a:pt x="173" y="389"/>
                    </a:lnTo>
                    <a:lnTo>
                      <a:pt x="190" y="376"/>
                    </a:lnTo>
                    <a:lnTo>
                      <a:pt x="207" y="366"/>
                    </a:lnTo>
                    <a:lnTo>
                      <a:pt x="223" y="355"/>
                    </a:lnTo>
                    <a:lnTo>
                      <a:pt x="238" y="347"/>
                    </a:lnTo>
                    <a:lnTo>
                      <a:pt x="255" y="335"/>
                    </a:lnTo>
                    <a:lnTo>
                      <a:pt x="272" y="326"/>
                    </a:lnTo>
                    <a:lnTo>
                      <a:pt x="289" y="316"/>
                    </a:lnTo>
                    <a:lnTo>
                      <a:pt x="307" y="307"/>
                    </a:lnTo>
                    <a:lnTo>
                      <a:pt x="326" y="300"/>
                    </a:lnTo>
                    <a:lnTo>
                      <a:pt x="343" y="291"/>
                    </a:lnTo>
                    <a:lnTo>
                      <a:pt x="358" y="285"/>
                    </a:lnTo>
                    <a:lnTo>
                      <a:pt x="372" y="278"/>
                    </a:lnTo>
                    <a:lnTo>
                      <a:pt x="390" y="271"/>
                    </a:lnTo>
                    <a:lnTo>
                      <a:pt x="408" y="265"/>
                    </a:lnTo>
                    <a:lnTo>
                      <a:pt x="426" y="257"/>
                    </a:lnTo>
                    <a:lnTo>
                      <a:pt x="445" y="252"/>
                    </a:lnTo>
                    <a:lnTo>
                      <a:pt x="457" y="246"/>
                    </a:lnTo>
                    <a:lnTo>
                      <a:pt x="473" y="240"/>
                    </a:lnTo>
                    <a:lnTo>
                      <a:pt x="494" y="234"/>
                    </a:lnTo>
                    <a:lnTo>
                      <a:pt x="517" y="228"/>
                    </a:lnTo>
                    <a:lnTo>
                      <a:pt x="543" y="220"/>
                    </a:lnTo>
                    <a:lnTo>
                      <a:pt x="570" y="214"/>
                    </a:lnTo>
                    <a:lnTo>
                      <a:pt x="597" y="207"/>
                    </a:lnTo>
                    <a:lnTo>
                      <a:pt x="624" y="201"/>
                    </a:lnTo>
                    <a:lnTo>
                      <a:pt x="654" y="197"/>
                    </a:lnTo>
                    <a:lnTo>
                      <a:pt x="679" y="193"/>
                    </a:lnTo>
                    <a:lnTo>
                      <a:pt x="702" y="190"/>
                    </a:lnTo>
                    <a:lnTo>
                      <a:pt x="731" y="187"/>
                    </a:lnTo>
                    <a:lnTo>
                      <a:pt x="762" y="184"/>
                    </a:lnTo>
                    <a:lnTo>
                      <a:pt x="794" y="181"/>
                    </a:lnTo>
                    <a:lnTo>
                      <a:pt x="823" y="180"/>
                    </a:lnTo>
                    <a:lnTo>
                      <a:pt x="856" y="179"/>
                    </a:lnTo>
                    <a:lnTo>
                      <a:pt x="889" y="179"/>
                    </a:lnTo>
                    <a:lnTo>
                      <a:pt x="920" y="181"/>
                    </a:lnTo>
                    <a:lnTo>
                      <a:pt x="949" y="183"/>
                    </a:lnTo>
                    <a:lnTo>
                      <a:pt x="977" y="185"/>
                    </a:lnTo>
                    <a:lnTo>
                      <a:pt x="1003" y="187"/>
                    </a:lnTo>
                    <a:lnTo>
                      <a:pt x="1033" y="191"/>
                    </a:lnTo>
                    <a:lnTo>
                      <a:pt x="1061" y="194"/>
                    </a:lnTo>
                    <a:lnTo>
                      <a:pt x="1089" y="199"/>
                    </a:lnTo>
                    <a:lnTo>
                      <a:pt x="1119" y="204"/>
                    </a:lnTo>
                    <a:lnTo>
                      <a:pt x="1145" y="209"/>
                    </a:lnTo>
                    <a:lnTo>
                      <a:pt x="1175" y="216"/>
                    </a:lnTo>
                    <a:lnTo>
                      <a:pt x="1207" y="222"/>
                    </a:lnTo>
                    <a:lnTo>
                      <a:pt x="1237" y="231"/>
                    </a:lnTo>
                    <a:lnTo>
                      <a:pt x="1266" y="240"/>
                    </a:lnTo>
                    <a:lnTo>
                      <a:pt x="1299" y="249"/>
                    </a:lnTo>
                    <a:lnTo>
                      <a:pt x="1325" y="260"/>
                    </a:lnTo>
                    <a:lnTo>
                      <a:pt x="1354" y="270"/>
                    </a:lnTo>
                    <a:lnTo>
                      <a:pt x="1386" y="284"/>
                    </a:lnTo>
                    <a:lnTo>
                      <a:pt x="1412" y="296"/>
                    </a:lnTo>
                    <a:lnTo>
                      <a:pt x="1442" y="311"/>
                    </a:lnTo>
                    <a:lnTo>
                      <a:pt x="1407" y="365"/>
                    </a:lnTo>
                    <a:lnTo>
                      <a:pt x="1709" y="342"/>
                    </a:lnTo>
                    <a:lnTo>
                      <a:pt x="1578" y="106"/>
                    </a:lnTo>
                    <a:lnTo>
                      <a:pt x="1546" y="156"/>
                    </a:lnTo>
                    <a:lnTo>
                      <a:pt x="1510" y="140"/>
                    </a:lnTo>
                    <a:lnTo>
                      <a:pt x="1477" y="127"/>
                    </a:lnTo>
                    <a:lnTo>
                      <a:pt x="1444" y="114"/>
                    </a:lnTo>
                    <a:lnTo>
                      <a:pt x="1414" y="102"/>
                    </a:lnTo>
                    <a:lnTo>
                      <a:pt x="1384" y="91"/>
                    </a:lnTo>
                    <a:lnTo>
                      <a:pt x="1356" y="81"/>
                    </a:lnTo>
                    <a:lnTo>
                      <a:pt x="1323" y="72"/>
                    </a:lnTo>
                    <a:lnTo>
                      <a:pt x="1295" y="63"/>
                    </a:lnTo>
                    <a:lnTo>
                      <a:pt x="1268" y="55"/>
                    </a:lnTo>
                    <a:lnTo>
                      <a:pt x="1238" y="47"/>
                    </a:lnTo>
                    <a:lnTo>
                      <a:pt x="1200" y="38"/>
                    </a:lnTo>
                    <a:lnTo>
                      <a:pt x="1170" y="32"/>
                    </a:lnTo>
                    <a:lnTo>
                      <a:pt x="1140" y="26"/>
                    </a:lnTo>
                    <a:lnTo>
                      <a:pt x="1112" y="22"/>
                    </a:lnTo>
                    <a:lnTo>
                      <a:pt x="1077" y="17"/>
                    </a:lnTo>
                    <a:lnTo>
                      <a:pt x="1045" y="12"/>
                    </a:lnTo>
                    <a:lnTo>
                      <a:pt x="1015" y="10"/>
                    </a:lnTo>
                    <a:lnTo>
                      <a:pt x="983" y="7"/>
                    </a:lnTo>
                    <a:lnTo>
                      <a:pt x="947" y="5"/>
                    </a:lnTo>
                    <a:lnTo>
                      <a:pt x="917" y="3"/>
                    </a:lnTo>
                    <a:lnTo>
                      <a:pt x="885" y="0"/>
                    </a:lnTo>
                    <a:lnTo>
                      <a:pt x="854" y="1"/>
                    </a:lnTo>
                    <a:lnTo>
                      <a:pt x="826" y="0"/>
                    </a:lnTo>
                    <a:lnTo>
                      <a:pt x="795" y="1"/>
                    </a:lnTo>
                    <a:lnTo>
                      <a:pt x="768" y="3"/>
                    </a:lnTo>
                    <a:lnTo>
                      <a:pt x="734" y="5"/>
                    </a:lnTo>
                    <a:lnTo>
                      <a:pt x="701" y="7"/>
                    </a:lnTo>
                    <a:lnTo>
                      <a:pt x="671" y="12"/>
                    </a:lnTo>
                    <a:lnTo>
                      <a:pt x="640" y="16"/>
                    </a:lnTo>
                    <a:lnTo>
                      <a:pt x="613" y="20"/>
                    </a:lnTo>
                    <a:lnTo>
                      <a:pt x="585" y="24"/>
                    </a:lnTo>
                    <a:lnTo>
                      <a:pt x="561" y="29"/>
                    </a:lnTo>
                    <a:lnTo>
                      <a:pt x="529" y="35"/>
                    </a:lnTo>
                    <a:lnTo>
                      <a:pt x="500" y="43"/>
                    </a:lnTo>
                    <a:lnTo>
                      <a:pt x="475" y="49"/>
                    </a:lnTo>
                    <a:lnTo>
                      <a:pt x="446" y="56"/>
                    </a:lnTo>
                    <a:lnTo>
                      <a:pt x="419" y="65"/>
                    </a:lnTo>
                    <a:lnTo>
                      <a:pt x="390" y="74"/>
                    </a:lnTo>
                    <a:lnTo>
                      <a:pt x="362" y="83"/>
                    </a:lnTo>
                    <a:lnTo>
                      <a:pt x="337" y="92"/>
                    </a:lnTo>
                    <a:lnTo>
                      <a:pt x="308" y="101"/>
                    </a:lnTo>
                    <a:lnTo>
                      <a:pt x="285" y="110"/>
                    </a:lnTo>
                    <a:lnTo>
                      <a:pt x="262" y="119"/>
                    </a:lnTo>
                    <a:lnTo>
                      <a:pt x="246" y="126"/>
                    </a:lnTo>
                    <a:lnTo>
                      <a:pt x="230" y="132"/>
                    </a:lnTo>
                    <a:lnTo>
                      <a:pt x="217" y="137"/>
                    </a:lnTo>
                    <a:lnTo>
                      <a:pt x="208" y="144"/>
                    </a:lnTo>
                    <a:lnTo>
                      <a:pt x="194" y="150"/>
                    </a:lnTo>
                    <a:lnTo>
                      <a:pt x="181" y="158"/>
                    </a:lnTo>
                    <a:lnTo>
                      <a:pt x="165" y="166"/>
                    </a:lnTo>
                    <a:lnTo>
                      <a:pt x="153" y="172"/>
                    </a:lnTo>
                    <a:lnTo>
                      <a:pt x="141" y="177"/>
                    </a:lnTo>
                    <a:lnTo>
                      <a:pt x="127" y="186"/>
                    </a:lnTo>
                    <a:lnTo>
                      <a:pt x="113" y="194"/>
                    </a:lnTo>
                    <a:lnTo>
                      <a:pt x="100" y="202"/>
                    </a:lnTo>
                    <a:lnTo>
                      <a:pt x="83" y="210"/>
                    </a:lnTo>
                    <a:lnTo>
                      <a:pt x="71" y="218"/>
                    </a:lnTo>
                    <a:lnTo>
                      <a:pt x="59" y="225"/>
                    </a:lnTo>
                    <a:lnTo>
                      <a:pt x="47" y="234"/>
                    </a:lnTo>
                    <a:lnTo>
                      <a:pt x="34" y="243"/>
                    </a:lnTo>
                    <a:lnTo>
                      <a:pt x="23" y="252"/>
                    </a:lnTo>
                    <a:lnTo>
                      <a:pt x="12" y="259"/>
                    </a:lnTo>
                    <a:lnTo>
                      <a:pt x="0" y="267"/>
                    </a:lnTo>
                  </a:path>
                </a:pathLst>
              </a:custGeom>
              <a:solidFill>
                <a:srgbClr val="99ff66"/>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6" name=""/>
              <p:cNvSpPr/>
              <p:nvPr/>
            </p:nvSpPr>
            <p:spPr>
              <a:xfrm>
                <a:off x="4044600" y="333360"/>
                <a:ext cx="1131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vantGarde"/>
                  </a:rPr>
                  <a:t>Analysis</a:t>
                </a:r>
                <a:endParaRPr b="0" lang="en-US" sz="1800" spc="-1" strike="noStrike">
                  <a:solidFill>
                    <a:srgbClr val="f8f8f8"/>
                  </a:solidFill>
                  <a:latin typeface="Times New Roman"/>
                </a:endParaRPr>
              </a:p>
            </p:txBody>
          </p:sp>
        </p:grpSp>
        <p:sp>
          <p:nvSpPr>
            <p:cNvPr id="177" name=""/>
            <p:cNvSpPr/>
            <p:nvPr/>
          </p:nvSpPr>
          <p:spPr>
            <a:xfrm>
              <a:off x="5686560" y="3427560"/>
              <a:ext cx="1306440" cy="1981080"/>
            </a:xfrm>
            <a:custGeom>
              <a:avLst/>
              <a:gdLst/>
              <a:ahLst/>
              <a:rect l="l" t="t" r="r" b="b"/>
              <a:pathLst>
                <a:path w="823" h="1369">
                  <a:moveTo>
                    <a:pt x="819" y="19"/>
                  </a:moveTo>
                  <a:lnTo>
                    <a:pt x="816" y="0"/>
                  </a:lnTo>
                  <a:lnTo>
                    <a:pt x="653" y="44"/>
                  </a:lnTo>
                  <a:lnTo>
                    <a:pt x="654" y="63"/>
                  </a:lnTo>
                  <a:lnTo>
                    <a:pt x="655" y="80"/>
                  </a:lnTo>
                  <a:lnTo>
                    <a:pt x="656" y="94"/>
                  </a:lnTo>
                  <a:lnTo>
                    <a:pt x="657" y="115"/>
                  </a:lnTo>
                  <a:lnTo>
                    <a:pt x="657" y="134"/>
                  </a:lnTo>
                  <a:lnTo>
                    <a:pt x="657" y="154"/>
                  </a:lnTo>
                  <a:lnTo>
                    <a:pt x="657" y="169"/>
                  </a:lnTo>
                  <a:lnTo>
                    <a:pt x="656" y="189"/>
                  </a:lnTo>
                  <a:lnTo>
                    <a:pt x="656" y="205"/>
                  </a:lnTo>
                  <a:lnTo>
                    <a:pt x="654" y="226"/>
                  </a:lnTo>
                  <a:lnTo>
                    <a:pt x="654" y="244"/>
                  </a:lnTo>
                  <a:lnTo>
                    <a:pt x="650" y="263"/>
                  </a:lnTo>
                  <a:lnTo>
                    <a:pt x="648" y="281"/>
                  </a:lnTo>
                  <a:lnTo>
                    <a:pt x="646" y="296"/>
                  </a:lnTo>
                  <a:lnTo>
                    <a:pt x="644" y="311"/>
                  </a:lnTo>
                  <a:lnTo>
                    <a:pt x="640" y="329"/>
                  </a:lnTo>
                  <a:lnTo>
                    <a:pt x="637" y="348"/>
                  </a:lnTo>
                  <a:lnTo>
                    <a:pt x="634" y="365"/>
                  </a:lnTo>
                  <a:lnTo>
                    <a:pt x="631" y="382"/>
                  </a:lnTo>
                  <a:lnTo>
                    <a:pt x="629" y="396"/>
                  </a:lnTo>
                  <a:lnTo>
                    <a:pt x="626" y="412"/>
                  </a:lnTo>
                  <a:lnTo>
                    <a:pt x="619" y="432"/>
                  </a:lnTo>
                  <a:lnTo>
                    <a:pt x="615" y="452"/>
                  </a:lnTo>
                  <a:lnTo>
                    <a:pt x="608" y="478"/>
                  </a:lnTo>
                  <a:lnTo>
                    <a:pt x="603" y="501"/>
                  </a:lnTo>
                  <a:lnTo>
                    <a:pt x="594" y="526"/>
                  </a:lnTo>
                  <a:lnTo>
                    <a:pt x="586" y="553"/>
                  </a:lnTo>
                  <a:lnTo>
                    <a:pt x="575" y="578"/>
                  </a:lnTo>
                  <a:lnTo>
                    <a:pt x="568" y="600"/>
                  </a:lnTo>
                  <a:lnTo>
                    <a:pt x="557" y="624"/>
                  </a:lnTo>
                  <a:lnTo>
                    <a:pt x="548" y="646"/>
                  </a:lnTo>
                  <a:lnTo>
                    <a:pt x="536" y="671"/>
                  </a:lnTo>
                  <a:lnTo>
                    <a:pt x="523" y="697"/>
                  </a:lnTo>
                  <a:lnTo>
                    <a:pt x="511" y="721"/>
                  </a:lnTo>
                  <a:lnTo>
                    <a:pt x="497" y="749"/>
                  </a:lnTo>
                  <a:lnTo>
                    <a:pt x="482" y="774"/>
                  </a:lnTo>
                  <a:lnTo>
                    <a:pt x="467" y="800"/>
                  </a:lnTo>
                  <a:lnTo>
                    <a:pt x="454" y="822"/>
                  </a:lnTo>
                  <a:lnTo>
                    <a:pt x="440" y="845"/>
                  </a:lnTo>
                  <a:lnTo>
                    <a:pt x="427" y="862"/>
                  </a:lnTo>
                  <a:lnTo>
                    <a:pt x="410" y="885"/>
                  </a:lnTo>
                  <a:lnTo>
                    <a:pt x="395" y="907"/>
                  </a:lnTo>
                  <a:lnTo>
                    <a:pt x="379" y="925"/>
                  </a:lnTo>
                  <a:lnTo>
                    <a:pt x="362" y="949"/>
                  </a:lnTo>
                  <a:lnTo>
                    <a:pt x="346" y="966"/>
                  </a:lnTo>
                  <a:lnTo>
                    <a:pt x="329" y="989"/>
                  </a:lnTo>
                  <a:lnTo>
                    <a:pt x="310" y="1008"/>
                  </a:lnTo>
                  <a:lnTo>
                    <a:pt x="292" y="1027"/>
                  </a:lnTo>
                  <a:lnTo>
                    <a:pt x="271" y="1047"/>
                  </a:lnTo>
                  <a:lnTo>
                    <a:pt x="250" y="1068"/>
                  </a:lnTo>
                  <a:lnTo>
                    <a:pt x="231" y="1086"/>
                  </a:lnTo>
                  <a:lnTo>
                    <a:pt x="211" y="1104"/>
                  </a:lnTo>
                  <a:lnTo>
                    <a:pt x="187" y="1123"/>
                  </a:lnTo>
                  <a:lnTo>
                    <a:pt x="166" y="1136"/>
                  </a:lnTo>
                  <a:lnTo>
                    <a:pt x="142" y="1154"/>
                  </a:lnTo>
                  <a:lnTo>
                    <a:pt x="120" y="1099"/>
                  </a:lnTo>
                  <a:lnTo>
                    <a:pt x="0" y="1353"/>
                  </a:lnTo>
                  <a:lnTo>
                    <a:pt x="227" y="1368"/>
                  </a:lnTo>
                  <a:lnTo>
                    <a:pt x="204" y="1314"/>
                  </a:lnTo>
                  <a:lnTo>
                    <a:pt x="232" y="1294"/>
                  </a:lnTo>
                  <a:lnTo>
                    <a:pt x="256" y="1275"/>
                  </a:lnTo>
                  <a:lnTo>
                    <a:pt x="281" y="1254"/>
                  </a:lnTo>
                  <a:lnTo>
                    <a:pt x="303" y="1235"/>
                  </a:lnTo>
                  <a:lnTo>
                    <a:pt x="324" y="1218"/>
                  </a:lnTo>
                  <a:lnTo>
                    <a:pt x="343" y="1200"/>
                  </a:lnTo>
                  <a:lnTo>
                    <a:pt x="365" y="1178"/>
                  </a:lnTo>
                  <a:lnTo>
                    <a:pt x="383" y="1159"/>
                  </a:lnTo>
                  <a:lnTo>
                    <a:pt x="400" y="1143"/>
                  </a:lnTo>
                  <a:lnTo>
                    <a:pt x="419" y="1124"/>
                  </a:lnTo>
                  <a:lnTo>
                    <a:pt x="443" y="1097"/>
                  </a:lnTo>
                  <a:lnTo>
                    <a:pt x="460" y="1078"/>
                  </a:lnTo>
                  <a:lnTo>
                    <a:pt x="478" y="1054"/>
                  </a:lnTo>
                  <a:lnTo>
                    <a:pt x="494" y="1033"/>
                  </a:lnTo>
                  <a:lnTo>
                    <a:pt x="515" y="1009"/>
                  </a:lnTo>
                  <a:lnTo>
                    <a:pt x="531" y="983"/>
                  </a:lnTo>
                  <a:lnTo>
                    <a:pt x="547" y="962"/>
                  </a:lnTo>
                  <a:lnTo>
                    <a:pt x="562" y="938"/>
                  </a:lnTo>
                  <a:lnTo>
                    <a:pt x="579" y="912"/>
                  </a:lnTo>
                  <a:lnTo>
                    <a:pt x="594" y="885"/>
                  </a:lnTo>
                  <a:lnTo>
                    <a:pt x="609" y="863"/>
                  </a:lnTo>
                  <a:lnTo>
                    <a:pt x="624" y="837"/>
                  </a:lnTo>
                  <a:lnTo>
                    <a:pt x="636" y="814"/>
                  </a:lnTo>
                  <a:lnTo>
                    <a:pt x="649" y="791"/>
                  </a:lnTo>
                  <a:lnTo>
                    <a:pt x="661" y="767"/>
                  </a:lnTo>
                  <a:lnTo>
                    <a:pt x="674" y="740"/>
                  </a:lnTo>
                  <a:lnTo>
                    <a:pt x="688" y="713"/>
                  </a:lnTo>
                  <a:lnTo>
                    <a:pt x="698" y="684"/>
                  </a:lnTo>
                  <a:lnTo>
                    <a:pt x="708" y="660"/>
                  </a:lnTo>
                  <a:lnTo>
                    <a:pt x="718" y="633"/>
                  </a:lnTo>
                  <a:lnTo>
                    <a:pt x="729" y="610"/>
                  </a:lnTo>
                  <a:lnTo>
                    <a:pt x="736" y="588"/>
                  </a:lnTo>
                  <a:lnTo>
                    <a:pt x="746" y="560"/>
                  </a:lnTo>
                  <a:lnTo>
                    <a:pt x="753" y="530"/>
                  </a:lnTo>
                  <a:lnTo>
                    <a:pt x="761" y="507"/>
                  </a:lnTo>
                  <a:lnTo>
                    <a:pt x="768" y="482"/>
                  </a:lnTo>
                  <a:lnTo>
                    <a:pt x="773" y="455"/>
                  </a:lnTo>
                  <a:lnTo>
                    <a:pt x="780" y="428"/>
                  </a:lnTo>
                  <a:lnTo>
                    <a:pt x="786" y="400"/>
                  </a:lnTo>
                  <a:lnTo>
                    <a:pt x="791" y="376"/>
                  </a:lnTo>
                  <a:lnTo>
                    <a:pt x="797" y="348"/>
                  </a:lnTo>
                  <a:lnTo>
                    <a:pt x="801" y="325"/>
                  </a:lnTo>
                  <a:lnTo>
                    <a:pt x="806" y="302"/>
                  </a:lnTo>
                  <a:lnTo>
                    <a:pt x="808" y="286"/>
                  </a:lnTo>
                  <a:lnTo>
                    <a:pt x="810" y="270"/>
                  </a:lnTo>
                  <a:lnTo>
                    <a:pt x="812" y="259"/>
                  </a:lnTo>
                  <a:lnTo>
                    <a:pt x="813" y="247"/>
                  </a:lnTo>
                  <a:lnTo>
                    <a:pt x="813" y="233"/>
                  </a:lnTo>
                  <a:lnTo>
                    <a:pt x="815" y="217"/>
                  </a:lnTo>
                  <a:lnTo>
                    <a:pt x="815" y="203"/>
                  </a:lnTo>
                  <a:lnTo>
                    <a:pt x="818" y="187"/>
                  </a:lnTo>
                  <a:lnTo>
                    <a:pt x="818" y="177"/>
                  </a:lnTo>
                  <a:lnTo>
                    <a:pt x="818" y="160"/>
                  </a:lnTo>
                  <a:lnTo>
                    <a:pt x="819" y="145"/>
                  </a:lnTo>
                  <a:lnTo>
                    <a:pt x="820" y="132"/>
                  </a:lnTo>
                  <a:lnTo>
                    <a:pt x="822" y="112"/>
                  </a:lnTo>
                  <a:lnTo>
                    <a:pt x="821" y="100"/>
                  </a:lnTo>
                  <a:lnTo>
                    <a:pt x="822" y="86"/>
                  </a:lnTo>
                  <a:lnTo>
                    <a:pt x="821" y="72"/>
                  </a:lnTo>
                  <a:lnTo>
                    <a:pt x="821" y="57"/>
                  </a:lnTo>
                  <a:lnTo>
                    <a:pt x="819" y="42"/>
                  </a:lnTo>
                  <a:lnTo>
                    <a:pt x="818" y="31"/>
                  </a:lnTo>
                  <a:lnTo>
                    <a:pt x="819" y="19"/>
                  </a:lnTo>
                </a:path>
              </a:pathLst>
            </a:custGeom>
            <a:gradFill rotWithShape="0">
              <a:gsLst>
                <a:gs pos="0">
                  <a:srgbClr val="ffff00"/>
                </a:gs>
                <a:gs pos="100000">
                  <a:srgbClr val="99ff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8" name=""/>
            <p:cNvSpPr/>
            <p:nvPr/>
          </p:nvSpPr>
          <p:spPr>
            <a:xfrm>
              <a:off x="2960640" y="5319720"/>
              <a:ext cx="2592360" cy="547560"/>
            </a:xfrm>
            <a:custGeom>
              <a:avLst/>
              <a:gdLst/>
              <a:ahLst/>
              <a:rect l="l" t="t" r="r" b="b"/>
              <a:pathLst>
                <a:path w="1633" h="378">
                  <a:moveTo>
                    <a:pt x="1614" y="159"/>
                  </a:moveTo>
                  <a:lnTo>
                    <a:pt x="1632" y="147"/>
                  </a:lnTo>
                  <a:lnTo>
                    <a:pt x="1529" y="6"/>
                  </a:lnTo>
                  <a:lnTo>
                    <a:pt x="1508" y="18"/>
                  </a:lnTo>
                  <a:lnTo>
                    <a:pt x="1493" y="26"/>
                  </a:lnTo>
                  <a:lnTo>
                    <a:pt x="1479" y="34"/>
                  </a:lnTo>
                  <a:lnTo>
                    <a:pt x="1459" y="46"/>
                  </a:lnTo>
                  <a:lnTo>
                    <a:pt x="1441" y="55"/>
                  </a:lnTo>
                  <a:lnTo>
                    <a:pt x="1422" y="66"/>
                  </a:lnTo>
                  <a:lnTo>
                    <a:pt x="1408" y="74"/>
                  </a:lnTo>
                  <a:lnTo>
                    <a:pt x="1387" y="81"/>
                  </a:lnTo>
                  <a:lnTo>
                    <a:pt x="1370" y="91"/>
                  </a:lnTo>
                  <a:lnTo>
                    <a:pt x="1350" y="97"/>
                  </a:lnTo>
                  <a:lnTo>
                    <a:pt x="1331" y="108"/>
                  </a:lnTo>
                  <a:lnTo>
                    <a:pt x="1311" y="113"/>
                  </a:lnTo>
                  <a:lnTo>
                    <a:pt x="1294" y="121"/>
                  </a:lnTo>
                  <a:lnTo>
                    <a:pt x="1278" y="126"/>
                  </a:lnTo>
                  <a:lnTo>
                    <a:pt x="1261" y="132"/>
                  </a:lnTo>
                  <a:lnTo>
                    <a:pt x="1243" y="136"/>
                  </a:lnTo>
                  <a:lnTo>
                    <a:pt x="1224" y="144"/>
                  </a:lnTo>
                  <a:lnTo>
                    <a:pt x="1206" y="148"/>
                  </a:lnTo>
                  <a:lnTo>
                    <a:pt x="1187" y="154"/>
                  </a:lnTo>
                  <a:lnTo>
                    <a:pt x="1173" y="159"/>
                  </a:lnTo>
                  <a:lnTo>
                    <a:pt x="1156" y="163"/>
                  </a:lnTo>
                  <a:lnTo>
                    <a:pt x="1134" y="167"/>
                  </a:lnTo>
                  <a:lnTo>
                    <a:pt x="1113" y="172"/>
                  </a:lnTo>
                  <a:lnTo>
                    <a:pt x="1085" y="180"/>
                  </a:lnTo>
                  <a:lnTo>
                    <a:pt x="1060" y="184"/>
                  </a:lnTo>
                  <a:lnTo>
                    <a:pt x="1032" y="188"/>
                  </a:lnTo>
                  <a:lnTo>
                    <a:pt x="1004" y="194"/>
                  </a:lnTo>
                  <a:lnTo>
                    <a:pt x="975" y="195"/>
                  </a:lnTo>
                  <a:lnTo>
                    <a:pt x="950" y="200"/>
                  </a:lnTo>
                  <a:lnTo>
                    <a:pt x="923" y="201"/>
                  </a:lnTo>
                  <a:lnTo>
                    <a:pt x="898" y="203"/>
                  </a:lnTo>
                  <a:lnTo>
                    <a:pt x="868" y="203"/>
                  </a:lnTo>
                  <a:lnTo>
                    <a:pt x="838" y="204"/>
                  </a:lnTo>
                  <a:lnTo>
                    <a:pt x="810" y="204"/>
                  </a:lnTo>
                  <a:lnTo>
                    <a:pt x="779" y="203"/>
                  </a:lnTo>
                  <a:lnTo>
                    <a:pt x="748" y="202"/>
                  </a:lnTo>
                  <a:lnTo>
                    <a:pt x="717" y="199"/>
                  </a:lnTo>
                  <a:lnTo>
                    <a:pt x="691" y="196"/>
                  </a:lnTo>
                  <a:lnTo>
                    <a:pt x="664" y="194"/>
                  </a:lnTo>
                  <a:lnTo>
                    <a:pt x="639" y="190"/>
                  </a:lnTo>
                  <a:lnTo>
                    <a:pt x="612" y="184"/>
                  </a:lnTo>
                  <a:lnTo>
                    <a:pt x="585" y="180"/>
                  </a:lnTo>
                  <a:lnTo>
                    <a:pt x="562" y="174"/>
                  </a:lnTo>
                  <a:lnTo>
                    <a:pt x="531" y="168"/>
                  </a:lnTo>
                  <a:lnTo>
                    <a:pt x="509" y="161"/>
                  </a:lnTo>
                  <a:lnTo>
                    <a:pt x="479" y="155"/>
                  </a:lnTo>
                  <a:lnTo>
                    <a:pt x="453" y="146"/>
                  </a:lnTo>
                  <a:lnTo>
                    <a:pt x="429" y="138"/>
                  </a:lnTo>
                  <a:lnTo>
                    <a:pt x="401" y="128"/>
                  </a:lnTo>
                  <a:lnTo>
                    <a:pt x="372" y="115"/>
                  </a:lnTo>
                  <a:lnTo>
                    <a:pt x="349" y="105"/>
                  </a:lnTo>
                  <a:lnTo>
                    <a:pt x="323" y="94"/>
                  </a:lnTo>
                  <a:lnTo>
                    <a:pt x="295" y="79"/>
                  </a:lnTo>
                  <a:lnTo>
                    <a:pt x="275" y="66"/>
                  </a:lnTo>
                  <a:lnTo>
                    <a:pt x="249" y="51"/>
                  </a:lnTo>
                  <a:lnTo>
                    <a:pt x="294" y="0"/>
                  </a:lnTo>
                  <a:lnTo>
                    <a:pt x="0" y="7"/>
                  </a:lnTo>
                  <a:lnTo>
                    <a:pt x="70" y="242"/>
                  </a:lnTo>
                  <a:lnTo>
                    <a:pt x="115" y="193"/>
                  </a:lnTo>
                  <a:lnTo>
                    <a:pt x="144" y="210"/>
                  </a:lnTo>
                  <a:lnTo>
                    <a:pt x="172" y="227"/>
                  </a:lnTo>
                  <a:lnTo>
                    <a:pt x="202" y="242"/>
                  </a:lnTo>
                  <a:lnTo>
                    <a:pt x="228" y="253"/>
                  </a:lnTo>
                  <a:lnTo>
                    <a:pt x="254" y="265"/>
                  </a:lnTo>
                  <a:lnTo>
                    <a:pt x="278" y="275"/>
                  </a:lnTo>
                  <a:lnTo>
                    <a:pt x="307" y="287"/>
                  </a:lnTo>
                  <a:lnTo>
                    <a:pt x="332" y="295"/>
                  </a:lnTo>
                  <a:lnTo>
                    <a:pt x="356" y="303"/>
                  </a:lnTo>
                  <a:lnTo>
                    <a:pt x="380" y="313"/>
                  </a:lnTo>
                  <a:lnTo>
                    <a:pt x="417" y="324"/>
                  </a:lnTo>
                  <a:lnTo>
                    <a:pt x="442" y="330"/>
                  </a:lnTo>
                  <a:lnTo>
                    <a:pt x="471" y="337"/>
                  </a:lnTo>
                  <a:lnTo>
                    <a:pt x="498" y="343"/>
                  </a:lnTo>
                  <a:lnTo>
                    <a:pt x="529" y="351"/>
                  </a:lnTo>
                  <a:lnTo>
                    <a:pt x="561" y="355"/>
                  </a:lnTo>
                  <a:lnTo>
                    <a:pt x="587" y="360"/>
                  </a:lnTo>
                  <a:lnTo>
                    <a:pt x="616" y="364"/>
                  </a:lnTo>
                  <a:lnTo>
                    <a:pt x="648" y="368"/>
                  </a:lnTo>
                  <a:lnTo>
                    <a:pt x="680" y="370"/>
                  </a:lnTo>
                  <a:lnTo>
                    <a:pt x="708" y="374"/>
                  </a:lnTo>
                  <a:lnTo>
                    <a:pt x="738" y="376"/>
                  </a:lnTo>
                  <a:lnTo>
                    <a:pt x="766" y="376"/>
                  </a:lnTo>
                  <a:lnTo>
                    <a:pt x="793" y="377"/>
                  </a:lnTo>
                  <a:lnTo>
                    <a:pt x="821" y="377"/>
                  </a:lnTo>
                  <a:lnTo>
                    <a:pt x="853" y="375"/>
                  </a:lnTo>
                  <a:lnTo>
                    <a:pt x="885" y="377"/>
                  </a:lnTo>
                  <a:lnTo>
                    <a:pt x="917" y="372"/>
                  </a:lnTo>
                  <a:lnTo>
                    <a:pt x="944" y="371"/>
                  </a:lnTo>
                  <a:lnTo>
                    <a:pt x="972" y="368"/>
                  </a:lnTo>
                  <a:lnTo>
                    <a:pt x="1000" y="366"/>
                  </a:lnTo>
                  <a:lnTo>
                    <a:pt x="1025" y="362"/>
                  </a:lnTo>
                  <a:lnTo>
                    <a:pt x="1056" y="359"/>
                  </a:lnTo>
                  <a:lnTo>
                    <a:pt x="1087" y="349"/>
                  </a:lnTo>
                  <a:lnTo>
                    <a:pt x="1115" y="348"/>
                  </a:lnTo>
                  <a:lnTo>
                    <a:pt x="1141" y="341"/>
                  </a:lnTo>
                  <a:lnTo>
                    <a:pt x="1168" y="332"/>
                  </a:lnTo>
                  <a:lnTo>
                    <a:pt x="1198" y="326"/>
                  </a:lnTo>
                  <a:lnTo>
                    <a:pt x="1228" y="319"/>
                  </a:lnTo>
                  <a:lnTo>
                    <a:pt x="1254" y="310"/>
                  </a:lnTo>
                  <a:lnTo>
                    <a:pt x="1284" y="304"/>
                  </a:lnTo>
                  <a:lnTo>
                    <a:pt x="1308" y="296"/>
                  </a:lnTo>
                  <a:lnTo>
                    <a:pt x="1331" y="289"/>
                  </a:lnTo>
                  <a:lnTo>
                    <a:pt x="1347" y="282"/>
                  </a:lnTo>
                  <a:lnTo>
                    <a:pt x="1364" y="278"/>
                  </a:lnTo>
                  <a:lnTo>
                    <a:pt x="1375" y="275"/>
                  </a:lnTo>
                  <a:lnTo>
                    <a:pt x="1387" y="269"/>
                  </a:lnTo>
                  <a:lnTo>
                    <a:pt x="1402" y="262"/>
                  </a:lnTo>
                  <a:lnTo>
                    <a:pt x="1418" y="256"/>
                  </a:lnTo>
                  <a:lnTo>
                    <a:pt x="1431" y="249"/>
                  </a:lnTo>
                  <a:lnTo>
                    <a:pt x="1449" y="244"/>
                  </a:lnTo>
                  <a:lnTo>
                    <a:pt x="1460" y="238"/>
                  </a:lnTo>
                  <a:lnTo>
                    <a:pt x="1475" y="231"/>
                  </a:lnTo>
                  <a:lnTo>
                    <a:pt x="1491" y="224"/>
                  </a:lnTo>
                  <a:lnTo>
                    <a:pt x="1504" y="217"/>
                  </a:lnTo>
                  <a:lnTo>
                    <a:pt x="1523" y="209"/>
                  </a:lnTo>
                  <a:lnTo>
                    <a:pt x="1535" y="203"/>
                  </a:lnTo>
                  <a:lnTo>
                    <a:pt x="1549" y="196"/>
                  </a:lnTo>
                  <a:lnTo>
                    <a:pt x="1563" y="189"/>
                  </a:lnTo>
                  <a:lnTo>
                    <a:pt x="1577" y="180"/>
                  </a:lnTo>
                  <a:lnTo>
                    <a:pt x="1590" y="172"/>
                  </a:lnTo>
                  <a:lnTo>
                    <a:pt x="1602" y="165"/>
                  </a:lnTo>
                  <a:lnTo>
                    <a:pt x="1614" y="159"/>
                  </a:lnTo>
                </a:path>
              </a:pathLst>
            </a:custGeom>
            <a:gradFill rotWithShape="0">
              <a:gsLst>
                <a:gs pos="0">
                  <a:srgbClr val="99ff66"/>
                </a:gs>
                <a:gs pos="100000">
                  <a:srgbClr val="3399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grpSp>
          <p:nvGrpSpPr>
            <p:cNvPr id="179" name=""/>
            <p:cNvGrpSpPr/>
            <p:nvPr/>
          </p:nvGrpSpPr>
          <p:grpSpPr>
            <a:xfrm>
              <a:off x="1763280" y="1168560"/>
              <a:ext cx="1105200" cy="2155680"/>
              <a:chOff x="1763280" y="1168560"/>
              <a:chExt cx="1105200" cy="2155680"/>
            </a:xfrm>
          </p:grpSpPr>
          <p:sp>
            <p:nvSpPr>
              <p:cNvPr id="180" name=""/>
              <p:cNvSpPr/>
              <p:nvPr/>
            </p:nvSpPr>
            <p:spPr>
              <a:xfrm>
                <a:off x="1965240" y="1168560"/>
                <a:ext cx="903240" cy="2155680"/>
              </a:xfrm>
              <a:custGeom>
                <a:avLst/>
                <a:gdLst/>
                <a:ahLst/>
                <a:rect l="l" t="t" r="r" b="b"/>
                <a:pathLst>
                  <a:path w="569" h="1489">
                    <a:moveTo>
                      <a:pt x="53" y="1470"/>
                    </a:moveTo>
                    <a:lnTo>
                      <a:pt x="58" y="1488"/>
                    </a:lnTo>
                    <a:lnTo>
                      <a:pt x="209" y="1406"/>
                    </a:lnTo>
                    <a:lnTo>
                      <a:pt x="204" y="1386"/>
                    </a:lnTo>
                    <a:lnTo>
                      <a:pt x="200" y="1372"/>
                    </a:lnTo>
                    <a:lnTo>
                      <a:pt x="195" y="1357"/>
                    </a:lnTo>
                    <a:lnTo>
                      <a:pt x="190" y="1338"/>
                    </a:lnTo>
                    <a:lnTo>
                      <a:pt x="186" y="1320"/>
                    </a:lnTo>
                    <a:lnTo>
                      <a:pt x="181" y="1302"/>
                    </a:lnTo>
                    <a:lnTo>
                      <a:pt x="179" y="1288"/>
                    </a:lnTo>
                    <a:lnTo>
                      <a:pt x="175" y="1268"/>
                    </a:lnTo>
                    <a:lnTo>
                      <a:pt x="172" y="1253"/>
                    </a:lnTo>
                    <a:lnTo>
                      <a:pt x="168" y="1232"/>
                    </a:lnTo>
                    <a:lnTo>
                      <a:pt x="165" y="1216"/>
                    </a:lnTo>
                    <a:lnTo>
                      <a:pt x="164" y="1196"/>
                    </a:lnTo>
                    <a:lnTo>
                      <a:pt x="163" y="1178"/>
                    </a:lnTo>
                    <a:lnTo>
                      <a:pt x="161" y="1163"/>
                    </a:lnTo>
                    <a:lnTo>
                      <a:pt x="160" y="1148"/>
                    </a:lnTo>
                    <a:lnTo>
                      <a:pt x="159" y="1131"/>
                    </a:lnTo>
                    <a:lnTo>
                      <a:pt x="158" y="1113"/>
                    </a:lnTo>
                    <a:lnTo>
                      <a:pt x="157" y="1095"/>
                    </a:lnTo>
                    <a:lnTo>
                      <a:pt x="157" y="1077"/>
                    </a:lnTo>
                    <a:lnTo>
                      <a:pt x="156" y="1066"/>
                    </a:lnTo>
                    <a:lnTo>
                      <a:pt x="156" y="1049"/>
                    </a:lnTo>
                    <a:lnTo>
                      <a:pt x="157" y="1028"/>
                    </a:lnTo>
                    <a:lnTo>
                      <a:pt x="158" y="1007"/>
                    </a:lnTo>
                    <a:lnTo>
                      <a:pt x="158" y="981"/>
                    </a:lnTo>
                    <a:lnTo>
                      <a:pt x="160" y="957"/>
                    </a:lnTo>
                    <a:lnTo>
                      <a:pt x="162" y="931"/>
                    </a:lnTo>
                    <a:lnTo>
                      <a:pt x="164" y="905"/>
                    </a:lnTo>
                    <a:lnTo>
                      <a:pt x="168" y="877"/>
                    </a:lnTo>
                    <a:lnTo>
                      <a:pt x="172" y="856"/>
                    </a:lnTo>
                    <a:lnTo>
                      <a:pt x="177" y="832"/>
                    </a:lnTo>
                    <a:lnTo>
                      <a:pt x="181" y="807"/>
                    </a:lnTo>
                    <a:lnTo>
                      <a:pt x="187" y="780"/>
                    </a:lnTo>
                    <a:lnTo>
                      <a:pt x="194" y="751"/>
                    </a:lnTo>
                    <a:lnTo>
                      <a:pt x="201" y="725"/>
                    </a:lnTo>
                    <a:lnTo>
                      <a:pt x="208" y="697"/>
                    </a:lnTo>
                    <a:lnTo>
                      <a:pt x="217" y="667"/>
                    </a:lnTo>
                    <a:lnTo>
                      <a:pt x="227" y="641"/>
                    </a:lnTo>
                    <a:lnTo>
                      <a:pt x="236" y="616"/>
                    </a:lnTo>
                    <a:lnTo>
                      <a:pt x="245" y="591"/>
                    </a:lnTo>
                    <a:lnTo>
                      <a:pt x="254" y="570"/>
                    </a:lnTo>
                    <a:lnTo>
                      <a:pt x="264" y="544"/>
                    </a:lnTo>
                    <a:lnTo>
                      <a:pt x="275" y="521"/>
                    </a:lnTo>
                    <a:lnTo>
                      <a:pt x="286" y="499"/>
                    </a:lnTo>
                    <a:lnTo>
                      <a:pt x="298" y="474"/>
                    </a:lnTo>
                    <a:lnTo>
                      <a:pt x="310" y="452"/>
                    </a:lnTo>
                    <a:lnTo>
                      <a:pt x="323" y="428"/>
                    </a:lnTo>
                    <a:lnTo>
                      <a:pt x="337" y="403"/>
                    </a:lnTo>
                    <a:lnTo>
                      <a:pt x="350" y="379"/>
                    </a:lnTo>
                    <a:lnTo>
                      <a:pt x="366" y="355"/>
                    </a:lnTo>
                    <a:lnTo>
                      <a:pt x="383" y="331"/>
                    </a:lnTo>
                    <a:lnTo>
                      <a:pt x="398" y="310"/>
                    </a:lnTo>
                    <a:lnTo>
                      <a:pt x="414" y="289"/>
                    </a:lnTo>
                    <a:lnTo>
                      <a:pt x="434" y="265"/>
                    </a:lnTo>
                    <a:lnTo>
                      <a:pt x="450" y="246"/>
                    </a:lnTo>
                    <a:lnTo>
                      <a:pt x="470" y="223"/>
                    </a:lnTo>
                    <a:lnTo>
                      <a:pt x="504" y="270"/>
                    </a:lnTo>
                    <a:lnTo>
                      <a:pt x="568" y="0"/>
                    </a:lnTo>
                    <a:lnTo>
                      <a:pt x="341" y="41"/>
                    </a:lnTo>
                    <a:lnTo>
                      <a:pt x="373" y="87"/>
                    </a:lnTo>
                    <a:lnTo>
                      <a:pt x="351" y="112"/>
                    </a:lnTo>
                    <a:lnTo>
                      <a:pt x="332" y="136"/>
                    </a:lnTo>
                    <a:lnTo>
                      <a:pt x="311" y="162"/>
                    </a:lnTo>
                    <a:lnTo>
                      <a:pt x="294" y="185"/>
                    </a:lnTo>
                    <a:lnTo>
                      <a:pt x="277" y="207"/>
                    </a:lnTo>
                    <a:lnTo>
                      <a:pt x="262" y="229"/>
                    </a:lnTo>
                    <a:lnTo>
                      <a:pt x="245" y="254"/>
                    </a:lnTo>
                    <a:lnTo>
                      <a:pt x="231" y="276"/>
                    </a:lnTo>
                    <a:lnTo>
                      <a:pt x="218" y="297"/>
                    </a:lnTo>
                    <a:lnTo>
                      <a:pt x="204" y="321"/>
                    </a:lnTo>
                    <a:lnTo>
                      <a:pt x="186" y="352"/>
                    </a:lnTo>
                    <a:lnTo>
                      <a:pt x="173" y="376"/>
                    </a:lnTo>
                    <a:lnTo>
                      <a:pt x="161" y="401"/>
                    </a:lnTo>
                    <a:lnTo>
                      <a:pt x="149" y="424"/>
                    </a:lnTo>
                    <a:lnTo>
                      <a:pt x="136" y="453"/>
                    </a:lnTo>
                    <a:lnTo>
                      <a:pt x="124" y="480"/>
                    </a:lnTo>
                    <a:lnTo>
                      <a:pt x="114" y="505"/>
                    </a:lnTo>
                    <a:lnTo>
                      <a:pt x="103" y="531"/>
                    </a:lnTo>
                    <a:lnTo>
                      <a:pt x="92" y="561"/>
                    </a:lnTo>
                    <a:lnTo>
                      <a:pt x="82" y="590"/>
                    </a:lnTo>
                    <a:lnTo>
                      <a:pt x="73" y="616"/>
                    </a:lnTo>
                    <a:lnTo>
                      <a:pt x="65" y="643"/>
                    </a:lnTo>
                    <a:lnTo>
                      <a:pt x="57" y="667"/>
                    </a:lnTo>
                    <a:lnTo>
                      <a:pt x="50" y="694"/>
                    </a:lnTo>
                    <a:lnTo>
                      <a:pt x="43" y="720"/>
                    </a:lnTo>
                    <a:lnTo>
                      <a:pt x="36" y="749"/>
                    </a:lnTo>
                    <a:lnTo>
                      <a:pt x="29" y="778"/>
                    </a:lnTo>
                    <a:lnTo>
                      <a:pt x="24" y="806"/>
                    </a:lnTo>
                    <a:lnTo>
                      <a:pt x="19" y="834"/>
                    </a:lnTo>
                    <a:lnTo>
                      <a:pt x="16" y="860"/>
                    </a:lnTo>
                    <a:lnTo>
                      <a:pt x="12" y="886"/>
                    </a:lnTo>
                    <a:lnTo>
                      <a:pt x="8" y="908"/>
                    </a:lnTo>
                    <a:lnTo>
                      <a:pt x="5" y="937"/>
                    </a:lnTo>
                    <a:lnTo>
                      <a:pt x="4" y="967"/>
                    </a:lnTo>
                    <a:lnTo>
                      <a:pt x="1" y="990"/>
                    </a:lnTo>
                    <a:lnTo>
                      <a:pt x="0" y="1017"/>
                    </a:lnTo>
                    <a:lnTo>
                      <a:pt x="0" y="1043"/>
                    </a:lnTo>
                    <a:lnTo>
                      <a:pt x="0" y="1071"/>
                    </a:lnTo>
                    <a:lnTo>
                      <a:pt x="0" y="1099"/>
                    </a:lnTo>
                    <a:lnTo>
                      <a:pt x="0" y="1124"/>
                    </a:lnTo>
                    <a:lnTo>
                      <a:pt x="0" y="1152"/>
                    </a:lnTo>
                    <a:lnTo>
                      <a:pt x="1" y="1174"/>
                    </a:lnTo>
                    <a:lnTo>
                      <a:pt x="2" y="1197"/>
                    </a:lnTo>
                    <a:lnTo>
                      <a:pt x="4" y="1212"/>
                    </a:lnTo>
                    <a:lnTo>
                      <a:pt x="4" y="1228"/>
                    </a:lnTo>
                    <a:lnTo>
                      <a:pt x="5" y="1240"/>
                    </a:lnTo>
                    <a:lnTo>
                      <a:pt x="7" y="1252"/>
                    </a:lnTo>
                    <a:lnTo>
                      <a:pt x="9" y="1264"/>
                    </a:lnTo>
                    <a:lnTo>
                      <a:pt x="12" y="1280"/>
                    </a:lnTo>
                    <a:lnTo>
                      <a:pt x="14" y="1294"/>
                    </a:lnTo>
                    <a:lnTo>
                      <a:pt x="16" y="1309"/>
                    </a:lnTo>
                    <a:lnTo>
                      <a:pt x="18" y="1321"/>
                    </a:lnTo>
                    <a:lnTo>
                      <a:pt x="21" y="1334"/>
                    </a:lnTo>
                    <a:lnTo>
                      <a:pt x="22" y="1350"/>
                    </a:lnTo>
                    <a:lnTo>
                      <a:pt x="26" y="1364"/>
                    </a:lnTo>
                    <a:lnTo>
                      <a:pt x="28" y="1381"/>
                    </a:lnTo>
                    <a:lnTo>
                      <a:pt x="32" y="1393"/>
                    </a:lnTo>
                    <a:lnTo>
                      <a:pt x="34" y="1407"/>
                    </a:lnTo>
                    <a:lnTo>
                      <a:pt x="38" y="1419"/>
                    </a:lnTo>
                    <a:lnTo>
                      <a:pt x="41" y="1433"/>
                    </a:lnTo>
                    <a:lnTo>
                      <a:pt x="45" y="1447"/>
                    </a:lnTo>
                    <a:lnTo>
                      <a:pt x="48" y="1458"/>
                    </a:lnTo>
                    <a:lnTo>
                      <a:pt x="53" y="147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81" name=""/>
              <p:cNvSpPr/>
              <p:nvPr/>
            </p:nvSpPr>
            <p:spPr>
              <a:xfrm rot="17479800">
                <a:off x="1442160" y="1932840"/>
                <a:ext cx="1545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vantGarde"/>
                  </a:rPr>
                  <a:t>Assessment</a:t>
                </a:r>
                <a:endParaRPr b="0" lang="en-US" sz="1800" spc="-1" strike="noStrike">
                  <a:solidFill>
                    <a:srgbClr val="f8f8f8"/>
                  </a:solidFill>
                  <a:latin typeface="Times New Roman"/>
                </a:endParaRPr>
              </a:p>
            </p:txBody>
          </p:sp>
        </p:grpSp>
        <p:grpSp>
          <p:nvGrpSpPr>
            <p:cNvPr id="182" name=""/>
            <p:cNvGrpSpPr/>
            <p:nvPr/>
          </p:nvGrpSpPr>
          <p:grpSpPr>
            <a:xfrm>
              <a:off x="5994360" y="932040"/>
              <a:ext cx="1184400" cy="2322360"/>
              <a:chOff x="5994360" y="932040"/>
              <a:chExt cx="1184400" cy="2322360"/>
            </a:xfrm>
          </p:grpSpPr>
          <p:sp>
            <p:nvSpPr>
              <p:cNvPr id="183" name=""/>
              <p:cNvSpPr/>
              <p:nvPr/>
            </p:nvSpPr>
            <p:spPr>
              <a:xfrm>
                <a:off x="5994360" y="932040"/>
                <a:ext cx="1184400" cy="2322360"/>
              </a:xfrm>
              <a:custGeom>
                <a:avLst/>
                <a:gdLst/>
                <a:ahLst/>
                <a:rect l="l" t="t" r="r" b="b"/>
                <a:pathLst>
                  <a:path w="746" h="1605">
                    <a:moveTo>
                      <a:pt x="110" y="7"/>
                    </a:moveTo>
                    <a:lnTo>
                      <a:pt x="92" y="0"/>
                    </a:lnTo>
                    <a:lnTo>
                      <a:pt x="0" y="199"/>
                    </a:lnTo>
                    <a:lnTo>
                      <a:pt x="17" y="209"/>
                    </a:lnTo>
                    <a:lnTo>
                      <a:pt x="31" y="217"/>
                    </a:lnTo>
                    <a:lnTo>
                      <a:pt x="44" y="225"/>
                    </a:lnTo>
                    <a:lnTo>
                      <a:pt x="62" y="235"/>
                    </a:lnTo>
                    <a:lnTo>
                      <a:pt x="77" y="244"/>
                    </a:lnTo>
                    <a:lnTo>
                      <a:pt x="93" y="253"/>
                    </a:lnTo>
                    <a:lnTo>
                      <a:pt x="105" y="262"/>
                    </a:lnTo>
                    <a:lnTo>
                      <a:pt x="121" y="274"/>
                    </a:lnTo>
                    <a:lnTo>
                      <a:pt x="134" y="283"/>
                    </a:lnTo>
                    <a:lnTo>
                      <a:pt x="150" y="295"/>
                    </a:lnTo>
                    <a:lnTo>
                      <a:pt x="164" y="305"/>
                    </a:lnTo>
                    <a:lnTo>
                      <a:pt x="177" y="319"/>
                    </a:lnTo>
                    <a:lnTo>
                      <a:pt x="190" y="331"/>
                    </a:lnTo>
                    <a:lnTo>
                      <a:pt x="201" y="341"/>
                    </a:lnTo>
                    <a:lnTo>
                      <a:pt x="211" y="351"/>
                    </a:lnTo>
                    <a:lnTo>
                      <a:pt x="224" y="364"/>
                    </a:lnTo>
                    <a:lnTo>
                      <a:pt x="236" y="377"/>
                    </a:lnTo>
                    <a:lnTo>
                      <a:pt x="248" y="390"/>
                    </a:lnTo>
                    <a:lnTo>
                      <a:pt x="260" y="404"/>
                    </a:lnTo>
                    <a:lnTo>
                      <a:pt x="268" y="412"/>
                    </a:lnTo>
                    <a:lnTo>
                      <a:pt x="279" y="424"/>
                    </a:lnTo>
                    <a:lnTo>
                      <a:pt x="291" y="440"/>
                    </a:lnTo>
                    <a:lnTo>
                      <a:pt x="304" y="457"/>
                    </a:lnTo>
                    <a:lnTo>
                      <a:pt x="320" y="478"/>
                    </a:lnTo>
                    <a:lnTo>
                      <a:pt x="334" y="497"/>
                    </a:lnTo>
                    <a:lnTo>
                      <a:pt x="348" y="519"/>
                    </a:lnTo>
                    <a:lnTo>
                      <a:pt x="363" y="542"/>
                    </a:lnTo>
                    <a:lnTo>
                      <a:pt x="376" y="566"/>
                    </a:lnTo>
                    <a:lnTo>
                      <a:pt x="387" y="586"/>
                    </a:lnTo>
                    <a:lnTo>
                      <a:pt x="397" y="609"/>
                    </a:lnTo>
                    <a:lnTo>
                      <a:pt x="409" y="632"/>
                    </a:lnTo>
                    <a:lnTo>
                      <a:pt x="421" y="658"/>
                    </a:lnTo>
                    <a:lnTo>
                      <a:pt x="432" y="687"/>
                    </a:lnTo>
                    <a:lnTo>
                      <a:pt x="442" y="712"/>
                    </a:lnTo>
                    <a:lnTo>
                      <a:pt x="453" y="741"/>
                    </a:lnTo>
                    <a:lnTo>
                      <a:pt x="463" y="772"/>
                    </a:lnTo>
                    <a:lnTo>
                      <a:pt x="471" y="801"/>
                    </a:lnTo>
                    <a:lnTo>
                      <a:pt x="479" y="828"/>
                    </a:lnTo>
                    <a:lnTo>
                      <a:pt x="486" y="855"/>
                    </a:lnTo>
                    <a:lnTo>
                      <a:pt x="491" y="879"/>
                    </a:lnTo>
                    <a:lnTo>
                      <a:pt x="497" y="909"/>
                    </a:lnTo>
                    <a:lnTo>
                      <a:pt x="502" y="937"/>
                    </a:lnTo>
                    <a:lnTo>
                      <a:pt x="505" y="964"/>
                    </a:lnTo>
                    <a:lnTo>
                      <a:pt x="510" y="994"/>
                    </a:lnTo>
                    <a:lnTo>
                      <a:pt x="512" y="1021"/>
                    </a:lnTo>
                    <a:lnTo>
                      <a:pt x="516" y="1053"/>
                    </a:lnTo>
                    <a:lnTo>
                      <a:pt x="518" y="1084"/>
                    </a:lnTo>
                    <a:lnTo>
                      <a:pt x="520" y="1114"/>
                    </a:lnTo>
                    <a:lnTo>
                      <a:pt x="520" y="1146"/>
                    </a:lnTo>
                    <a:lnTo>
                      <a:pt x="520" y="1181"/>
                    </a:lnTo>
                    <a:lnTo>
                      <a:pt x="519" y="1210"/>
                    </a:lnTo>
                    <a:lnTo>
                      <a:pt x="517" y="1242"/>
                    </a:lnTo>
                    <a:lnTo>
                      <a:pt x="513" y="1278"/>
                    </a:lnTo>
                    <a:lnTo>
                      <a:pt x="509" y="1307"/>
                    </a:lnTo>
                    <a:lnTo>
                      <a:pt x="505" y="1343"/>
                    </a:lnTo>
                    <a:lnTo>
                      <a:pt x="442" y="1338"/>
                    </a:lnTo>
                    <a:lnTo>
                      <a:pt x="554" y="1604"/>
                    </a:lnTo>
                    <a:lnTo>
                      <a:pt x="745" y="1364"/>
                    </a:lnTo>
                    <a:lnTo>
                      <a:pt x="684" y="1359"/>
                    </a:lnTo>
                    <a:lnTo>
                      <a:pt x="689" y="1319"/>
                    </a:lnTo>
                    <a:lnTo>
                      <a:pt x="693" y="1283"/>
                    </a:lnTo>
                    <a:lnTo>
                      <a:pt x="696" y="1244"/>
                    </a:lnTo>
                    <a:lnTo>
                      <a:pt x="698" y="1211"/>
                    </a:lnTo>
                    <a:lnTo>
                      <a:pt x="700" y="1178"/>
                    </a:lnTo>
                    <a:lnTo>
                      <a:pt x="700" y="1148"/>
                    </a:lnTo>
                    <a:lnTo>
                      <a:pt x="700" y="1113"/>
                    </a:lnTo>
                    <a:lnTo>
                      <a:pt x="700" y="1084"/>
                    </a:lnTo>
                    <a:lnTo>
                      <a:pt x="699" y="1055"/>
                    </a:lnTo>
                    <a:lnTo>
                      <a:pt x="698" y="1024"/>
                    </a:lnTo>
                    <a:lnTo>
                      <a:pt x="694" y="985"/>
                    </a:lnTo>
                    <a:lnTo>
                      <a:pt x="692" y="955"/>
                    </a:lnTo>
                    <a:lnTo>
                      <a:pt x="688" y="924"/>
                    </a:lnTo>
                    <a:lnTo>
                      <a:pt x="684" y="895"/>
                    </a:lnTo>
                    <a:lnTo>
                      <a:pt x="679" y="861"/>
                    </a:lnTo>
                    <a:lnTo>
                      <a:pt x="672" y="829"/>
                    </a:lnTo>
                    <a:lnTo>
                      <a:pt x="667" y="800"/>
                    </a:lnTo>
                    <a:lnTo>
                      <a:pt x="660" y="771"/>
                    </a:lnTo>
                    <a:lnTo>
                      <a:pt x="651" y="738"/>
                    </a:lnTo>
                    <a:lnTo>
                      <a:pt x="643" y="707"/>
                    </a:lnTo>
                    <a:lnTo>
                      <a:pt x="635" y="679"/>
                    </a:lnTo>
                    <a:lnTo>
                      <a:pt x="626" y="650"/>
                    </a:lnTo>
                    <a:lnTo>
                      <a:pt x="617" y="625"/>
                    </a:lnTo>
                    <a:lnTo>
                      <a:pt x="607" y="598"/>
                    </a:lnTo>
                    <a:lnTo>
                      <a:pt x="597" y="572"/>
                    </a:lnTo>
                    <a:lnTo>
                      <a:pt x="585" y="543"/>
                    </a:lnTo>
                    <a:lnTo>
                      <a:pt x="574" y="515"/>
                    </a:lnTo>
                    <a:lnTo>
                      <a:pt x="560" y="488"/>
                    </a:lnTo>
                    <a:lnTo>
                      <a:pt x="547" y="463"/>
                    </a:lnTo>
                    <a:lnTo>
                      <a:pt x="534" y="439"/>
                    </a:lnTo>
                    <a:lnTo>
                      <a:pt x="522" y="416"/>
                    </a:lnTo>
                    <a:lnTo>
                      <a:pt x="510" y="396"/>
                    </a:lnTo>
                    <a:lnTo>
                      <a:pt x="495" y="371"/>
                    </a:lnTo>
                    <a:lnTo>
                      <a:pt x="477" y="347"/>
                    </a:lnTo>
                    <a:lnTo>
                      <a:pt x="464" y="327"/>
                    </a:lnTo>
                    <a:lnTo>
                      <a:pt x="449" y="306"/>
                    </a:lnTo>
                    <a:lnTo>
                      <a:pt x="432" y="285"/>
                    </a:lnTo>
                    <a:lnTo>
                      <a:pt x="415" y="264"/>
                    </a:lnTo>
                    <a:lnTo>
                      <a:pt x="397" y="242"/>
                    </a:lnTo>
                    <a:lnTo>
                      <a:pt x="381" y="223"/>
                    </a:lnTo>
                    <a:lnTo>
                      <a:pt x="363" y="202"/>
                    </a:lnTo>
                    <a:lnTo>
                      <a:pt x="347" y="186"/>
                    </a:lnTo>
                    <a:lnTo>
                      <a:pt x="332" y="169"/>
                    </a:lnTo>
                    <a:lnTo>
                      <a:pt x="320" y="159"/>
                    </a:lnTo>
                    <a:lnTo>
                      <a:pt x="310" y="147"/>
                    </a:lnTo>
                    <a:lnTo>
                      <a:pt x="301" y="139"/>
                    </a:lnTo>
                    <a:lnTo>
                      <a:pt x="293" y="132"/>
                    </a:lnTo>
                    <a:lnTo>
                      <a:pt x="282" y="124"/>
                    </a:lnTo>
                    <a:lnTo>
                      <a:pt x="270" y="115"/>
                    </a:lnTo>
                    <a:lnTo>
                      <a:pt x="258" y="106"/>
                    </a:lnTo>
                    <a:lnTo>
                      <a:pt x="247" y="97"/>
                    </a:lnTo>
                    <a:lnTo>
                      <a:pt x="238" y="89"/>
                    </a:lnTo>
                    <a:lnTo>
                      <a:pt x="226" y="81"/>
                    </a:lnTo>
                    <a:lnTo>
                      <a:pt x="214" y="71"/>
                    </a:lnTo>
                    <a:lnTo>
                      <a:pt x="202" y="64"/>
                    </a:lnTo>
                    <a:lnTo>
                      <a:pt x="189" y="53"/>
                    </a:lnTo>
                    <a:lnTo>
                      <a:pt x="178" y="47"/>
                    </a:lnTo>
                    <a:lnTo>
                      <a:pt x="167" y="39"/>
                    </a:lnTo>
                    <a:lnTo>
                      <a:pt x="156" y="32"/>
                    </a:lnTo>
                    <a:lnTo>
                      <a:pt x="143" y="25"/>
                    </a:lnTo>
                    <a:lnTo>
                      <a:pt x="131" y="17"/>
                    </a:lnTo>
                    <a:lnTo>
                      <a:pt x="121" y="13"/>
                    </a:lnTo>
                    <a:lnTo>
                      <a:pt x="110" y="7"/>
                    </a:lnTo>
                  </a:path>
                </a:pathLst>
              </a:cu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84" name=""/>
              <p:cNvSpPr/>
              <p:nvPr/>
            </p:nvSpPr>
            <p:spPr>
              <a:xfrm rot="4260000">
                <a:off x="6361920" y="1787760"/>
                <a:ext cx="92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vantGarde"/>
                  </a:rPr>
                  <a:t>Action</a:t>
                </a:r>
                <a:endParaRPr b="0" lang="en-US" sz="1800" spc="-1" strike="noStrike">
                  <a:solidFill>
                    <a:srgbClr val="f8f8f8"/>
                  </a:solidFill>
                  <a:latin typeface="Times New Roman"/>
                </a:endParaRPr>
              </a:p>
            </p:txBody>
          </p:sp>
        </p:grpSp>
      </p:grpSp>
      <p:grpSp>
        <p:nvGrpSpPr>
          <p:cNvPr id="185" name=""/>
          <p:cNvGrpSpPr/>
          <p:nvPr/>
        </p:nvGrpSpPr>
        <p:grpSpPr>
          <a:xfrm>
            <a:off x="2571120" y="1189080"/>
            <a:ext cx="3124800" cy="3205080"/>
            <a:chOff x="2571120" y="1189080"/>
            <a:chExt cx="3124800" cy="3205080"/>
          </a:xfrm>
        </p:grpSpPr>
        <p:grpSp>
          <p:nvGrpSpPr>
            <p:cNvPr id="186" name=""/>
            <p:cNvGrpSpPr/>
            <p:nvPr/>
          </p:nvGrpSpPr>
          <p:grpSpPr>
            <a:xfrm>
              <a:off x="2571120" y="2500200"/>
              <a:ext cx="1523160" cy="1806840"/>
              <a:chOff x="2571120" y="2500200"/>
              <a:chExt cx="1523160" cy="1806840"/>
            </a:xfrm>
          </p:grpSpPr>
          <p:sp>
            <p:nvSpPr>
              <p:cNvPr id="187" name=""/>
              <p:cNvSpPr/>
              <p:nvPr/>
            </p:nvSpPr>
            <p:spPr>
              <a:xfrm>
                <a:off x="2708280" y="2500200"/>
                <a:ext cx="1386000" cy="1806840"/>
              </a:xfrm>
              <a:custGeom>
                <a:avLst/>
                <a:gdLst/>
                <a:ahLst/>
                <a:rect l="l" t="t" r="r" b="b"/>
                <a:pathLst>
                  <a:path w="873" h="1248">
                    <a:moveTo>
                      <a:pt x="789" y="1243"/>
                    </a:moveTo>
                    <a:lnTo>
                      <a:pt x="807" y="1247"/>
                    </a:lnTo>
                    <a:lnTo>
                      <a:pt x="872" y="1081"/>
                    </a:lnTo>
                    <a:lnTo>
                      <a:pt x="854" y="1074"/>
                    </a:lnTo>
                    <a:lnTo>
                      <a:pt x="840" y="1070"/>
                    </a:lnTo>
                    <a:lnTo>
                      <a:pt x="826" y="1064"/>
                    </a:lnTo>
                    <a:lnTo>
                      <a:pt x="807" y="1058"/>
                    </a:lnTo>
                    <a:lnTo>
                      <a:pt x="791" y="1051"/>
                    </a:lnTo>
                    <a:lnTo>
                      <a:pt x="775" y="1045"/>
                    </a:lnTo>
                    <a:lnTo>
                      <a:pt x="762" y="1038"/>
                    </a:lnTo>
                    <a:lnTo>
                      <a:pt x="745" y="1031"/>
                    </a:lnTo>
                    <a:lnTo>
                      <a:pt x="731" y="1024"/>
                    </a:lnTo>
                    <a:lnTo>
                      <a:pt x="714" y="1015"/>
                    </a:lnTo>
                    <a:lnTo>
                      <a:pt x="699" y="1008"/>
                    </a:lnTo>
                    <a:lnTo>
                      <a:pt x="684" y="998"/>
                    </a:lnTo>
                    <a:lnTo>
                      <a:pt x="670" y="989"/>
                    </a:lnTo>
                    <a:lnTo>
                      <a:pt x="658" y="982"/>
                    </a:lnTo>
                    <a:lnTo>
                      <a:pt x="647" y="974"/>
                    </a:lnTo>
                    <a:lnTo>
                      <a:pt x="633" y="966"/>
                    </a:lnTo>
                    <a:lnTo>
                      <a:pt x="620" y="956"/>
                    </a:lnTo>
                    <a:lnTo>
                      <a:pt x="606" y="946"/>
                    </a:lnTo>
                    <a:lnTo>
                      <a:pt x="593" y="936"/>
                    </a:lnTo>
                    <a:lnTo>
                      <a:pt x="583" y="930"/>
                    </a:lnTo>
                    <a:lnTo>
                      <a:pt x="573" y="921"/>
                    </a:lnTo>
                    <a:lnTo>
                      <a:pt x="557" y="909"/>
                    </a:lnTo>
                    <a:lnTo>
                      <a:pt x="543" y="896"/>
                    </a:lnTo>
                    <a:lnTo>
                      <a:pt x="525" y="881"/>
                    </a:lnTo>
                    <a:lnTo>
                      <a:pt x="509" y="866"/>
                    </a:lnTo>
                    <a:lnTo>
                      <a:pt x="491" y="850"/>
                    </a:lnTo>
                    <a:lnTo>
                      <a:pt x="475" y="834"/>
                    </a:lnTo>
                    <a:lnTo>
                      <a:pt x="459" y="814"/>
                    </a:lnTo>
                    <a:lnTo>
                      <a:pt x="446" y="799"/>
                    </a:lnTo>
                    <a:lnTo>
                      <a:pt x="433" y="783"/>
                    </a:lnTo>
                    <a:lnTo>
                      <a:pt x="419" y="764"/>
                    </a:lnTo>
                    <a:lnTo>
                      <a:pt x="404" y="744"/>
                    </a:lnTo>
                    <a:lnTo>
                      <a:pt x="389" y="722"/>
                    </a:lnTo>
                    <a:lnTo>
                      <a:pt x="376" y="703"/>
                    </a:lnTo>
                    <a:lnTo>
                      <a:pt x="362" y="680"/>
                    </a:lnTo>
                    <a:lnTo>
                      <a:pt x="347" y="656"/>
                    </a:lnTo>
                    <a:lnTo>
                      <a:pt x="337" y="634"/>
                    </a:lnTo>
                    <a:lnTo>
                      <a:pt x="326" y="612"/>
                    </a:lnTo>
                    <a:lnTo>
                      <a:pt x="316" y="591"/>
                    </a:lnTo>
                    <a:lnTo>
                      <a:pt x="307" y="572"/>
                    </a:lnTo>
                    <a:lnTo>
                      <a:pt x="298" y="549"/>
                    </a:lnTo>
                    <a:lnTo>
                      <a:pt x="290" y="528"/>
                    </a:lnTo>
                    <a:lnTo>
                      <a:pt x="283" y="506"/>
                    </a:lnTo>
                    <a:lnTo>
                      <a:pt x="275" y="482"/>
                    </a:lnTo>
                    <a:lnTo>
                      <a:pt x="268" y="462"/>
                    </a:lnTo>
                    <a:lnTo>
                      <a:pt x="262" y="437"/>
                    </a:lnTo>
                    <a:lnTo>
                      <a:pt x="256" y="412"/>
                    </a:lnTo>
                    <a:lnTo>
                      <a:pt x="250" y="387"/>
                    </a:lnTo>
                    <a:lnTo>
                      <a:pt x="246" y="361"/>
                    </a:lnTo>
                    <a:lnTo>
                      <a:pt x="241" y="334"/>
                    </a:lnTo>
                    <a:lnTo>
                      <a:pt x="239" y="310"/>
                    </a:lnTo>
                    <a:lnTo>
                      <a:pt x="237" y="285"/>
                    </a:lnTo>
                    <a:lnTo>
                      <a:pt x="236" y="256"/>
                    </a:lnTo>
                    <a:lnTo>
                      <a:pt x="236" y="232"/>
                    </a:lnTo>
                    <a:lnTo>
                      <a:pt x="236" y="203"/>
                    </a:lnTo>
                    <a:lnTo>
                      <a:pt x="298" y="203"/>
                    </a:lnTo>
                    <a:lnTo>
                      <a:pt x="155" y="0"/>
                    </a:lnTo>
                    <a:lnTo>
                      <a:pt x="0" y="203"/>
                    </a:lnTo>
                    <a:lnTo>
                      <a:pt x="59" y="203"/>
                    </a:lnTo>
                    <a:lnTo>
                      <a:pt x="59" y="235"/>
                    </a:lnTo>
                    <a:lnTo>
                      <a:pt x="60" y="265"/>
                    </a:lnTo>
                    <a:lnTo>
                      <a:pt x="62" y="295"/>
                    </a:lnTo>
                    <a:lnTo>
                      <a:pt x="64" y="322"/>
                    </a:lnTo>
                    <a:lnTo>
                      <a:pt x="66" y="348"/>
                    </a:lnTo>
                    <a:lnTo>
                      <a:pt x="69" y="373"/>
                    </a:lnTo>
                    <a:lnTo>
                      <a:pt x="74" y="400"/>
                    </a:lnTo>
                    <a:lnTo>
                      <a:pt x="78" y="424"/>
                    </a:lnTo>
                    <a:lnTo>
                      <a:pt x="82" y="446"/>
                    </a:lnTo>
                    <a:lnTo>
                      <a:pt x="88" y="471"/>
                    </a:lnTo>
                    <a:lnTo>
                      <a:pt x="95" y="503"/>
                    </a:lnTo>
                    <a:lnTo>
                      <a:pt x="102" y="526"/>
                    </a:lnTo>
                    <a:lnTo>
                      <a:pt x="109" y="550"/>
                    </a:lnTo>
                    <a:lnTo>
                      <a:pt x="117" y="573"/>
                    </a:lnTo>
                    <a:lnTo>
                      <a:pt x="127" y="600"/>
                    </a:lnTo>
                    <a:lnTo>
                      <a:pt x="136" y="625"/>
                    </a:lnTo>
                    <a:lnTo>
                      <a:pt x="146" y="648"/>
                    </a:lnTo>
                    <a:lnTo>
                      <a:pt x="156" y="670"/>
                    </a:lnTo>
                    <a:lnTo>
                      <a:pt x="169" y="696"/>
                    </a:lnTo>
                    <a:lnTo>
                      <a:pt x="181" y="720"/>
                    </a:lnTo>
                    <a:lnTo>
                      <a:pt x="193" y="743"/>
                    </a:lnTo>
                    <a:lnTo>
                      <a:pt x="205" y="764"/>
                    </a:lnTo>
                    <a:lnTo>
                      <a:pt x="217" y="785"/>
                    </a:lnTo>
                    <a:lnTo>
                      <a:pt x="230" y="806"/>
                    </a:lnTo>
                    <a:lnTo>
                      <a:pt x="243" y="825"/>
                    </a:lnTo>
                    <a:lnTo>
                      <a:pt x="258" y="848"/>
                    </a:lnTo>
                    <a:lnTo>
                      <a:pt x="273" y="869"/>
                    </a:lnTo>
                    <a:lnTo>
                      <a:pt x="289" y="889"/>
                    </a:lnTo>
                    <a:lnTo>
                      <a:pt x="305" y="908"/>
                    </a:lnTo>
                    <a:lnTo>
                      <a:pt x="320" y="927"/>
                    </a:lnTo>
                    <a:lnTo>
                      <a:pt x="336" y="944"/>
                    </a:lnTo>
                    <a:lnTo>
                      <a:pt x="350" y="959"/>
                    </a:lnTo>
                    <a:lnTo>
                      <a:pt x="368" y="979"/>
                    </a:lnTo>
                    <a:lnTo>
                      <a:pt x="388" y="996"/>
                    </a:lnTo>
                    <a:lnTo>
                      <a:pt x="403" y="1011"/>
                    </a:lnTo>
                    <a:lnTo>
                      <a:pt x="421" y="1027"/>
                    </a:lnTo>
                    <a:lnTo>
                      <a:pt x="439" y="1042"/>
                    </a:lnTo>
                    <a:lnTo>
                      <a:pt x="459" y="1059"/>
                    </a:lnTo>
                    <a:lnTo>
                      <a:pt x="478" y="1074"/>
                    </a:lnTo>
                    <a:lnTo>
                      <a:pt x="497" y="1088"/>
                    </a:lnTo>
                    <a:lnTo>
                      <a:pt x="517" y="1104"/>
                    </a:lnTo>
                    <a:lnTo>
                      <a:pt x="535" y="1116"/>
                    </a:lnTo>
                    <a:lnTo>
                      <a:pt x="552" y="1128"/>
                    </a:lnTo>
                    <a:lnTo>
                      <a:pt x="565" y="1136"/>
                    </a:lnTo>
                    <a:lnTo>
                      <a:pt x="576" y="1144"/>
                    </a:lnTo>
                    <a:lnTo>
                      <a:pt x="586" y="1151"/>
                    </a:lnTo>
                    <a:lnTo>
                      <a:pt x="595" y="1155"/>
                    </a:lnTo>
                    <a:lnTo>
                      <a:pt x="606" y="1162"/>
                    </a:lnTo>
                    <a:lnTo>
                      <a:pt x="619" y="1167"/>
                    </a:lnTo>
                    <a:lnTo>
                      <a:pt x="632" y="1173"/>
                    </a:lnTo>
                    <a:lnTo>
                      <a:pt x="644" y="1180"/>
                    </a:lnTo>
                    <a:lnTo>
                      <a:pt x="654" y="1185"/>
                    </a:lnTo>
                    <a:lnTo>
                      <a:pt x="666" y="1192"/>
                    </a:lnTo>
                    <a:lnTo>
                      <a:pt x="679" y="1198"/>
                    </a:lnTo>
                    <a:lnTo>
                      <a:pt x="692" y="1204"/>
                    </a:lnTo>
                    <a:lnTo>
                      <a:pt x="706" y="1211"/>
                    </a:lnTo>
                    <a:lnTo>
                      <a:pt x="718" y="1216"/>
                    </a:lnTo>
                    <a:lnTo>
                      <a:pt x="728" y="1221"/>
                    </a:lnTo>
                    <a:lnTo>
                      <a:pt x="741" y="1225"/>
                    </a:lnTo>
                    <a:lnTo>
                      <a:pt x="754" y="1231"/>
                    </a:lnTo>
                    <a:lnTo>
                      <a:pt x="767" y="1235"/>
                    </a:lnTo>
                    <a:lnTo>
                      <a:pt x="777" y="1238"/>
                    </a:lnTo>
                    <a:lnTo>
                      <a:pt x="789" y="1243"/>
                    </a:lnTo>
                  </a:path>
                </a:pathLst>
              </a:custGeom>
              <a:solidFill>
                <a:srgbClr val="99ff66"/>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88" name=""/>
              <p:cNvSpPr/>
              <p:nvPr/>
            </p:nvSpPr>
            <p:spPr>
              <a:xfrm>
                <a:off x="2571120" y="3279600"/>
                <a:ext cx="1235160" cy="397440"/>
              </a:xfrm>
              <a:prstGeom prst="rect">
                <a:avLst/>
              </a:prstGeom>
              <a:solidFill>
                <a:srgbClr val="ffcc00"/>
              </a:solidFill>
              <a:ln w="12600">
                <a:solidFill>
                  <a:srgbClr val="cc3300"/>
                </a:solidFill>
                <a:miter/>
              </a:ln>
              <a:effectLst>
                <a:outerShdw dist="107932" dir="2700000" blurRad="0" rotWithShape="0">
                  <a:srgbClr val="cc33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vantGarde"/>
                  </a:rPr>
                  <a:t>Analysis</a:t>
                </a:r>
                <a:endParaRPr b="0" lang="en-US" sz="2000" spc="-1" strike="noStrike">
                  <a:solidFill>
                    <a:srgbClr val="f8f8f8"/>
                  </a:solidFill>
                  <a:latin typeface="Times New Roman"/>
                </a:endParaRPr>
              </a:p>
            </p:txBody>
          </p:sp>
        </p:grpSp>
        <p:grpSp>
          <p:nvGrpSpPr>
            <p:cNvPr id="189" name=""/>
            <p:cNvGrpSpPr/>
            <p:nvPr/>
          </p:nvGrpSpPr>
          <p:grpSpPr>
            <a:xfrm>
              <a:off x="2894040" y="1189080"/>
              <a:ext cx="1974960" cy="1238040"/>
              <a:chOff x="2894040" y="1189080"/>
              <a:chExt cx="1974960" cy="1238040"/>
            </a:xfrm>
          </p:grpSpPr>
          <p:sp>
            <p:nvSpPr>
              <p:cNvPr id="190" name=""/>
              <p:cNvSpPr/>
              <p:nvPr/>
            </p:nvSpPr>
            <p:spPr>
              <a:xfrm>
                <a:off x="2894040" y="1189080"/>
                <a:ext cx="1974960" cy="1238040"/>
              </a:xfrm>
              <a:custGeom>
                <a:avLst/>
                <a:gdLst/>
                <a:ahLst/>
                <a:rect l="l" t="t" r="r" b="b"/>
                <a:pathLst>
                  <a:path w="1244" h="855">
                    <a:moveTo>
                      <a:pt x="0" y="789"/>
                    </a:moveTo>
                    <a:lnTo>
                      <a:pt x="169" y="854"/>
                    </a:lnTo>
                    <a:lnTo>
                      <a:pt x="173" y="840"/>
                    </a:lnTo>
                    <a:lnTo>
                      <a:pt x="179" y="825"/>
                    </a:lnTo>
                    <a:lnTo>
                      <a:pt x="185" y="807"/>
                    </a:lnTo>
                    <a:lnTo>
                      <a:pt x="192" y="791"/>
                    </a:lnTo>
                    <a:lnTo>
                      <a:pt x="198" y="775"/>
                    </a:lnTo>
                    <a:lnTo>
                      <a:pt x="205" y="762"/>
                    </a:lnTo>
                    <a:lnTo>
                      <a:pt x="212" y="744"/>
                    </a:lnTo>
                    <a:lnTo>
                      <a:pt x="219" y="730"/>
                    </a:lnTo>
                    <a:lnTo>
                      <a:pt x="227" y="714"/>
                    </a:lnTo>
                    <a:lnTo>
                      <a:pt x="235" y="699"/>
                    </a:lnTo>
                    <a:lnTo>
                      <a:pt x="245" y="684"/>
                    </a:lnTo>
                    <a:lnTo>
                      <a:pt x="253" y="670"/>
                    </a:lnTo>
                    <a:lnTo>
                      <a:pt x="261" y="658"/>
                    </a:lnTo>
                    <a:lnTo>
                      <a:pt x="268" y="646"/>
                    </a:lnTo>
                    <a:lnTo>
                      <a:pt x="277" y="633"/>
                    </a:lnTo>
                    <a:lnTo>
                      <a:pt x="287" y="620"/>
                    </a:lnTo>
                    <a:lnTo>
                      <a:pt x="296" y="606"/>
                    </a:lnTo>
                    <a:lnTo>
                      <a:pt x="306" y="593"/>
                    </a:lnTo>
                    <a:lnTo>
                      <a:pt x="313" y="583"/>
                    </a:lnTo>
                    <a:lnTo>
                      <a:pt x="321" y="571"/>
                    </a:lnTo>
                    <a:lnTo>
                      <a:pt x="333" y="557"/>
                    </a:lnTo>
                    <a:lnTo>
                      <a:pt x="346" y="543"/>
                    </a:lnTo>
                    <a:lnTo>
                      <a:pt x="361" y="525"/>
                    </a:lnTo>
                    <a:lnTo>
                      <a:pt x="377" y="508"/>
                    </a:lnTo>
                    <a:lnTo>
                      <a:pt x="393" y="491"/>
                    </a:lnTo>
                    <a:lnTo>
                      <a:pt x="409" y="475"/>
                    </a:lnTo>
                    <a:lnTo>
                      <a:pt x="428" y="459"/>
                    </a:lnTo>
                    <a:lnTo>
                      <a:pt x="444" y="446"/>
                    </a:lnTo>
                    <a:lnTo>
                      <a:pt x="460" y="433"/>
                    </a:lnTo>
                    <a:lnTo>
                      <a:pt x="478" y="419"/>
                    </a:lnTo>
                    <a:lnTo>
                      <a:pt x="499" y="404"/>
                    </a:lnTo>
                    <a:lnTo>
                      <a:pt x="520" y="388"/>
                    </a:lnTo>
                    <a:lnTo>
                      <a:pt x="540" y="375"/>
                    </a:lnTo>
                    <a:lnTo>
                      <a:pt x="563" y="361"/>
                    </a:lnTo>
                    <a:lnTo>
                      <a:pt x="586" y="347"/>
                    </a:lnTo>
                    <a:lnTo>
                      <a:pt x="609" y="336"/>
                    </a:lnTo>
                    <a:lnTo>
                      <a:pt x="631" y="326"/>
                    </a:lnTo>
                    <a:lnTo>
                      <a:pt x="651" y="316"/>
                    </a:lnTo>
                    <a:lnTo>
                      <a:pt x="671" y="307"/>
                    </a:lnTo>
                    <a:lnTo>
                      <a:pt x="694" y="298"/>
                    </a:lnTo>
                    <a:lnTo>
                      <a:pt x="715" y="290"/>
                    </a:lnTo>
                    <a:lnTo>
                      <a:pt x="737" y="282"/>
                    </a:lnTo>
                    <a:lnTo>
                      <a:pt x="761" y="275"/>
                    </a:lnTo>
                    <a:lnTo>
                      <a:pt x="781" y="268"/>
                    </a:lnTo>
                    <a:lnTo>
                      <a:pt x="806" y="262"/>
                    </a:lnTo>
                    <a:lnTo>
                      <a:pt x="831" y="255"/>
                    </a:lnTo>
                    <a:lnTo>
                      <a:pt x="856" y="250"/>
                    </a:lnTo>
                    <a:lnTo>
                      <a:pt x="882" y="246"/>
                    </a:lnTo>
                    <a:lnTo>
                      <a:pt x="909" y="241"/>
                    </a:lnTo>
                    <a:lnTo>
                      <a:pt x="933" y="239"/>
                    </a:lnTo>
                    <a:lnTo>
                      <a:pt x="958" y="237"/>
                    </a:lnTo>
                    <a:lnTo>
                      <a:pt x="987" y="236"/>
                    </a:lnTo>
                    <a:lnTo>
                      <a:pt x="1011" y="236"/>
                    </a:lnTo>
                    <a:lnTo>
                      <a:pt x="1040" y="236"/>
                    </a:lnTo>
                    <a:lnTo>
                      <a:pt x="1040" y="298"/>
                    </a:lnTo>
                    <a:lnTo>
                      <a:pt x="1243" y="155"/>
                    </a:lnTo>
                    <a:lnTo>
                      <a:pt x="1040" y="0"/>
                    </a:lnTo>
                    <a:lnTo>
                      <a:pt x="1040" y="58"/>
                    </a:lnTo>
                    <a:lnTo>
                      <a:pt x="1007" y="58"/>
                    </a:lnTo>
                    <a:lnTo>
                      <a:pt x="978" y="60"/>
                    </a:lnTo>
                    <a:lnTo>
                      <a:pt x="948" y="62"/>
                    </a:lnTo>
                    <a:lnTo>
                      <a:pt x="921" y="64"/>
                    </a:lnTo>
                    <a:lnTo>
                      <a:pt x="895" y="66"/>
                    </a:lnTo>
                    <a:lnTo>
                      <a:pt x="870" y="69"/>
                    </a:lnTo>
                    <a:lnTo>
                      <a:pt x="843" y="74"/>
                    </a:lnTo>
                    <a:lnTo>
                      <a:pt x="819" y="78"/>
                    </a:lnTo>
                    <a:lnTo>
                      <a:pt x="796" y="82"/>
                    </a:lnTo>
                    <a:lnTo>
                      <a:pt x="771" y="88"/>
                    </a:lnTo>
                    <a:lnTo>
                      <a:pt x="740" y="95"/>
                    </a:lnTo>
                    <a:lnTo>
                      <a:pt x="716" y="102"/>
                    </a:lnTo>
                    <a:lnTo>
                      <a:pt x="692" y="109"/>
                    </a:lnTo>
                    <a:lnTo>
                      <a:pt x="670" y="117"/>
                    </a:lnTo>
                    <a:lnTo>
                      <a:pt x="643" y="127"/>
                    </a:lnTo>
                    <a:lnTo>
                      <a:pt x="618" y="136"/>
                    </a:lnTo>
                    <a:lnTo>
                      <a:pt x="595" y="146"/>
                    </a:lnTo>
                    <a:lnTo>
                      <a:pt x="572" y="156"/>
                    </a:lnTo>
                    <a:lnTo>
                      <a:pt x="546" y="169"/>
                    </a:lnTo>
                    <a:lnTo>
                      <a:pt x="523" y="181"/>
                    </a:lnTo>
                    <a:lnTo>
                      <a:pt x="500" y="191"/>
                    </a:lnTo>
                    <a:lnTo>
                      <a:pt x="478" y="204"/>
                    </a:lnTo>
                    <a:lnTo>
                      <a:pt x="458" y="215"/>
                    </a:lnTo>
                    <a:lnTo>
                      <a:pt x="437" y="229"/>
                    </a:lnTo>
                    <a:lnTo>
                      <a:pt x="418" y="242"/>
                    </a:lnTo>
                    <a:lnTo>
                      <a:pt x="395" y="257"/>
                    </a:lnTo>
                    <a:lnTo>
                      <a:pt x="373" y="273"/>
                    </a:lnTo>
                    <a:lnTo>
                      <a:pt x="354" y="289"/>
                    </a:lnTo>
                    <a:lnTo>
                      <a:pt x="334" y="305"/>
                    </a:lnTo>
                    <a:lnTo>
                      <a:pt x="316" y="320"/>
                    </a:lnTo>
                    <a:lnTo>
                      <a:pt x="299" y="335"/>
                    </a:lnTo>
                    <a:lnTo>
                      <a:pt x="284" y="349"/>
                    </a:lnTo>
                    <a:lnTo>
                      <a:pt x="264" y="368"/>
                    </a:lnTo>
                    <a:lnTo>
                      <a:pt x="247" y="387"/>
                    </a:lnTo>
                    <a:lnTo>
                      <a:pt x="232" y="402"/>
                    </a:lnTo>
                    <a:lnTo>
                      <a:pt x="215" y="421"/>
                    </a:lnTo>
                    <a:lnTo>
                      <a:pt x="200" y="439"/>
                    </a:lnTo>
                    <a:lnTo>
                      <a:pt x="184" y="459"/>
                    </a:lnTo>
                    <a:lnTo>
                      <a:pt x="169" y="478"/>
                    </a:lnTo>
                    <a:lnTo>
                      <a:pt x="155" y="497"/>
                    </a:lnTo>
                    <a:lnTo>
                      <a:pt x="139" y="517"/>
                    </a:lnTo>
                    <a:lnTo>
                      <a:pt x="127" y="534"/>
                    </a:lnTo>
                    <a:lnTo>
                      <a:pt x="115" y="552"/>
                    </a:lnTo>
                    <a:lnTo>
                      <a:pt x="107" y="564"/>
                    </a:lnTo>
                    <a:lnTo>
                      <a:pt x="98" y="576"/>
                    </a:lnTo>
                    <a:lnTo>
                      <a:pt x="92" y="585"/>
                    </a:lnTo>
                    <a:lnTo>
                      <a:pt x="88" y="595"/>
                    </a:lnTo>
                    <a:lnTo>
                      <a:pt x="81" y="606"/>
                    </a:lnTo>
                    <a:lnTo>
                      <a:pt x="76" y="619"/>
                    </a:lnTo>
                    <a:lnTo>
                      <a:pt x="69" y="632"/>
                    </a:lnTo>
                    <a:lnTo>
                      <a:pt x="63" y="643"/>
                    </a:lnTo>
                    <a:lnTo>
                      <a:pt x="57" y="652"/>
                    </a:lnTo>
                    <a:lnTo>
                      <a:pt x="51" y="665"/>
                    </a:lnTo>
                    <a:lnTo>
                      <a:pt x="44" y="678"/>
                    </a:lnTo>
                    <a:lnTo>
                      <a:pt x="39" y="691"/>
                    </a:lnTo>
                    <a:lnTo>
                      <a:pt x="31" y="705"/>
                    </a:lnTo>
                    <a:lnTo>
                      <a:pt x="27" y="717"/>
                    </a:lnTo>
                    <a:lnTo>
                      <a:pt x="22" y="728"/>
                    </a:lnTo>
                    <a:lnTo>
                      <a:pt x="17" y="741"/>
                    </a:lnTo>
                    <a:lnTo>
                      <a:pt x="12" y="754"/>
                    </a:lnTo>
                    <a:lnTo>
                      <a:pt x="8" y="767"/>
                    </a:lnTo>
                    <a:lnTo>
                      <a:pt x="4" y="777"/>
                    </a:lnTo>
                    <a:lnTo>
                      <a:pt x="0" y="789"/>
                    </a:lnTo>
                  </a:path>
                </a:pathLst>
              </a:cu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91" name=""/>
              <p:cNvSpPr/>
              <p:nvPr/>
            </p:nvSpPr>
            <p:spPr>
              <a:xfrm>
                <a:off x="3197160" y="1494000"/>
                <a:ext cx="1003320" cy="397440"/>
              </a:xfrm>
              <a:prstGeom prst="rect">
                <a:avLst/>
              </a:prstGeom>
              <a:solidFill>
                <a:srgbClr val="ffcc00"/>
              </a:solidFill>
              <a:ln w="12600">
                <a:solidFill>
                  <a:srgbClr val="cc3300"/>
                </a:solidFill>
                <a:miter/>
              </a:ln>
              <a:effectLst>
                <a:outerShdw dist="107932" dir="2700000" blurRad="0" rotWithShape="0">
                  <a:srgbClr val="cc33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vantGarde"/>
                  </a:rPr>
                  <a:t>Action</a:t>
                </a:r>
                <a:endParaRPr b="0" lang="en-US" sz="2000" spc="-1" strike="noStrike">
                  <a:solidFill>
                    <a:srgbClr val="f8f8f8"/>
                  </a:solidFill>
                  <a:latin typeface="Times New Roman"/>
                </a:endParaRPr>
              </a:p>
            </p:txBody>
          </p:sp>
        </p:grpSp>
        <p:grpSp>
          <p:nvGrpSpPr>
            <p:cNvPr id="192" name=""/>
            <p:cNvGrpSpPr/>
            <p:nvPr/>
          </p:nvGrpSpPr>
          <p:grpSpPr>
            <a:xfrm>
              <a:off x="4000680" y="2906640"/>
              <a:ext cx="1695240" cy="1487520"/>
              <a:chOff x="4000680" y="2906640"/>
              <a:chExt cx="1695240" cy="1487520"/>
            </a:xfrm>
          </p:grpSpPr>
          <p:sp>
            <p:nvSpPr>
              <p:cNvPr id="193" name=""/>
              <p:cNvSpPr/>
              <p:nvPr/>
            </p:nvSpPr>
            <p:spPr>
              <a:xfrm>
                <a:off x="4376880" y="2906640"/>
                <a:ext cx="930240" cy="1487520"/>
              </a:xfrm>
              <a:custGeom>
                <a:avLst/>
                <a:gdLst/>
                <a:ahLst/>
                <a:rect l="l" t="t" r="r" b="b"/>
                <a:pathLst>
                  <a:path w="586" h="1027">
                    <a:moveTo>
                      <a:pt x="583" y="49"/>
                    </a:moveTo>
                    <a:lnTo>
                      <a:pt x="469" y="0"/>
                    </a:lnTo>
                    <a:lnTo>
                      <a:pt x="469" y="16"/>
                    </a:lnTo>
                    <a:lnTo>
                      <a:pt x="470" y="31"/>
                    </a:lnTo>
                    <a:lnTo>
                      <a:pt x="470" y="52"/>
                    </a:lnTo>
                    <a:lnTo>
                      <a:pt x="470" y="70"/>
                    </a:lnTo>
                    <a:lnTo>
                      <a:pt x="470" y="88"/>
                    </a:lnTo>
                    <a:lnTo>
                      <a:pt x="469" y="103"/>
                    </a:lnTo>
                    <a:lnTo>
                      <a:pt x="468" y="122"/>
                    </a:lnTo>
                    <a:lnTo>
                      <a:pt x="468" y="138"/>
                    </a:lnTo>
                    <a:lnTo>
                      <a:pt x="467" y="157"/>
                    </a:lnTo>
                    <a:lnTo>
                      <a:pt x="466" y="174"/>
                    </a:lnTo>
                    <a:lnTo>
                      <a:pt x="463" y="192"/>
                    </a:lnTo>
                    <a:lnTo>
                      <a:pt x="462" y="208"/>
                    </a:lnTo>
                    <a:lnTo>
                      <a:pt x="460" y="222"/>
                    </a:lnTo>
                    <a:lnTo>
                      <a:pt x="459" y="235"/>
                    </a:lnTo>
                    <a:lnTo>
                      <a:pt x="456" y="251"/>
                    </a:lnTo>
                    <a:lnTo>
                      <a:pt x="454" y="265"/>
                    </a:lnTo>
                    <a:lnTo>
                      <a:pt x="451" y="282"/>
                    </a:lnTo>
                    <a:lnTo>
                      <a:pt x="449" y="297"/>
                    </a:lnTo>
                    <a:lnTo>
                      <a:pt x="447" y="309"/>
                    </a:lnTo>
                    <a:lnTo>
                      <a:pt x="445" y="322"/>
                    </a:lnTo>
                    <a:lnTo>
                      <a:pt x="441" y="339"/>
                    </a:lnTo>
                    <a:lnTo>
                      <a:pt x="436" y="355"/>
                    </a:lnTo>
                    <a:lnTo>
                      <a:pt x="432" y="376"/>
                    </a:lnTo>
                    <a:lnTo>
                      <a:pt x="427" y="396"/>
                    </a:lnTo>
                    <a:lnTo>
                      <a:pt x="422" y="417"/>
                    </a:lnTo>
                    <a:lnTo>
                      <a:pt x="415" y="436"/>
                    </a:lnTo>
                    <a:lnTo>
                      <a:pt x="408" y="456"/>
                    </a:lnTo>
                    <a:lnTo>
                      <a:pt x="402" y="471"/>
                    </a:lnTo>
                    <a:lnTo>
                      <a:pt x="396" y="488"/>
                    </a:lnTo>
                    <a:lnTo>
                      <a:pt x="388" y="505"/>
                    </a:lnTo>
                    <a:lnTo>
                      <a:pt x="380" y="524"/>
                    </a:lnTo>
                    <a:lnTo>
                      <a:pt x="370" y="542"/>
                    </a:lnTo>
                    <a:lnTo>
                      <a:pt x="361" y="559"/>
                    </a:lnTo>
                    <a:lnTo>
                      <a:pt x="351" y="577"/>
                    </a:lnTo>
                    <a:lnTo>
                      <a:pt x="341" y="595"/>
                    </a:lnTo>
                    <a:lnTo>
                      <a:pt x="330" y="609"/>
                    </a:lnTo>
                    <a:lnTo>
                      <a:pt x="320" y="624"/>
                    </a:lnTo>
                    <a:lnTo>
                      <a:pt x="310" y="637"/>
                    </a:lnTo>
                    <a:lnTo>
                      <a:pt x="301" y="648"/>
                    </a:lnTo>
                    <a:lnTo>
                      <a:pt x="290" y="661"/>
                    </a:lnTo>
                    <a:lnTo>
                      <a:pt x="279" y="673"/>
                    </a:lnTo>
                    <a:lnTo>
                      <a:pt x="268" y="682"/>
                    </a:lnTo>
                    <a:lnTo>
                      <a:pt x="256" y="695"/>
                    </a:lnTo>
                    <a:lnTo>
                      <a:pt x="245" y="703"/>
                    </a:lnTo>
                    <a:lnTo>
                      <a:pt x="232" y="714"/>
                    </a:lnTo>
                    <a:lnTo>
                      <a:pt x="218" y="723"/>
                    </a:lnTo>
                    <a:lnTo>
                      <a:pt x="206" y="733"/>
                    </a:lnTo>
                    <a:lnTo>
                      <a:pt x="191" y="740"/>
                    </a:lnTo>
                    <a:lnTo>
                      <a:pt x="176" y="748"/>
                    </a:lnTo>
                    <a:lnTo>
                      <a:pt x="163" y="754"/>
                    </a:lnTo>
                    <a:lnTo>
                      <a:pt x="148" y="760"/>
                    </a:lnTo>
                    <a:lnTo>
                      <a:pt x="132" y="764"/>
                    </a:lnTo>
                    <a:lnTo>
                      <a:pt x="118" y="767"/>
                    </a:lnTo>
                    <a:lnTo>
                      <a:pt x="101" y="770"/>
                    </a:lnTo>
                    <a:lnTo>
                      <a:pt x="86" y="704"/>
                    </a:lnTo>
                    <a:lnTo>
                      <a:pt x="0" y="883"/>
                    </a:lnTo>
                    <a:lnTo>
                      <a:pt x="156" y="1026"/>
                    </a:lnTo>
                    <a:lnTo>
                      <a:pt x="142" y="960"/>
                    </a:lnTo>
                    <a:lnTo>
                      <a:pt x="161" y="957"/>
                    </a:lnTo>
                    <a:lnTo>
                      <a:pt x="178" y="952"/>
                    </a:lnTo>
                    <a:lnTo>
                      <a:pt x="195" y="946"/>
                    </a:lnTo>
                    <a:lnTo>
                      <a:pt x="211" y="941"/>
                    </a:lnTo>
                    <a:lnTo>
                      <a:pt x="225" y="935"/>
                    </a:lnTo>
                    <a:lnTo>
                      <a:pt x="239" y="929"/>
                    </a:lnTo>
                    <a:lnTo>
                      <a:pt x="254" y="920"/>
                    </a:lnTo>
                    <a:lnTo>
                      <a:pt x="267" y="914"/>
                    </a:lnTo>
                    <a:lnTo>
                      <a:pt x="279" y="906"/>
                    </a:lnTo>
                    <a:lnTo>
                      <a:pt x="292" y="897"/>
                    </a:lnTo>
                    <a:lnTo>
                      <a:pt x="309" y="885"/>
                    </a:lnTo>
                    <a:lnTo>
                      <a:pt x="322" y="875"/>
                    </a:lnTo>
                    <a:lnTo>
                      <a:pt x="334" y="864"/>
                    </a:lnTo>
                    <a:lnTo>
                      <a:pt x="346" y="853"/>
                    </a:lnTo>
                    <a:lnTo>
                      <a:pt x="360" y="839"/>
                    </a:lnTo>
                    <a:lnTo>
                      <a:pt x="372" y="825"/>
                    </a:lnTo>
                    <a:lnTo>
                      <a:pt x="382" y="813"/>
                    </a:lnTo>
                    <a:lnTo>
                      <a:pt x="394" y="799"/>
                    </a:lnTo>
                    <a:lnTo>
                      <a:pt x="406" y="782"/>
                    </a:lnTo>
                    <a:lnTo>
                      <a:pt x="418" y="766"/>
                    </a:lnTo>
                    <a:lnTo>
                      <a:pt x="428" y="752"/>
                    </a:lnTo>
                    <a:lnTo>
                      <a:pt x="437" y="735"/>
                    </a:lnTo>
                    <a:lnTo>
                      <a:pt x="447" y="720"/>
                    </a:lnTo>
                    <a:lnTo>
                      <a:pt x="456" y="703"/>
                    </a:lnTo>
                    <a:lnTo>
                      <a:pt x="464" y="686"/>
                    </a:lnTo>
                    <a:lnTo>
                      <a:pt x="474" y="668"/>
                    </a:lnTo>
                    <a:lnTo>
                      <a:pt x="483" y="649"/>
                    </a:lnTo>
                    <a:lnTo>
                      <a:pt x="491" y="629"/>
                    </a:lnTo>
                    <a:lnTo>
                      <a:pt x="499" y="610"/>
                    </a:lnTo>
                    <a:lnTo>
                      <a:pt x="506" y="591"/>
                    </a:lnTo>
                    <a:lnTo>
                      <a:pt x="513" y="572"/>
                    </a:lnTo>
                    <a:lnTo>
                      <a:pt x="518" y="555"/>
                    </a:lnTo>
                    <a:lnTo>
                      <a:pt x="526" y="533"/>
                    </a:lnTo>
                    <a:lnTo>
                      <a:pt x="531" y="510"/>
                    </a:lnTo>
                    <a:lnTo>
                      <a:pt x="536" y="492"/>
                    </a:lnTo>
                    <a:lnTo>
                      <a:pt x="542" y="471"/>
                    </a:lnTo>
                    <a:lnTo>
                      <a:pt x="546" y="450"/>
                    </a:lnTo>
                    <a:lnTo>
                      <a:pt x="551" y="426"/>
                    </a:lnTo>
                    <a:lnTo>
                      <a:pt x="556" y="404"/>
                    </a:lnTo>
                    <a:lnTo>
                      <a:pt x="560" y="381"/>
                    </a:lnTo>
                    <a:lnTo>
                      <a:pt x="565" y="358"/>
                    </a:lnTo>
                    <a:lnTo>
                      <a:pt x="567" y="337"/>
                    </a:lnTo>
                    <a:lnTo>
                      <a:pt x="571" y="318"/>
                    </a:lnTo>
                    <a:lnTo>
                      <a:pt x="572" y="304"/>
                    </a:lnTo>
                    <a:lnTo>
                      <a:pt x="575" y="289"/>
                    </a:lnTo>
                    <a:lnTo>
                      <a:pt x="576" y="278"/>
                    </a:lnTo>
                    <a:lnTo>
                      <a:pt x="576" y="268"/>
                    </a:lnTo>
                    <a:lnTo>
                      <a:pt x="577" y="256"/>
                    </a:lnTo>
                    <a:lnTo>
                      <a:pt x="578" y="240"/>
                    </a:lnTo>
                    <a:lnTo>
                      <a:pt x="579" y="226"/>
                    </a:lnTo>
                    <a:lnTo>
                      <a:pt x="580" y="213"/>
                    </a:lnTo>
                    <a:lnTo>
                      <a:pt x="580" y="202"/>
                    </a:lnTo>
                    <a:lnTo>
                      <a:pt x="582" y="187"/>
                    </a:lnTo>
                    <a:lnTo>
                      <a:pt x="582" y="173"/>
                    </a:lnTo>
                    <a:lnTo>
                      <a:pt x="582" y="158"/>
                    </a:lnTo>
                    <a:lnTo>
                      <a:pt x="584" y="142"/>
                    </a:lnTo>
                    <a:lnTo>
                      <a:pt x="583" y="128"/>
                    </a:lnTo>
                    <a:lnTo>
                      <a:pt x="585" y="117"/>
                    </a:lnTo>
                    <a:lnTo>
                      <a:pt x="584" y="103"/>
                    </a:lnTo>
                    <a:lnTo>
                      <a:pt x="584" y="88"/>
                    </a:lnTo>
                    <a:lnTo>
                      <a:pt x="584" y="74"/>
                    </a:lnTo>
                    <a:lnTo>
                      <a:pt x="583" y="62"/>
                    </a:lnTo>
                    <a:lnTo>
                      <a:pt x="583" y="49"/>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94" name=""/>
              <p:cNvSpPr/>
              <p:nvPr/>
            </p:nvSpPr>
            <p:spPr>
              <a:xfrm>
                <a:off x="4000680" y="3505320"/>
                <a:ext cx="1695240" cy="397440"/>
              </a:xfrm>
              <a:prstGeom prst="rect">
                <a:avLst/>
              </a:prstGeom>
              <a:solidFill>
                <a:srgbClr val="ffcc00"/>
              </a:solidFill>
              <a:ln w="12600">
                <a:solidFill>
                  <a:srgbClr val="cc3300"/>
                </a:solidFill>
                <a:miter/>
              </a:ln>
              <a:effectLst>
                <a:outerShdw dist="107932" dir="2700000" blurRad="0" rotWithShape="0">
                  <a:srgbClr val="cc33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vantGarde"/>
                  </a:rPr>
                  <a:t>Assessment</a:t>
                </a:r>
                <a:endParaRPr b="0" lang="en-US" sz="2000" spc="-1" strike="noStrike">
                  <a:solidFill>
                    <a:srgbClr val="f8f8f8"/>
                  </a:solidFill>
                  <a:latin typeface="Times New Roman"/>
                </a:endParaRPr>
              </a:p>
            </p:txBody>
          </p:sp>
        </p:grpSp>
      </p:grpSp>
      <p:pic>
        <p:nvPicPr>
          <p:cNvPr id="195" name="" descr=""/>
          <p:cNvPicPr/>
          <p:nvPr/>
        </p:nvPicPr>
        <p:blipFill>
          <a:blip r:embed="rId1"/>
          <a:stretch/>
        </p:blipFill>
        <p:spPr>
          <a:xfrm>
            <a:off x="3741840" y="2301840"/>
            <a:ext cx="1563480" cy="10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Knowledge &amp; Results from IEQ</a:t>
            </a:r>
            <a:endParaRPr b="0" lang="en-US" sz="3600" spc="-1" strike="noStrike">
              <a:solidFill>
                <a:srgbClr val="ffffff"/>
              </a:solidFill>
              <a:latin typeface="Tahoma"/>
            </a:endParaRPr>
          </a:p>
        </p:txBody>
      </p:sp>
      <p:sp>
        <p:nvSpPr>
          <p:cNvPr id="197" name="PlaceHolder 2"/>
          <p:cNvSpPr>
            <a:spLocks noGrp="1"/>
          </p:cNvSpPr>
          <p:nvPr>
            <p:ph/>
          </p:nvPr>
        </p:nvSpPr>
        <p:spPr>
          <a:xfrm>
            <a:off x="685800" y="1447560"/>
            <a:ext cx="7772400" cy="419076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1. Classroom as source of knowledge about teaching &amp; learning</a:t>
            </a:r>
            <a:endParaRPr b="0" lang="en-US" sz="2800" spc="-1" strike="noStrike">
              <a:solidFill>
                <a:srgbClr val="f8f8f8"/>
              </a:solidFill>
              <a:latin typeface="Tahoma"/>
            </a:endParaRPr>
          </a:p>
          <a:p>
            <a:pPr marL="301680" indent="-3016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2. Knowledge creates common discourse on quality improvement</a:t>
            </a:r>
            <a:endParaRPr b="0" lang="en-US" sz="2800" spc="-1" strike="noStrike">
              <a:solidFill>
                <a:srgbClr val="f8f8f8"/>
              </a:solidFill>
              <a:latin typeface="Tahoma"/>
            </a:endParaRPr>
          </a:p>
          <a:p>
            <a:pPr marL="301680" indent="-3016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3. Knowledge shared can translate practice into policy</a:t>
            </a:r>
            <a:endParaRPr b="0" lang="en-US" sz="2800" spc="-1" strike="noStrike">
              <a:solidFill>
                <a:srgbClr val="f8f8f8"/>
              </a:solidFill>
              <a:latin typeface="Tahoma"/>
            </a:endParaRPr>
          </a:p>
          <a:p>
            <a:pPr marL="301680" indent="-3016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4. Linking factors re teaching and learning</a:t>
            </a:r>
            <a:endParaRPr b="0" lang="en-US" sz="2800" spc="-1" strike="noStrike">
              <a:solidFill>
                <a:srgbClr val="f8f8f8"/>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r>
              <a:rPr b="0" lang="en-US" sz="2800" spc="-1" strike="noStrike">
                <a:solidFill>
                  <a:srgbClr val="f8f8f8"/>
                </a:solidFill>
                <a:latin typeface="Tahoma"/>
              </a:rPr>
              <a:t>leads to understanding about classroom learning</a:t>
            </a:r>
            <a:endParaRPr b="0" lang="en-US" sz="2800" spc="-1" strike="noStrike">
              <a:solidFill>
                <a:srgbClr val="f8f8f8"/>
              </a:solidFill>
              <a:latin typeface="Tahoma"/>
            </a:endParaRPr>
          </a:p>
          <a:p>
            <a:pPr marL="301680" indent="-3016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5. Using country leaders, institutions &amp; staff strengthens local capacity</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Messages to Ministers</a:t>
            </a:r>
            <a:endParaRPr b="0" lang="en-US" sz="3600" spc="-1" strike="noStrike">
              <a:solidFill>
                <a:srgbClr val="ffffff"/>
              </a:solidFill>
              <a:latin typeface="Tahoma"/>
            </a:endParaRPr>
          </a:p>
        </p:txBody>
      </p:sp>
      <p:sp>
        <p:nvSpPr>
          <p:cNvPr id="199"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ngage ultimate users in planning &amp; implementing reform</a:t>
            </a:r>
            <a:endParaRPr b="0" lang="en-US" sz="2800" spc="-1" strike="noStrike">
              <a:solidFill>
                <a:srgbClr val="f8f8f8"/>
              </a:solidFill>
              <a:latin typeface="Tahoma"/>
            </a:endParaRPr>
          </a:p>
          <a:p>
            <a:pPr marL="322200" indent="-3222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hink strategically about national implementation when beginning small-scale</a:t>
            </a:r>
            <a:endParaRPr b="0" lang="en-US" sz="2800" spc="-1" strike="noStrike">
              <a:solidFill>
                <a:srgbClr val="f8f8f8"/>
              </a:solidFill>
              <a:latin typeface="Tahoma"/>
            </a:endParaRPr>
          </a:p>
          <a:p>
            <a:pPr marL="322200" indent="-3222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Quality is a process that requires ongoing assessment, reflection, action</a:t>
            </a:r>
            <a:endParaRPr b="0" lang="en-US" sz="2800" spc="-1" strike="noStrike">
              <a:solidFill>
                <a:srgbClr val="f8f8f8"/>
              </a:solidFill>
              <a:latin typeface="Tahoma"/>
            </a:endParaRPr>
          </a:p>
          <a:p>
            <a:pPr marL="322200" indent="-3222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levate quest for quality above political agenda</a:t>
            </a:r>
            <a:endParaRPr b="0" lang="en-US" sz="2800" spc="-1" strike="noStrike">
              <a:solidFill>
                <a:srgbClr val="f8f8f8"/>
              </a:solidFill>
              <a:latin typeface="Tahoma"/>
            </a:endParaRPr>
          </a:p>
          <a:p>
            <a:pPr marL="322200" indent="-3222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Gather and use data</a:t>
            </a:r>
            <a:endParaRPr b="0" lang="en-US" sz="2800" spc="-1" strike="noStrike">
              <a:solidFill>
                <a:srgbClr val="f8f8f8"/>
              </a:solidFill>
              <a:latin typeface="Tahoma"/>
            </a:endParaRPr>
          </a:p>
          <a:p>
            <a:pPr marL="322200" indent="-3222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Quality begins and ends in the classroom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0" name=""/>
          <p:cNvGrpSpPr/>
          <p:nvPr/>
        </p:nvGrpSpPr>
        <p:grpSpPr>
          <a:xfrm>
            <a:off x="3462480" y="4043880"/>
            <a:ext cx="2129040" cy="2085840"/>
            <a:chOff x="3462480" y="4043880"/>
            <a:chExt cx="2129040" cy="2085840"/>
          </a:xfrm>
        </p:grpSpPr>
        <p:grpSp>
          <p:nvGrpSpPr>
            <p:cNvPr id="201" name=""/>
            <p:cNvGrpSpPr/>
            <p:nvPr/>
          </p:nvGrpSpPr>
          <p:grpSpPr>
            <a:xfrm>
              <a:off x="3462480" y="4043880"/>
              <a:ext cx="2129040" cy="2085840"/>
              <a:chOff x="3462480" y="4043880"/>
              <a:chExt cx="2129040" cy="2085840"/>
            </a:xfrm>
          </p:grpSpPr>
          <p:grpSp>
            <p:nvGrpSpPr>
              <p:cNvPr id="202" name=""/>
              <p:cNvGrpSpPr/>
              <p:nvPr/>
            </p:nvGrpSpPr>
            <p:grpSpPr>
              <a:xfrm>
                <a:off x="3462480" y="4043880"/>
                <a:ext cx="2129040" cy="2085840"/>
                <a:chOff x="3462480" y="4043880"/>
                <a:chExt cx="2129040" cy="2085840"/>
              </a:xfrm>
            </p:grpSpPr>
            <p:sp>
              <p:nvSpPr>
                <p:cNvPr id="203" name=""/>
                <p:cNvSpPr/>
                <p:nvPr/>
              </p:nvSpPr>
              <p:spPr>
                <a:xfrm flipH="1" rot="7177800">
                  <a:off x="3792240" y="4397400"/>
                  <a:ext cx="1415880" cy="1372680"/>
                </a:xfrm>
                <a:custGeom>
                  <a:avLst/>
                  <a:gdLst/>
                  <a:ahLst/>
                  <a:rect l="l" t="t" r="r" b="b"/>
                  <a:pathLst>
                    <a:path w="892" h="865">
                      <a:moveTo>
                        <a:pt x="0" y="140"/>
                      </a:moveTo>
                      <a:cubicBezTo>
                        <a:pt x="37" y="135"/>
                        <a:pt x="85" y="137"/>
                        <a:pt x="120" y="120"/>
                      </a:cubicBezTo>
                      <a:cubicBezTo>
                        <a:pt x="142" y="109"/>
                        <a:pt x="142" y="90"/>
                        <a:pt x="156" y="76"/>
                      </a:cubicBezTo>
                      <a:cubicBezTo>
                        <a:pt x="185" y="47"/>
                        <a:pt x="235" y="51"/>
                        <a:pt x="272" y="44"/>
                      </a:cubicBezTo>
                      <a:cubicBezTo>
                        <a:pt x="327" y="8"/>
                        <a:pt x="392" y="15"/>
                        <a:pt x="456" y="12"/>
                      </a:cubicBezTo>
                      <a:cubicBezTo>
                        <a:pt x="531" y="0"/>
                        <a:pt x="590" y="32"/>
                        <a:pt x="660" y="48"/>
                      </a:cubicBezTo>
                      <a:cubicBezTo>
                        <a:pt x="697" y="56"/>
                        <a:pt x="735" y="58"/>
                        <a:pt x="772" y="60"/>
                      </a:cubicBezTo>
                      <a:cubicBezTo>
                        <a:pt x="806" y="69"/>
                        <a:pt x="839" y="84"/>
                        <a:pt x="872" y="92"/>
                      </a:cubicBezTo>
                      <a:cubicBezTo>
                        <a:pt x="879" y="99"/>
                        <a:pt x="892" y="104"/>
                        <a:pt x="880" y="116"/>
                      </a:cubicBezTo>
                      <a:cubicBezTo>
                        <a:pt x="878" y="118"/>
                        <a:pt x="852" y="124"/>
                        <a:pt x="852" y="124"/>
                      </a:cubicBezTo>
                      <a:cubicBezTo>
                        <a:pt x="829" y="131"/>
                        <a:pt x="803" y="136"/>
                        <a:pt x="784" y="152"/>
                      </a:cubicBezTo>
                      <a:cubicBezTo>
                        <a:pt x="761" y="171"/>
                        <a:pt x="744" y="202"/>
                        <a:pt x="724" y="224"/>
                      </a:cubicBezTo>
                      <a:cubicBezTo>
                        <a:pt x="716" y="232"/>
                        <a:pt x="708" y="240"/>
                        <a:pt x="700" y="248"/>
                      </a:cubicBezTo>
                      <a:cubicBezTo>
                        <a:pt x="693" y="255"/>
                        <a:pt x="676" y="264"/>
                        <a:pt x="676" y="264"/>
                      </a:cubicBezTo>
                      <a:cubicBezTo>
                        <a:pt x="657" y="293"/>
                        <a:pt x="636" y="340"/>
                        <a:pt x="600" y="352"/>
                      </a:cubicBezTo>
                      <a:cubicBezTo>
                        <a:pt x="578" y="374"/>
                        <a:pt x="558" y="400"/>
                        <a:pt x="544" y="428"/>
                      </a:cubicBezTo>
                      <a:cubicBezTo>
                        <a:pt x="538" y="440"/>
                        <a:pt x="524" y="464"/>
                        <a:pt x="524" y="464"/>
                      </a:cubicBezTo>
                      <a:cubicBezTo>
                        <a:pt x="512" y="512"/>
                        <a:pt x="492" y="549"/>
                        <a:pt x="468" y="592"/>
                      </a:cubicBezTo>
                      <a:cubicBezTo>
                        <a:pt x="459" y="608"/>
                        <a:pt x="459" y="612"/>
                        <a:pt x="452" y="632"/>
                      </a:cubicBezTo>
                      <a:cubicBezTo>
                        <a:pt x="449" y="640"/>
                        <a:pt x="444" y="656"/>
                        <a:pt x="444" y="656"/>
                      </a:cubicBezTo>
                      <a:cubicBezTo>
                        <a:pt x="441" y="688"/>
                        <a:pt x="440" y="724"/>
                        <a:pt x="416" y="748"/>
                      </a:cubicBezTo>
                      <a:cubicBezTo>
                        <a:pt x="410" y="766"/>
                        <a:pt x="401" y="781"/>
                        <a:pt x="396" y="800"/>
                      </a:cubicBezTo>
                      <a:cubicBezTo>
                        <a:pt x="395" y="817"/>
                        <a:pt x="394" y="835"/>
                        <a:pt x="392" y="852"/>
                      </a:cubicBezTo>
                      <a:cubicBezTo>
                        <a:pt x="391" y="856"/>
                        <a:pt x="392" y="865"/>
                        <a:pt x="388" y="864"/>
                      </a:cubicBezTo>
                      <a:cubicBezTo>
                        <a:pt x="382" y="862"/>
                        <a:pt x="380" y="853"/>
                        <a:pt x="376" y="848"/>
                      </a:cubicBezTo>
                      <a:cubicBezTo>
                        <a:pt x="355" y="824"/>
                        <a:pt x="338" y="770"/>
                        <a:pt x="308" y="760"/>
                      </a:cubicBezTo>
                      <a:cubicBezTo>
                        <a:pt x="278" y="770"/>
                        <a:pt x="258" y="729"/>
                        <a:pt x="244" y="708"/>
                      </a:cubicBezTo>
                      <a:cubicBezTo>
                        <a:pt x="235" y="695"/>
                        <a:pt x="225" y="684"/>
                        <a:pt x="216" y="672"/>
                      </a:cubicBezTo>
                      <a:cubicBezTo>
                        <a:pt x="199" y="648"/>
                        <a:pt x="190" y="624"/>
                        <a:pt x="172" y="600"/>
                      </a:cubicBezTo>
                      <a:cubicBezTo>
                        <a:pt x="153" y="575"/>
                        <a:pt x="172" y="594"/>
                        <a:pt x="160" y="572"/>
                      </a:cubicBezTo>
                      <a:cubicBezTo>
                        <a:pt x="148" y="550"/>
                        <a:pt x="134" y="526"/>
                        <a:pt x="116" y="508"/>
                      </a:cubicBezTo>
                      <a:cubicBezTo>
                        <a:pt x="108" y="470"/>
                        <a:pt x="95" y="427"/>
                        <a:pt x="72" y="396"/>
                      </a:cubicBezTo>
                      <a:cubicBezTo>
                        <a:pt x="62" y="365"/>
                        <a:pt x="45" y="342"/>
                        <a:pt x="32" y="312"/>
                      </a:cubicBezTo>
                      <a:cubicBezTo>
                        <a:pt x="26" y="298"/>
                        <a:pt x="20" y="268"/>
                        <a:pt x="20" y="268"/>
                      </a:cubicBezTo>
                      <a:cubicBezTo>
                        <a:pt x="21" y="241"/>
                        <a:pt x="16" y="213"/>
                        <a:pt x="24" y="188"/>
                      </a:cubicBezTo>
                      <a:cubicBezTo>
                        <a:pt x="28" y="176"/>
                        <a:pt x="48" y="180"/>
                        <a:pt x="60" y="176"/>
                      </a:cubicBezTo>
                      <a:cubicBezTo>
                        <a:pt x="94" y="165"/>
                        <a:pt x="127" y="151"/>
                        <a:pt x="160" y="140"/>
                      </a:cubicBezTo>
                      <a:cubicBezTo>
                        <a:pt x="171" y="129"/>
                        <a:pt x="178" y="113"/>
                        <a:pt x="192" y="104"/>
                      </a:cubicBezTo>
                      <a:cubicBezTo>
                        <a:pt x="226" y="83"/>
                        <a:pt x="276" y="82"/>
                        <a:pt x="312" y="80"/>
                      </a:cubicBezTo>
                      <a:cubicBezTo>
                        <a:pt x="347" y="71"/>
                        <a:pt x="380" y="60"/>
                        <a:pt x="416" y="56"/>
                      </a:cubicBezTo>
                      <a:cubicBezTo>
                        <a:pt x="483" y="59"/>
                        <a:pt x="550" y="58"/>
                        <a:pt x="616" y="64"/>
                      </a:cubicBezTo>
                      <a:cubicBezTo>
                        <a:pt x="625" y="65"/>
                        <a:pt x="639" y="80"/>
                        <a:pt x="648" y="84"/>
                      </a:cubicBezTo>
                      <a:cubicBezTo>
                        <a:pt x="679" y="97"/>
                        <a:pt x="715" y="90"/>
                        <a:pt x="748" y="92"/>
                      </a:cubicBezTo>
                      <a:cubicBezTo>
                        <a:pt x="771" y="96"/>
                        <a:pt x="789" y="99"/>
                        <a:pt x="808" y="112"/>
                      </a:cubicBezTo>
                      <a:cubicBezTo>
                        <a:pt x="747" y="113"/>
                        <a:pt x="685" y="108"/>
                        <a:pt x="624" y="116"/>
                      </a:cubicBezTo>
                      <a:cubicBezTo>
                        <a:pt x="617" y="117"/>
                        <a:pt x="624" y="131"/>
                        <a:pt x="628" y="136"/>
                      </a:cubicBezTo>
                      <a:cubicBezTo>
                        <a:pt x="634" y="143"/>
                        <a:pt x="647" y="141"/>
                        <a:pt x="656" y="144"/>
                      </a:cubicBezTo>
                      <a:cubicBezTo>
                        <a:pt x="667" y="160"/>
                        <a:pt x="674" y="159"/>
                        <a:pt x="692" y="164"/>
                      </a:cubicBezTo>
                      <a:cubicBezTo>
                        <a:pt x="724" y="148"/>
                        <a:pt x="708" y="155"/>
                        <a:pt x="740" y="144"/>
                      </a:cubicBezTo>
                      <a:cubicBezTo>
                        <a:pt x="744" y="143"/>
                        <a:pt x="732" y="147"/>
                        <a:pt x="728" y="148"/>
                      </a:cubicBezTo>
                      <a:cubicBezTo>
                        <a:pt x="724" y="149"/>
                        <a:pt x="720" y="151"/>
                        <a:pt x="716" y="152"/>
                      </a:cubicBezTo>
                      <a:cubicBezTo>
                        <a:pt x="698" y="158"/>
                        <a:pt x="687" y="174"/>
                        <a:pt x="672" y="184"/>
                      </a:cubicBezTo>
                      <a:cubicBezTo>
                        <a:pt x="664" y="196"/>
                        <a:pt x="656" y="208"/>
                        <a:pt x="648" y="220"/>
                      </a:cubicBezTo>
                      <a:cubicBezTo>
                        <a:pt x="642" y="228"/>
                        <a:pt x="642" y="240"/>
                        <a:pt x="636" y="248"/>
                      </a:cubicBezTo>
                      <a:cubicBezTo>
                        <a:pt x="626" y="261"/>
                        <a:pt x="600" y="280"/>
                        <a:pt x="600" y="280"/>
                      </a:cubicBezTo>
                      <a:cubicBezTo>
                        <a:pt x="593" y="300"/>
                        <a:pt x="585" y="313"/>
                        <a:pt x="568" y="324"/>
                      </a:cubicBezTo>
                      <a:cubicBezTo>
                        <a:pt x="559" y="338"/>
                        <a:pt x="548" y="344"/>
                        <a:pt x="536" y="356"/>
                      </a:cubicBezTo>
                      <a:cubicBezTo>
                        <a:pt x="531" y="372"/>
                        <a:pt x="524" y="380"/>
                        <a:pt x="512" y="392"/>
                      </a:cubicBezTo>
                      <a:cubicBezTo>
                        <a:pt x="503" y="419"/>
                        <a:pt x="473" y="437"/>
                        <a:pt x="464" y="464"/>
                      </a:cubicBezTo>
                      <a:cubicBezTo>
                        <a:pt x="451" y="504"/>
                        <a:pt x="471" y="442"/>
                        <a:pt x="456" y="492"/>
                      </a:cubicBezTo>
                      <a:cubicBezTo>
                        <a:pt x="454" y="500"/>
                        <a:pt x="448" y="516"/>
                        <a:pt x="448" y="516"/>
                      </a:cubicBezTo>
                      <a:cubicBezTo>
                        <a:pt x="448" y="523"/>
                        <a:pt x="450" y="569"/>
                        <a:pt x="440" y="588"/>
                      </a:cubicBezTo>
                      <a:cubicBezTo>
                        <a:pt x="424" y="619"/>
                        <a:pt x="441" y="580"/>
                        <a:pt x="420" y="612"/>
                      </a:cubicBezTo>
                      <a:cubicBezTo>
                        <a:pt x="401" y="641"/>
                        <a:pt x="388" y="674"/>
                        <a:pt x="380" y="708"/>
                      </a:cubicBezTo>
                      <a:cubicBezTo>
                        <a:pt x="377" y="739"/>
                        <a:pt x="383" y="770"/>
                        <a:pt x="356" y="788"/>
                      </a:cubicBezTo>
                      <a:cubicBezTo>
                        <a:pt x="345" y="771"/>
                        <a:pt x="347" y="746"/>
                        <a:pt x="336" y="732"/>
                      </a:cubicBezTo>
                      <a:cubicBezTo>
                        <a:pt x="333" y="728"/>
                        <a:pt x="328" y="727"/>
                        <a:pt x="324" y="724"/>
                      </a:cubicBezTo>
                      <a:cubicBezTo>
                        <a:pt x="320" y="720"/>
                        <a:pt x="315" y="716"/>
                        <a:pt x="312" y="712"/>
                      </a:cubicBezTo>
                      <a:cubicBezTo>
                        <a:pt x="297" y="693"/>
                        <a:pt x="274" y="669"/>
                        <a:pt x="264" y="648"/>
                      </a:cubicBezTo>
                      <a:cubicBezTo>
                        <a:pt x="249" y="619"/>
                        <a:pt x="222" y="558"/>
                        <a:pt x="200" y="536"/>
                      </a:cubicBezTo>
                      <a:cubicBezTo>
                        <a:pt x="171" y="507"/>
                        <a:pt x="146" y="468"/>
                        <a:pt x="128" y="432"/>
                      </a:cubicBezTo>
                      <a:cubicBezTo>
                        <a:pt x="107" y="390"/>
                        <a:pt x="123" y="309"/>
                        <a:pt x="96" y="276"/>
                      </a:cubicBezTo>
                      <a:cubicBezTo>
                        <a:pt x="87" y="264"/>
                        <a:pt x="73" y="258"/>
                        <a:pt x="64" y="244"/>
                      </a:cubicBezTo>
                      <a:cubicBezTo>
                        <a:pt x="63" y="239"/>
                        <a:pt x="59" y="233"/>
                        <a:pt x="60" y="228"/>
                      </a:cubicBezTo>
                      <a:cubicBezTo>
                        <a:pt x="62" y="212"/>
                        <a:pt x="82" y="211"/>
                        <a:pt x="92" y="208"/>
                      </a:cubicBezTo>
                      <a:cubicBezTo>
                        <a:pt x="116" y="200"/>
                        <a:pt x="143" y="196"/>
                        <a:pt x="168" y="192"/>
                      </a:cubicBezTo>
                      <a:cubicBezTo>
                        <a:pt x="191" y="176"/>
                        <a:pt x="199" y="157"/>
                        <a:pt x="220" y="140"/>
                      </a:cubicBezTo>
                      <a:cubicBezTo>
                        <a:pt x="238" y="126"/>
                        <a:pt x="309" y="127"/>
                        <a:pt x="332" y="124"/>
                      </a:cubicBezTo>
                      <a:cubicBezTo>
                        <a:pt x="376" y="109"/>
                        <a:pt x="403" y="100"/>
                        <a:pt x="452" y="96"/>
                      </a:cubicBezTo>
                      <a:cubicBezTo>
                        <a:pt x="479" y="89"/>
                        <a:pt x="505" y="83"/>
                        <a:pt x="532" y="80"/>
                      </a:cubicBezTo>
                      <a:cubicBezTo>
                        <a:pt x="569" y="84"/>
                        <a:pt x="568" y="87"/>
                        <a:pt x="596" y="96"/>
                      </a:cubicBezTo>
                      <a:cubicBezTo>
                        <a:pt x="606" y="126"/>
                        <a:pt x="628" y="117"/>
                        <a:pt x="660" y="120"/>
                      </a:cubicBezTo>
                      <a:cubicBezTo>
                        <a:pt x="664" y="124"/>
                        <a:pt x="672" y="126"/>
                        <a:pt x="672" y="132"/>
                      </a:cubicBezTo>
                      <a:cubicBezTo>
                        <a:pt x="672" y="141"/>
                        <a:pt x="632" y="159"/>
                        <a:pt x="624" y="164"/>
                      </a:cubicBezTo>
                      <a:cubicBezTo>
                        <a:pt x="608" y="188"/>
                        <a:pt x="593" y="201"/>
                        <a:pt x="576" y="224"/>
                      </a:cubicBezTo>
                      <a:cubicBezTo>
                        <a:pt x="568" y="235"/>
                        <a:pt x="560" y="245"/>
                        <a:pt x="552" y="256"/>
                      </a:cubicBezTo>
                      <a:cubicBezTo>
                        <a:pt x="546" y="264"/>
                        <a:pt x="536" y="280"/>
                        <a:pt x="536" y="280"/>
                      </a:cubicBezTo>
                      <a:cubicBezTo>
                        <a:pt x="534" y="297"/>
                        <a:pt x="534" y="330"/>
                        <a:pt x="520" y="344"/>
                      </a:cubicBezTo>
                      <a:cubicBezTo>
                        <a:pt x="496" y="368"/>
                        <a:pt x="474" y="374"/>
                        <a:pt x="452" y="404"/>
                      </a:cubicBezTo>
                      <a:cubicBezTo>
                        <a:pt x="436" y="427"/>
                        <a:pt x="432" y="457"/>
                        <a:pt x="416" y="480"/>
                      </a:cubicBezTo>
                      <a:cubicBezTo>
                        <a:pt x="410" y="511"/>
                        <a:pt x="414" y="493"/>
                        <a:pt x="404" y="532"/>
                      </a:cubicBezTo>
                      <a:cubicBezTo>
                        <a:pt x="399" y="552"/>
                        <a:pt x="381" y="571"/>
                        <a:pt x="376" y="592"/>
                      </a:cubicBezTo>
                      <a:cubicBezTo>
                        <a:pt x="367" y="627"/>
                        <a:pt x="359" y="675"/>
                        <a:pt x="320" y="688"/>
                      </a:cubicBezTo>
                      <a:cubicBezTo>
                        <a:pt x="290" y="676"/>
                        <a:pt x="283" y="653"/>
                        <a:pt x="272" y="624"/>
                      </a:cubicBezTo>
                      <a:cubicBezTo>
                        <a:pt x="269" y="602"/>
                        <a:pt x="268" y="573"/>
                        <a:pt x="260" y="552"/>
                      </a:cubicBezTo>
                      <a:cubicBezTo>
                        <a:pt x="251" y="527"/>
                        <a:pt x="219" y="517"/>
                        <a:pt x="208" y="492"/>
                      </a:cubicBezTo>
                      <a:cubicBezTo>
                        <a:pt x="198" y="469"/>
                        <a:pt x="196" y="424"/>
                        <a:pt x="172" y="416"/>
                      </a:cubicBezTo>
                      <a:cubicBezTo>
                        <a:pt x="167" y="390"/>
                        <a:pt x="156" y="369"/>
                        <a:pt x="148" y="344"/>
                      </a:cubicBezTo>
                      <a:cubicBezTo>
                        <a:pt x="144" y="314"/>
                        <a:pt x="138" y="280"/>
                        <a:pt x="124" y="252"/>
                      </a:cubicBezTo>
                      <a:cubicBezTo>
                        <a:pt x="184" y="212"/>
                        <a:pt x="245" y="178"/>
                        <a:pt x="316" y="164"/>
                      </a:cubicBezTo>
                      <a:cubicBezTo>
                        <a:pt x="369" y="129"/>
                        <a:pt x="420" y="142"/>
                        <a:pt x="488" y="140"/>
                      </a:cubicBezTo>
                      <a:cubicBezTo>
                        <a:pt x="518" y="136"/>
                        <a:pt x="545" y="131"/>
                        <a:pt x="576" y="136"/>
                      </a:cubicBezTo>
                      <a:cubicBezTo>
                        <a:pt x="612" y="163"/>
                        <a:pt x="597" y="153"/>
                        <a:pt x="620" y="168"/>
                      </a:cubicBezTo>
                      <a:cubicBezTo>
                        <a:pt x="587" y="179"/>
                        <a:pt x="545" y="211"/>
                        <a:pt x="520" y="236"/>
                      </a:cubicBezTo>
                      <a:cubicBezTo>
                        <a:pt x="504" y="252"/>
                        <a:pt x="493" y="281"/>
                        <a:pt x="480" y="300"/>
                      </a:cubicBezTo>
                      <a:cubicBezTo>
                        <a:pt x="464" y="324"/>
                        <a:pt x="436" y="340"/>
                        <a:pt x="424" y="368"/>
                      </a:cubicBezTo>
                      <a:cubicBezTo>
                        <a:pt x="409" y="401"/>
                        <a:pt x="414" y="440"/>
                        <a:pt x="400" y="472"/>
                      </a:cubicBezTo>
                      <a:cubicBezTo>
                        <a:pt x="393" y="489"/>
                        <a:pt x="369" y="507"/>
                        <a:pt x="356" y="520"/>
                      </a:cubicBezTo>
                      <a:cubicBezTo>
                        <a:pt x="347" y="547"/>
                        <a:pt x="336" y="573"/>
                        <a:pt x="328" y="600"/>
                      </a:cubicBezTo>
                      <a:cubicBezTo>
                        <a:pt x="322" y="621"/>
                        <a:pt x="324" y="633"/>
                        <a:pt x="304" y="640"/>
                      </a:cubicBezTo>
                      <a:cubicBezTo>
                        <a:pt x="252" y="627"/>
                        <a:pt x="313" y="559"/>
                        <a:pt x="272" y="532"/>
                      </a:cubicBezTo>
                      <a:cubicBezTo>
                        <a:pt x="262" y="518"/>
                        <a:pt x="250" y="506"/>
                        <a:pt x="240" y="492"/>
                      </a:cubicBezTo>
                      <a:cubicBezTo>
                        <a:pt x="232" y="481"/>
                        <a:pt x="232" y="466"/>
                        <a:pt x="224" y="456"/>
                      </a:cubicBezTo>
                      <a:cubicBezTo>
                        <a:pt x="205" y="432"/>
                        <a:pt x="213" y="443"/>
                        <a:pt x="200" y="424"/>
                      </a:cubicBezTo>
                      <a:cubicBezTo>
                        <a:pt x="195" y="405"/>
                        <a:pt x="190" y="386"/>
                        <a:pt x="184" y="368"/>
                      </a:cubicBezTo>
                      <a:cubicBezTo>
                        <a:pt x="182" y="333"/>
                        <a:pt x="186" y="308"/>
                        <a:pt x="168" y="280"/>
                      </a:cubicBezTo>
                      <a:cubicBezTo>
                        <a:pt x="246" y="231"/>
                        <a:pt x="332" y="195"/>
                        <a:pt x="424" y="180"/>
                      </a:cubicBezTo>
                      <a:cubicBezTo>
                        <a:pt x="461" y="184"/>
                        <a:pt x="499" y="183"/>
                        <a:pt x="536" y="192"/>
                      </a:cubicBezTo>
                      <a:cubicBezTo>
                        <a:pt x="542" y="193"/>
                        <a:pt x="528" y="200"/>
                        <a:pt x="524" y="204"/>
                      </a:cubicBezTo>
                      <a:cubicBezTo>
                        <a:pt x="511" y="215"/>
                        <a:pt x="506" y="215"/>
                        <a:pt x="496" y="228"/>
                      </a:cubicBezTo>
                      <a:cubicBezTo>
                        <a:pt x="473" y="257"/>
                        <a:pt x="451" y="287"/>
                        <a:pt x="420" y="308"/>
                      </a:cubicBezTo>
                      <a:cubicBezTo>
                        <a:pt x="404" y="332"/>
                        <a:pt x="377" y="356"/>
                        <a:pt x="368" y="384"/>
                      </a:cubicBezTo>
                      <a:cubicBezTo>
                        <a:pt x="360" y="408"/>
                        <a:pt x="347" y="444"/>
                        <a:pt x="332" y="464"/>
                      </a:cubicBezTo>
                      <a:cubicBezTo>
                        <a:pt x="318" y="483"/>
                        <a:pt x="307" y="502"/>
                        <a:pt x="300" y="524"/>
                      </a:cubicBezTo>
                      <a:cubicBezTo>
                        <a:pt x="292" y="503"/>
                        <a:pt x="282" y="486"/>
                        <a:pt x="268" y="468"/>
                      </a:cubicBezTo>
                      <a:cubicBezTo>
                        <a:pt x="264" y="454"/>
                        <a:pt x="248" y="428"/>
                        <a:pt x="248" y="428"/>
                      </a:cubicBezTo>
                      <a:cubicBezTo>
                        <a:pt x="240" y="395"/>
                        <a:pt x="226" y="366"/>
                        <a:pt x="220" y="332"/>
                      </a:cubicBezTo>
                      <a:cubicBezTo>
                        <a:pt x="227" y="305"/>
                        <a:pt x="252" y="288"/>
                        <a:pt x="276" y="276"/>
                      </a:cubicBezTo>
                      <a:cubicBezTo>
                        <a:pt x="303" y="262"/>
                        <a:pt x="343" y="233"/>
                        <a:pt x="372" y="228"/>
                      </a:cubicBezTo>
                      <a:cubicBezTo>
                        <a:pt x="391" y="225"/>
                        <a:pt x="409" y="223"/>
                        <a:pt x="428" y="220"/>
                      </a:cubicBezTo>
                      <a:cubicBezTo>
                        <a:pt x="465" y="235"/>
                        <a:pt x="443" y="233"/>
                        <a:pt x="424" y="256"/>
                      </a:cubicBezTo>
                      <a:cubicBezTo>
                        <a:pt x="417" y="264"/>
                        <a:pt x="403" y="297"/>
                        <a:pt x="392" y="304"/>
                      </a:cubicBezTo>
                      <a:cubicBezTo>
                        <a:pt x="380" y="312"/>
                        <a:pt x="350" y="325"/>
                        <a:pt x="340" y="336"/>
                      </a:cubicBezTo>
                      <a:cubicBezTo>
                        <a:pt x="305" y="375"/>
                        <a:pt x="325" y="355"/>
                        <a:pt x="308" y="384"/>
                      </a:cubicBezTo>
                      <a:cubicBezTo>
                        <a:pt x="303" y="392"/>
                        <a:pt x="292" y="408"/>
                        <a:pt x="292" y="408"/>
                      </a:cubicBezTo>
                      <a:cubicBezTo>
                        <a:pt x="291" y="421"/>
                        <a:pt x="301" y="448"/>
                        <a:pt x="288" y="448"/>
                      </a:cubicBezTo>
                      <a:cubicBezTo>
                        <a:pt x="265" y="448"/>
                        <a:pt x="245" y="383"/>
                        <a:pt x="240" y="364"/>
                      </a:cubicBezTo>
                      <a:cubicBezTo>
                        <a:pt x="241" y="357"/>
                        <a:pt x="240" y="350"/>
                        <a:pt x="244" y="344"/>
                      </a:cubicBezTo>
                      <a:cubicBezTo>
                        <a:pt x="255" y="327"/>
                        <a:pt x="319" y="301"/>
                        <a:pt x="336" y="292"/>
                      </a:cubicBezTo>
                      <a:cubicBezTo>
                        <a:pt x="350" y="285"/>
                        <a:pt x="376" y="268"/>
                        <a:pt x="376" y="268"/>
                      </a:cubicBezTo>
                      <a:cubicBezTo>
                        <a:pt x="363" y="290"/>
                        <a:pt x="340" y="315"/>
                        <a:pt x="320" y="332"/>
                      </a:cubicBezTo>
                      <a:cubicBezTo>
                        <a:pt x="301" y="348"/>
                        <a:pt x="280" y="353"/>
                        <a:pt x="268" y="376"/>
                      </a:cubicBezTo>
                    </a:path>
                  </a:pathLst>
                </a:custGeom>
                <a:noFill/>
                <a:ln w="7632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04" name=""/>
                <p:cNvSpPr/>
                <p:nvPr/>
              </p:nvSpPr>
              <p:spPr>
                <a:xfrm flipH="1" rot="7177800">
                  <a:off x="3782880" y="4285080"/>
                  <a:ext cx="1487520" cy="1603080"/>
                </a:xfrm>
                <a:custGeom>
                  <a:avLst/>
                  <a:gdLst/>
                  <a:ahLst/>
                  <a:rect l="l" t="t" r="r" b="b"/>
                  <a:pathLst>
                    <a:path w="937" h="1010">
                      <a:moveTo>
                        <a:pt x="9" y="231"/>
                      </a:moveTo>
                      <a:cubicBezTo>
                        <a:pt x="23" y="210"/>
                        <a:pt x="46" y="207"/>
                        <a:pt x="69" y="199"/>
                      </a:cubicBezTo>
                      <a:cubicBezTo>
                        <a:pt x="77" y="196"/>
                        <a:pt x="85" y="194"/>
                        <a:pt x="93" y="191"/>
                      </a:cubicBezTo>
                      <a:cubicBezTo>
                        <a:pt x="97" y="190"/>
                        <a:pt x="105" y="187"/>
                        <a:pt x="105" y="187"/>
                      </a:cubicBezTo>
                      <a:cubicBezTo>
                        <a:pt x="142" y="159"/>
                        <a:pt x="200" y="151"/>
                        <a:pt x="245" y="143"/>
                      </a:cubicBezTo>
                      <a:cubicBezTo>
                        <a:pt x="260" y="135"/>
                        <a:pt x="274" y="127"/>
                        <a:pt x="289" y="119"/>
                      </a:cubicBezTo>
                      <a:cubicBezTo>
                        <a:pt x="368" y="0"/>
                        <a:pt x="516" y="89"/>
                        <a:pt x="685" y="87"/>
                      </a:cubicBezTo>
                      <a:cubicBezTo>
                        <a:pt x="701" y="89"/>
                        <a:pt x="721" y="85"/>
                        <a:pt x="733" y="95"/>
                      </a:cubicBezTo>
                      <a:cubicBezTo>
                        <a:pt x="749" y="109"/>
                        <a:pt x="761" y="129"/>
                        <a:pt x="781" y="139"/>
                      </a:cubicBezTo>
                      <a:cubicBezTo>
                        <a:pt x="828" y="163"/>
                        <a:pt x="887" y="166"/>
                        <a:pt x="937" y="183"/>
                      </a:cubicBezTo>
                      <a:cubicBezTo>
                        <a:pt x="925" y="219"/>
                        <a:pt x="856" y="250"/>
                        <a:pt x="825" y="271"/>
                      </a:cubicBezTo>
                      <a:cubicBezTo>
                        <a:pt x="812" y="279"/>
                        <a:pt x="802" y="291"/>
                        <a:pt x="789" y="299"/>
                      </a:cubicBezTo>
                      <a:cubicBezTo>
                        <a:pt x="782" y="304"/>
                        <a:pt x="765" y="307"/>
                        <a:pt x="765" y="307"/>
                      </a:cubicBezTo>
                      <a:cubicBezTo>
                        <a:pt x="748" y="324"/>
                        <a:pt x="731" y="321"/>
                        <a:pt x="713" y="339"/>
                      </a:cubicBezTo>
                      <a:cubicBezTo>
                        <a:pt x="680" y="372"/>
                        <a:pt x="661" y="406"/>
                        <a:pt x="633" y="443"/>
                      </a:cubicBezTo>
                      <a:cubicBezTo>
                        <a:pt x="630" y="453"/>
                        <a:pt x="618" y="506"/>
                        <a:pt x="613" y="511"/>
                      </a:cubicBezTo>
                      <a:cubicBezTo>
                        <a:pt x="607" y="518"/>
                        <a:pt x="589" y="527"/>
                        <a:pt x="589" y="527"/>
                      </a:cubicBezTo>
                      <a:cubicBezTo>
                        <a:pt x="577" y="552"/>
                        <a:pt x="595" y="575"/>
                        <a:pt x="581" y="595"/>
                      </a:cubicBezTo>
                      <a:cubicBezTo>
                        <a:pt x="576" y="602"/>
                        <a:pt x="557" y="603"/>
                        <a:pt x="557" y="603"/>
                      </a:cubicBezTo>
                      <a:cubicBezTo>
                        <a:pt x="540" y="629"/>
                        <a:pt x="533" y="663"/>
                        <a:pt x="521" y="691"/>
                      </a:cubicBezTo>
                      <a:cubicBezTo>
                        <a:pt x="513" y="710"/>
                        <a:pt x="501" y="730"/>
                        <a:pt x="497" y="751"/>
                      </a:cubicBezTo>
                      <a:cubicBezTo>
                        <a:pt x="492" y="781"/>
                        <a:pt x="486" y="837"/>
                        <a:pt x="473" y="863"/>
                      </a:cubicBezTo>
                      <a:cubicBezTo>
                        <a:pt x="454" y="900"/>
                        <a:pt x="445" y="917"/>
                        <a:pt x="437" y="959"/>
                      </a:cubicBezTo>
                      <a:cubicBezTo>
                        <a:pt x="436" y="974"/>
                        <a:pt x="442" y="992"/>
                        <a:pt x="433" y="1003"/>
                      </a:cubicBezTo>
                      <a:cubicBezTo>
                        <a:pt x="427" y="1010"/>
                        <a:pt x="413" y="1003"/>
                        <a:pt x="405" y="999"/>
                      </a:cubicBezTo>
                      <a:cubicBezTo>
                        <a:pt x="386" y="989"/>
                        <a:pt x="379" y="934"/>
                        <a:pt x="373" y="931"/>
                      </a:cubicBezTo>
                      <a:cubicBezTo>
                        <a:pt x="365" y="927"/>
                        <a:pt x="354" y="928"/>
                        <a:pt x="345" y="927"/>
                      </a:cubicBezTo>
                      <a:cubicBezTo>
                        <a:pt x="318" y="900"/>
                        <a:pt x="330" y="909"/>
                        <a:pt x="309" y="895"/>
                      </a:cubicBezTo>
                      <a:cubicBezTo>
                        <a:pt x="298" y="879"/>
                        <a:pt x="276" y="824"/>
                        <a:pt x="265" y="815"/>
                      </a:cubicBezTo>
                      <a:cubicBezTo>
                        <a:pt x="255" y="807"/>
                        <a:pt x="237" y="809"/>
                        <a:pt x="225" y="803"/>
                      </a:cubicBezTo>
                      <a:cubicBezTo>
                        <a:pt x="217" y="798"/>
                        <a:pt x="201" y="787"/>
                        <a:pt x="201" y="787"/>
                      </a:cubicBezTo>
                      <a:cubicBezTo>
                        <a:pt x="190" y="771"/>
                        <a:pt x="180" y="755"/>
                        <a:pt x="169" y="739"/>
                      </a:cubicBezTo>
                      <a:cubicBezTo>
                        <a:pt x="157" y="721"/>
                        <a:pt x="165" y="693"/>
                        <a:pt x="153" y="675"/>
                      </a:cubicBezTo>
                      <a:cubicBezTo>
                        <a:pt x="145" y="663"/>
                        <a:pt x="121" y="647"/>
                        <a:pt x="121" y="647"/>
                      </a:cubicBezTo>
                      <a:cubicBezTo>
                        <a:pt x="113" y="630"/>
                        <a:pt x="107" y="613"/>
                        <a:pt x="101" y="595"/>
                      </a:cubicBezTo>
                      <a:cubicBezTo>
                        <a:pt x="98" y="585"/>
                        <a:pt x="87" y="580"/>
                        <a:pt x="81" y="571"/>
                      </a:cubicBezTo>
                      <a:cubicBezTo>
                        <a:pt x="74" y="544"/>
                        <a:pt x="79" y="512"/>
                        <a:pt x="65" y="487"/>
                      </a:cubicBezTo>
                      <a:cubicBezTo>
                        <a:pt x="55" y="469"/>
                        <a:pt x="43" y="458"/>
                        <a:pt x="37" y="439"/>
                      </a:cubicBezTo>
                      <a:cubicBezTo>
                        <a:pt x="34" y="401"/>
                        <a:pt x="33" y="386"/>
                        <a:pt x="25" y="355"/>
                      </a:cubicBezTo>
                      <a:cubicBezTo>
                        <a:pt x="14" y="310"/>
                        <a:pt x="30" y="362"/>
                        <a:pt x="13" y="311"/>
                      </a:cubicBezTo>
                      <a:cubicBezTo>
                        <a:pt x="12" y="307"/>
                        <a:pt x="8" y="295"/>
                        <a:pt x="9" y="299"/>
                      </a:cubicBezTo>
                      <a:cubicBezTo>
                        <a:pt x="26" y="365"/>
                        <a:pt x="89" y="387"/>
                        <a:pt x="109" y="447"/>
                      </a:cubicBezTo>
                      <a:cubicBezTo>
                        <a:pt x="108" y="458"/>
                        <a:pt x="108" y="489"/>
                        <a:pt x="105" y="479"/>
                      </a:cubicBezTo>
                      <a:cubicBezTo>
                        <a:pt x="99" y="461"/>
                        <a:pt x="103" y="442"/>
                        <a:pt x="101" y="423"/>
                      </a:cubicBezTo>
                      <a:cubicBezTo>
                        <a:pt x="98" y="396"/>
                        <a:pt x="90" y="369"/>
                        <a:pt x="81" y="343"/>
                      </a:cubicBezTo>
                      <a:cubicBezTo>
                        <a:pt x="77" y="294"/>
                        <a:pt x="83" y="298"/>
                        <a:pt x="45" y="283"/>
                      </a:cubicBezTo>
                      <a:cubicBezTo>
                        <a:pt x="79" y="260"/>
                        <a:pt x="110" y="225"/>
                        <a:pt x="133" y="191"/>
                      </a:cubicBezTo>
                      <a:cubicBezTo>
                        <a:pt x="137" y="185"/>
                        <a:pt x="125" y="202"/>
                        <a:pt x="121" y="207"/>
                      </a:cubicBezTo>
                      <a:cubicBezTo>
                        <a:pt x="116" y="213"/>
                        <a:pt x="110" y="217"/>
                        <a:pt x="105" y="223"/>
                      </a:cubicBezTo>
                      <a:cubicBezTo>
                        <a:pt x="92" y="239"/>
                        <a:pt x="73" y="261"/>
                        <a:pt x="61" y="279"/>
                      </a:cubicBezTo>
                      <a:cubicBezTo>
                        <a:pt x="60" y="284"/>
                        <a:pt x="59" y="290"/>
                        <a:pt x="57" y="295"/>
                      </a:cubicBezTo>
                      <a:cubicBezTo>
                        <a:pt x="57" y="295"/>
                        <a:pt x="47" y="325"/>
                        <a:pt x="45" y="331"/>
                      </a:cubicBezTo>
                      <a:cubicBezTo>
                        <a:pt x="43" y="337"/>
                        <a:pt x="35" y="348"/>
                        <a:pt x="41" y="351"/>
                      </a:cubicBezTo>
                      <a:cubicBezTo>
                        <a:pt x="49" y="355"/>
                        <a:pt x="74" y="325"/>
                        <a:pt x="77" y="323"/>
                      </a:cubicBezTo>
                      <a:cubicBezTo>
                        <a:pt x="109" y="299"/>
                        <a:pt x="154" y="278"/>
                        <a:pt x="177" y="243"/>
                      </a:cubicBezTo>
                      <a:cubicBezTo>
                        <a:pt x="187" y="228"/>
                        <a:pt x="191" y="212"/>
                        <a:pt x="197" y="195"/>
                      </a:cubicBezTo>
                      <a:cubicBezTo>
                        <a:pt x="201" y="182"/>
                        <a:pt x="220" y="172"/>
                        <a:pt x="217" y="171"/>
                      </a:cubicBezTo>
                      <a:cubicBezTo>
                        <a:pt x="211" y="168"/>
                        <a:pt x="204" y="176"/>
                        <a:pt x="197" y="179"/>
                      </a:cubicBezTo>
                      <a:cubicBezTo>
                        <a:pt x="183" y="193"/>
                        <a:pt x="162" y="208"/>
                        <a:pt x="149" y="223"/>
                      </a:cubicBezTo>
                      <a:cubicBezTo>
                        <a:pt x="133" y="242"/>
                        <a:pt x="123" y="265"/>
                        <a:pt x="105" y="283"/>
                      </a:cubicBezTo>
                      <a:cubicBezTo>
                        <a:pt x="69" y="319"/>
                        <a:pt x="32" y="349"/>
                        <a:pt x="9" y="395"/>
                      </a:cubicBezTo>
                      <a:cubicBezTo>
                        <a:pt x="8" y="402"/>
                        <a:pt x="0" y="410"/>
                        <a:pt x="5" y="415"/>
                      </a:cubicBezTo>
                      <a:cubicBezTo>
                        <a:pt x="9" y="419"/>
                        <a:pt x="17" y="411"/>
                        <a:pt x="21" y="407"/>
                      </a:cubicBezTo>
                      <a:cubicBezTo>
                        <a:pt x="28" y="400"/>
                        <a:pt x="32" y="391"/>
                        <a:pt x="37" y="383"/>
                      </a:cubicBezTo>
                      <a:cubicBezTo>
                        <a:pt x="54" y="357"/>
                        <a:pt x="108" y="336"/>
                        <a:pt x="129" y="315"/>
                      </a:cubicBezTo>
                      <a:cubicBezTo>
                        <a:pt x="140" y="304"/>
                        <a:pt x="165" y="287"/>
                        <a:pt x="165" y="287"/>
                      </a:cubicBezTo>
                      <a:cubicBezTo>
                        <a:pt x="195" y="242"/>
                        <a:pt x="250" y="216"/>
                        <a:pt x="285" y="175"/>
                      </a:cubicBezTo>
                      <a:cubicBezTo>
                        <a:pt x="295" y="163"/>
                        <a:pt x="303" y="151"/>
                        <a:pt x="313" y="139"/>
                      </a:cubicBezTo>
                      <a:cubicBezTo>
                        <a:pt x="317" y="135"/>
                        <a:pt x="321" y="131"/>
                        <a:pt x="325" y="127"/>
                      </a:cubicBezTo>
                      <a:cubicBezTo>
                        <a:pt x="328" y="123"/>
                        <a:pt x="337" y="112"/>
                        <a:pt x="333" y="115"/>
                      </a:cubicBezTo>
                      <a:cubicBezTo>
                        <a:pt x="294" y="148"/>
                        <a:pt x="278" y="191"/>
                        <a:pt x="245" y="227"/>
                      </a:cubicBezTo>
                      <a:cubicBezTo>
                        <a:pt x="231" y="242"/>
                        <a:pt x="216" y="256"/>
                        <a:pt x="201" y="271"/>
                      </a:cubicBezTo>
                      <a:cubicBezTo>
                        <a:pt x="175" y="297"/>
                        <a:pt x="120" y="317"/>
                        <a:pt x="101" y="343"/>
                      </a:cubicBezTo>
                      <a:cubicBezTo>
                        <a:pt x="83" y="366"/>
                        <a:pt x="68" y="381"/>
                        <a:pt x="61" y="411"/>
                      </a:cubicBezTo>
                      <a:cubicBezTo>
                        <a:pt x="58" y="422"/>
                        <a:pt x="56" y="433"/>
                        <a:pt x="53" y="443"/>
                      </a:cubicBezTo>
                      <a:cubicBezTo>
                        <a:pt x="52" y="447"/>
                        <a:pt x="45" y="455"/>
                        <a:pt x="49" y="455"/>
                      </a:cubicBezTo>
                      <a:cubicBezTo>
                        <a:pt x="59" y="455"/>
                        <a:pt x="68" y="447"/>
                        <a:pt x="77" y="443"/>
                      </a:cubicBezTo>
                      <a:cubicBezTo>
                        <a:pt x="117" y="393"/>
                        <a:pt x="162" y="370"/>
                        <a:pt x="205" y="327"/>
                      </a:cubicBezTo>
                      <a:cubicBezTo>
                        <a:pt x="230" y="302"/>
                        <a:pt x="252" y="269"/>
                        <a:pt x="281" y="247"/>
                      </a:cubicBezTo>
                      <a:cubicBezTo>
                        <a:pt x="312" y="223"/>
                        <a:pt x="338" y="198"/>
                        <a:pt x="361" y="167"/>
                      </a:cubicBezTo>
                      <a:cubicBezTo>
                        <a:pt x="382" y="105"/>
                        <a:pt x="358" y="169"/>
                        <a:pt x="377" y="131"/>
                      </a:cubicBezTo>
                      <a:cubicBezTo>
                        <a:pt x="379" y="127"/>
                        <a:pt x="385" y="117"/>
                        <a:pt x="381" y="119"/>
                      </a:cubicBezTo>
                      <a:cubicBezTo>
                        <a:pt x="374" y="124"/>
                        <a:pt x="371" y="133"/>
                        <a:pt x="365" y="139"/>
                      </a:cubicBezTo>
                      <a:cubicBezTo>
                        <a:pt x="339" y="168"/>
                        <a:pt x="318" y="198"/>
                        <a:pt x="293" y="227"/>
                      </a:cubicBezTo>
                      <a:cubicBezTo>
                        <a:pt x="266" y="259"/>
                        <a:pt x="238" y="294"/>
                        <a:pt x="209" y="323"/>
                      </a:cubicBezTo>
                      <a:cubicBezTo>
                        <a:pt x="198" y="334"/>
                        <a:pt x="180" y="340"/>
                        <a:pt x="169" y="351"/>
                      </a:cubicBezTo>
                      <a:cubicBezTo>
                        <a:pt x="136" y="384"/>
                        <a:pt x="117" y="427"/>
                        <a:pt x="85" y="459"/>
                      </a:cubicBezTo>
                      <a:cubicBezTo>
                        <a:pt x="82" y="468"/>
                        <a:pt x="71" y="494"/>
                        <a:pt x="85" y="499"/>
                      </a:cubicBezTo>
                      <a:cubicBezTo>
                        <a:pt x="93" y="502"/>
                        <a:pt x="95" y="485"/>
                        <a:pt x="101" y="479"/>
                      </a:cubicBezTo>
                      <a:cubicBezTo>
                        <a:pt x="115" y="466"/>
                        <a:pt x="130" y="455"/>
                        <a:pt x="145" y="443"/>
                      </a:cubicBezTo>
                      <a:cubicBezTo>
                        <a:pt x="170" y="423"/>
                        <a:pt x="187" y="401"/>
                        <a:pt x="209" y="379"/>
                      </a:cubicBezTo>
                      <a:cubicBezTo>
                        <a:pt x="240" y="348"/>
                        <a:pt x="283" y="328"/>
                        <a:pt x="317" y="299"/>
                      </a:cubicBezTo>
                      <a:cubicBezTo>
                        <a:pt x="333" y="285"/>
                        <a:pt x="339" y="269"/>
                        <a:pt x="353" y="255"/>
                      </a:cubicBezTo>
                      <a:cubicBezTo>
                        <a:pt x="359" y="238"/>
                        <a:pt x="368" y="228"/>
                        <a:pt x="381" y="215"/>
                      </a:cubicBezTo>
                      <a:cubicBezTo>
                        <a:pt x="390" y="187"/>
                        <a:pt x="424" y="152"/>
                        <a:pt x="449" y="135"/>
                      </a:cubicBezTo>
                      <a:cubicBezTo>
                        <a:pt x="452" y="127"/>
                        <a:pt x="454" y="119"/>
                        <a:pt x="457" y="111"/>
                      </a:cubicBezTo>
                      <a:cubicBezTo>
                        <a:pt x="459" y="106"/>
                        <a:pt x="449" y="119"/>
                        <a:pt x="445" y="123"/>
                      </a:cubicBezTo>
                      <a:cubicBezTo>
                        <a:pt x="438" y="131"/>
                        <a:pt x="432" y="139"/>
                        <a:pt x="425" y="147"/>
                      </a:cubicBezTo>
                      <a:cubicBezTo>
                        <a:pt x="394" y="180"/>
                        <a:pt x="372" y="216"/>
                        <a:pt x="349" y="255"/>
                      </a:cubicBezTo>
                      <a:cubicBezTo>
                        <a:pt x="310" y="323"/>
                        <a:pt x="238" y="350"/>
                        <a:pt x="189" y="411"/>
                      </a:cubicBezTo>
                      <a:cubicBezTo>
                        <a:pt x="146" y="465"/>
                        <a:pt x="167" y="514"/>
                        <a:pt x="93" y="539"/>
                      </a:cubicBezTo>
                      <a:cubicBezTo>
                        <a:pt x="90" y="543"/>
                        <a:pt x="73" y="579"/>
                        <a:pt x="77" y="579"/>
                      </a:cubicBezTo>
                      <a:cubicBezTo>
                        <a:pt x="91" y="581"/>
                        <a:pt x="104" y="574"/>
                        <a:pt x="117" y="571"/>
                      </a:cubicBezTo>
                      <a:cubicBezTo>
                        <a:pt x="188" y="524"/>
                        <a:pt x="237" y="447"/>
                        <a:pt x="297" y="387"/>
                      </a:cubicBezTo>
                      <a:cubicBezTo>
                        <a:pt x="309" y="375"/>
                        <a:pt x="333" y="347"/>
                        <a:pt x="341" y="339"/>
                      </a:cubicBezTo>
                      <a:cubicBezTo>
                        <a:pt x="349" y="331"/>
                        <a:pt x="357" y="323"/>
                        <a:pt x="365" y="315"/>
                      </a:cubicBezTo>
                      <a:cubicBezTo>
                        <a:pt x="370" y="310"/>
                        <a:pt x="381" y="299"/>
                        <a:pt x="381" y="299"/>
                      </a:cubicBezTo>
                      <a:cubicBezTo>
                        <a:pt x="394" y="259"/>
                        <a:pt x="444" y="242"/>
                        <a:pt x="461" y="203"/>
                      </a:cubicBezTo>
                      <a:cubicBezTo>
                        <a:pt x="468" y="186"/>
                        <a:pt x="472" y="168"/>
                        <a:pt x="477" y="151"/>
                      </a:cubicBezTo>
                      <a:cubicBezTo>
                        <a:pt x="478" y="147"/>
                        <a:pt x="479" y="143"/>
                        <a:pt x="481" y="139"/>
                      </a:cubicBezTo>
                      <a:cubicBezTo>
                        <a:pt x="483" y="135"/>
                        <a:pt x="492" y="124"/>
                        <a:pt x="489" y="127"/>
                      </a:cubicBezTo>
                      <a:cubicBezTo>
                        <a:pt x="452" y="164"/>
                        <a:pt x="409" y="202"/>
                        <a:pt x="377" y="243"/>
                      </a:cubicBezTo>
                      <a:cubicBezTo>
                        <a:pt x="364" y="260"/>
                        <a:pt x="354" y="282"/>
                        <a:pt x="337" y="295"/>
                      </a:cubicBezTo>
                      <a:cubicBezTo>
                        <a:pt x="310" y="315"/>
                        <a:pt x="282" y="336"/>
                        <a:pt x="261" y="363"/>
                      </a:cubicBezTo>
                      <a:cubicBezTo>
                        <a:pt x="236" y="394"/>
                        <a:pt x="194" y="449"/>
                        <a:pt x="161" y="471"/>
                      </a:cubicBezTo>
                      <a:cubicBezTo>
                        <a:pt x="155" y="488"/>
                        <a:pt x="145" y="502"/>
                        <a:pt x="137" y="519"/>
                      </a:cubicBezTo>
                      <a:cubicBezTo>
                        <a:pt x="132" y="530"/>
                        <a:pt x="121" y="551"/>
                        <a:pt x="121" y="551"/>
                      </a:cubicBezTo>
                      <a:cubicBezTo>
                        <a:pt x="117" y="576"/>
                        <a:pt x="109" y="613"/>
                        <a:pt x="121" y="635"/>
                      </a:cubicBezTo>
                      <a:cubicBezTo>
                        <a:pt x="126" y="643"/>
                        <a:pt x="140" y="632"/>
                        <a:pt x="149" y="631"/>
                      </a:cubicBezTo>
                      <a:cubicBezTo>
                        <a:pt x="156" y="620"/>
                        <a:pt x="168" y="611"/>
                        <a:pt x="173" y="599"/>
                      </a:cubicBezTo>
                      <a:cubicBezTo>
                        <a:pt x="189" y="562"/>
                        <a:pt x="188" y="523"/>
                        <a:pt x="209" y="487"/>
                      </a:cubicBezTo>
                      <a:cubicBezTo>
                        <a:pt x="214" y="478"/>
                        <a:pt x="225" y="474"/>
                        <a:pt x="233" y="467"/>
                      </a:cubicBezTo>
                      <a:cubicBezTo>
                        <a:pt x="265" y="437"/>
                        <a:pt x="290" y="409"/>
                        <a:pt x="317" y="375"/>
                      </a:cubicBezTo>
                      <a:cubicBezTo>
                        <a:pt x="334" y="353"/>
                        <a:pt x="358" y="345"/>
                        <a:pt x="381" y="331"/>
                      </a:cubicBezTo>
                      <a:cubicBezTo>
                        <a:pt x="424" y="305"/>
                        <a:pt x="468" y="283"/>
                        <a:pt x="509" y="255"/>
                      </a:cubicBezTo>
                      <a:cubicBezTo>
                        <a:pt x="535" y="238"/>
                        <a:pt x="548" y="196"/>
                        <a:pt x="565" y="171"/>
                      </a:cubicBezTo>
                      <a:cubicBezTo>
                        <a:pt x="569" y="155"/>
                        <a:pt x="572" y="139"/>
                        <a:pt x="577" y="123"/>
                      </a:cubicBezTo>
                      <a:cubicBezTo>
                        <a:pt x="579" y="118"/>
                        <a:pt x="584" y="112"/>
                        <a:pt x="581" y="107"/>
                      </a:cubicBezTo>
                      <a:cubicBezTo>
                        <a:pt x="579" y="103"/>
                        <a:pt x="573" y="110"/>
                        <a:pt x="569" y="111"/>
                      </a:cubicBezTo>
                      <a:cubicBezTo>
                        <a:pt x="552" y="144"/>
                        <a:pt x="532" y="190"/>
                        <a:pt x="509" y="219"/>
                      </a:cubicBezTo>
                      <a:cubicBezTo>
                        <a:pt x="486" y="248"/>
                        <a:pt x="455" y="263"/>
                        <a:pt x="425" y="283"/>
                      </a:cubicBezTo>
                      <a:cubicBezTo>
                        <a:pt x="403" y="298"/>
                        <a:pt x="371" y="331"/>
                        <a:pt x="353" y="351"/>
                      </a:cubicBezTo>
                      <a:cubicBezTo>
                        <a:pt x="316" y="392"/>
                        <a:pt x="290" y="443"/>
                        <a:pt x="257" y="487"/>
                      </a:cubicBezTo>
                      <a:cubicBezTo>
                        <a:pt x="240" y="537"/>
                        <a:pt x="210" y="595"/>
                        <a:pt x="161" y="619"/>
                      </a:cubicBezTo>
                      <a:cubicBezTo>
                        <a:pt x="156" y="627"/>
                        <a:pt x="150" y="635"/>
                        <a:pt x="145" y="643"/>
                      </a:cubicBezTo>
                      <a:cubicBezTo>
                        <a:pt x="142" y="647"/>
                        <a:pt x="137" y="655"/>
                        <a:pt x="137" y="655"/>
                      </a:cubicBezTo>
                      <a:cubicBezTo>
                        <a:pt x="139" y="665"/>
                        <a:pt x="135" y="686"/>
                        <a:pt x="153" y="683"/>
                      </a:cubicBezTo>
                      <a:cubicBezTo>
                        <a:pt x="170" y="680"/>
                        <a:pt x="203" y="631"/>
                        <a:pt x="213" y="623"/>
                      </a:cubicBezTo>
                      <a:cubicBezTo>
                        <a:pt x="244" y="599"/>
                        <a:pt x="266" y="580"/>
                        <a:pt x="301" y="563"/>
                      </a:cubicBezTo>
                      <a:cubicBezTo>
                        <a:pt x="335" y="546"/>
                        <a:pt x="364" y="504"/>
                        <a:pt x="389" y="479"/>
                      </a:cubicBezTo>
                      <a:cubicBezTo>
                        <a:pt x="432" y="436"/>
                        <a:pt x="470" y="390"/>
                        <a:pt x="513" y="347"/>
                      </a:cubicBezTo>
                      <a:cubicBezTo>
                        <a:pt x="560" y="300"/>
                        <a:pt x="593" y="290"/>
                        <a:pt x="605" y="219"/>
                      </a:cubicBezTo>
                      <a:cubicBezTo>
                        <a:pt x="612" y="126"/>
                        <a:pt x="600" y="190"/>
                        <a:pt x="617" y="147"/>
                      </a:cubicBezTo>
                      <a:cubicBezTo>
                        <a:pt x="620" y="139"/>
                        <a:pt x="622" y="131"/>
                        <a:pt x="625" y="123"/>
                      </a:cubicBezTo>
                      <a:cubicBezTo>
                        <a:pt x="628" y="115"/>
                        <a:pt x="645" y="103"/>
                        <a:pt x="637" y="99"/>
                      </a:cubicBezTo>
                      <a:cubicBezTo>
                        <a:pt x="627" y="94"/>
                        <a:pt x="620" y="114"/>
                        <a:pt x="613" y="123"/>
                      </a:cubicBezTo>
                      <a:cubicBezTo>
                        <a:pt x="590" y="150"/>
                        <a:pt x="558" y="206"/>
                        <a:pt x="533" y="223"/>
                      </a:cubicBezTo>
                      <a:cubicBezTo>
                        <a:pt x="508" y="261"/>
                        <a:pt x="473" y="295"/>
                        <a:pt x="441" y="327"/>
                      </a:cubicBezTo>
                      <a:cubicBezTo>
                        <a:pt x="423" y="345"/>
                        <a:pt x="410" y="365"/>
                        <a:pt x="389" y="379"/>
                      </a:cubicBezTo>
                      <a:cubicBezTo>
                        <a:pt x="378" y="413"/>
                        <a:pt x="341" y="435"/>
                        <a:pt x="329" y="471"/>
                      </a:cubicBezTo>
                      <a:cubicBezTo>
                        <a:pt x="327" y="488"/>
                        <a:pt x="330" y="508"/>
                        <a:pt x="321" y="523"/>
                      </a:cubicBezTo>
                      <a:cubicBezTo>
                        <a:pt x="309" y="544"/>
                        <a:pt x="281" y="551"/>
                        <a:pt x="265" y="567"/>
                      </a:cubicBezTo>
                      <a:cubicBezTo>
                        <a:pt x="238" y="594"/>
                        <a:pt x="236" y="594"/>
                        <a:pt x="217" y="619"/>
                      </a:cubicBezTo>
                      <a:cubicBezTo>
                        <a:pt x="201" y="640"/>
                        <a:pt x="188" y="663"/>
                        <a:pt x="177" y="687"/>
                      </a:cubicBezTo>
                      <a:cubicBezTo>
                        <a:pt x="174" y="695"/>
                        <a:pt x="169" y="711"/>
                        <a:pt x="169" y="711"/>
                      </a:cubicBezTo>
                      <a:cubicBezTo>
                        <a:pt x="170" y="713"/>
                        <a:pt x="174" y="736"/>
                        <a:pt x="185" y="727"/>
                      </a:cubicBezTo>
                      <a:cubicBezTo>
                        <a:pt x="202" y="714"/>
                        <a:pt x="198" y="662"/>
                        <a:pt x="205" y="643"/>
                      </a:cubicBezTo>
                      <a:cubicBezTo>
                        <a:pt x="212" y="623"/>
                        <a:pt x="247" y="616"/>
                        <a:pt x="265" y="611"/>
                      </a:cubicBezTo>
                      <a:cubicBezTo>
                        <a:pt x="282" y="600"/>
                        <a:pt x="313" y="588"/>
                        <a:pt x="333" y="583"/>
                      </a:cubicBezTo>
                      <a:cubicBezTo>
                        <a:pt x="341" y="576"/>
                        <a:pt x="348" y="569"/>
                        <a:pt x="357" y="563"/>
                      </a:cubicBezTo>
                      <a:cubicBezTo>
                        <a:pt x="362" y="560"/>
                        <a:pt x="368" y="558"/>
                        <a:pt x="373" y="555"/>
                      </a:cubicBezTo>
                      <a:cubicBezTo>
                        <a:pt x="398" y="537"/>
                        <a:pt x="419" y="505"/>
                        <a:pt x="441" y="483"/>
                      </a:cubicBezTo>
                      <a:cubicBezTo>
                        <a:pt x="448" y="476"/>
                        <a:pt x="455" y="463"/>
                        <a:pt x="461" y="455"/>
                      </a:cubicBezTo>
                      <a:cubicBezTo>
                        <a:pt x="469" y="444"/>
                        <a:pt x="485" y="423"/>
                        <a:pt x="485" y="423"/>
                      </a:cubicBezTo>
                      <a:cubicBezTo>
                        <a:pt x="490" y="385"/>
                        <a:pt x="509" y="355"/>
                        <a:pt x="529" y="323"/>
                      </a:cubicBezTo>
                      <a:cubicBezTo>
                        <a:pt x="573" y="253"/>
                        <a:pt x="593" y="203"/>
                        <a:pt x="665" y="155"/>
                      </a:cubicBezTo>
                      <a:cubicBezTo>
                        <a:pt x="674" y="149"/>
                        <a:pt x="680" y="137"/>
                        <a:pt x="689" y="131"/>
                      </a:cubicBezTo>
                      <a:cubicBezTo>
                        <a:pt x="665" y="115"/>
                        <a:pt x="645" y="153"/>
                        <a:pt x="629" y="171"/>
                      </a:cubicBezTo>
                      <a:cubicBezTo>
                        <a:pt x="594" y="210"/>
                        <a:pt x="559" y="256"/>
                        <a:pt x="529" y="299"/>
                      </a:cubicBezTo>
                      <a:cubicBezTo>
                        <a:pt x="513" y="323"/>
                        <a:pt x="496" y="360"/>
                        <a:pt x="473" y="375"/>
                      </a:cubicBezTo>
                      <a:cubicBezTo>
                        <a:pt x="456" y="409"/>
                        <a:pt x="476" y="376"/>
                        <a:pt x="449" y="399"/>
                      </a:cubicBezTo>
                      <a:cubicBezTo>
                        <a:pt x="432" y="413"/>
                        <a:pt x="417" y="435"/>
                        <a:pt x="401" y="451"/>
                      </a:cubicBezTo>
                      <a:cubicBezTo>
                        <a:pt x="393" y="459"/>
                        <a:pt x="385" y="467"/>
                        <a:pt x="377" y="475"/>
                      </a:cubicBezTo>
                      <a:cubicBezTo>
                        <a:pt x="371" y="481"/>
                        <a:pt x="353" y="483"/>
                        <a:pt x="353" y="483"/>
                      </a:cubicBezTo>
                      <a:cubicBezTo>
                        <a:pt x="319" y="533"/>
                        <a:pt x="337" y="581"/>
                        <a:pt x="281" y="619"/>
                      </a:cubicBezTo>
                      <a:cubicBezTo>
                        <a:pt x="271" y="634"/>
                        <a:pt x="258" y="647"/>
                        <a:pt x="249" y="663"/>
                      </a:cubicBezTo>
                      <a:cubicBezTo>
                        <a:pt x="234" y="690"/>
                        <a:pt x="230" y="732"/>
                        <a:pt x="197" y="743"/>
                      </a:cubicBezTo>
                      <a:cubicBezTo>
                        <a:pt x="196" y="739"/>
                        <a:pt x="191" y="735"/>
                        <a:pt x="193" y="731"/>
                      </a:cubicBezTo>
                      <a:cubicBezTo>
                        <a:pt x="204" y="712"/>
                        <a:pt x="241" y="681"/>
                        <a:pt x="257" y="659"/>
                      </a:cubicBezTo>
                      <a:cubicBezTo>
                        <a:pt x="188" y="650"/>
                        <a:pt x="205" y="633"/>
                        <a:pt x="185" y="663"/>
                      </a:cubicBezTo>
                      <a:cubicBezTo>
                        <a:pt x="196" y="697"/>
                        <a:pt x="209" y="714"/>
                        <a:pt x="245" y="723"/>
                      </a:cubicBezTo>
                      <a:cubicBezTo>
                        <a:pt x="268" y="757"/>
                        <a:pt x="240" y="714"/>
                        <a:pt x="257" y="747"/>
                      </a:cubicBezTo>
                      <a:cubicBezTo>
                        <a:pt x="259" y="751"/>
                        <a:pt x="270" y="757"/>
                        <a:pt x="265" y="759"/>
                      </a:cubicBezTo>
                      <a:cubicBezTo>
                        <a:pt x="258" y="761"/>
                        <a:pt x="252" y="754"/>
                        <a:pt x="245" y="751"/>
                      </a:cubicBezTo>
                      <a:cubicBezTo>
                        <a:pt x="228" y="717"/>
                        <a:pt x="234" y="720"/>
                        <a:pt x="241" y="671"/>
                      </a:cubicBezTo>
                      <a:cubicBezTo>
                        <a:pt x="249" y="690"/>
                        <a:pt x="254" y="708"/>
                        <a:pt x="261" y="727"/>
                      </a:cubicBezTo>
                      <a:cubicBezTo>
                        <a:pt x="264" y="735"/>
                        <a:pt x="269" y="751"/>
                        <a:pt x="269" y="751"/>
                      </a:cubicBezTo>
                      <a:cubicBezTo>
                        <a:pt x="309" y="711"/>
                        <a:pt x="299" y="657"/>
                        <a:pt x="321" y="607"/>
                      </a:cubicBezTo>
                      <a:cubicBezTo>
                        <a:pt x="329" y="588"/>
                        <a:pt x="333" y="570"/>
                        <a:pt x="353" y="563"/>
                      </a:cubicBezTo>
                      <a:cubicBezTo>
                        <a:pt x="372" y="588"/>
                        <a:pt x="368" y="681"/>
                        <a:pt x="353" y="635"/>
                      </a:cubicBezTo>
                      <a:cubicBezTo>
                        <a:pt x="359" y="593"/>
                        <a:pt x="361" y="547"/>
                        <a:pt x="385" y="511"/>
                      </a:cubicBezTo>
                      <a:cubicBezTo>
                        <a:pt x="383" y="531"/>
                        <a:pt x="377" y="551"/>
                        <a:pt x="377" y="571"/>
                      </a:cubicBezTo>
                      <a:cubicBezTo>
                        <a:pt x="377" y="574"/>
                        <a:pt x="379" y="566"/>
                        <a:pt x="381" y="563"/>
                      </a:cubicBezTo>
                      <a:cubicBezTo>
                        <a:pt x="388" y="552"/>
                        <a:pt x="394" y="542"/>
                        <a:pt x="401" y="531"/>
                      </a:cubicBezTo>
                      <a:cubicBezTo>
                        <a:pt x="408" y="520"/>
                        <a:pt x="394" y="555"/>
                        <a:pt x="389" y="567"/>
                      </a:cubicBezTo>
                      <a:cubicBezTo>
                        <a:pt x="377" y="597"/>
                        <a:pt x="364" y="608"/>
                        <a:pt x="337" y="627"/>
                      </a:cubicBezTo>
                      <a:cubicBezTo>
                        <a:pt x="330" y="638"/>
                        <a:pt x="318" y="678"/>
                        <a:pt x="309" y="651"/>
                      </a:cubicBezTo>
                      <a:cubicBezTo>
                        <a:pt x="312" y="646"/>
                        <a:pt x="311" y="633"/>
                        <a:pt x="317" y="635"/>
                      </a:cubicBezTo>
                      <a:cubicBezTo>
                        <a:pt x="323" y="637"/>
                        <a:pt x="321" y="648"/>
                        <a:pt x="321" y="655"/>
                      </a:cubicBezTo>
                      <a:cubicBezTo>
                        <a:pt x="321" y="777"/>
                        <a:pt x="325" y="750"/>
                        <a:pt x="313" y="811"/>
                      </a:cubicBezTo>
                      <a:cubicBezTo>
                        <a:pt x="316" y="770"/>
                        <a:pt x="319" y="732"/>
                        <a:pt x="309" y="691"/>
                      </a:cubicBezTo>
                      <a:cubicBezTo>
                        <a:pt x="288" y="755"/>
                        <a:pt x="284" y="864"/>
                        <a:pt x="349" y="907"/>
                      </a:cubicBezTo>
                      <a:cubicBezTo>
                        <a:pt x="376" y="880"/>
                        <a:pt x="385" y="843"/>
                        <a:pt x="397" y="807"/>
                      </a:cubicBezTo>
                      <a:cubicBezTo>
                        <a:pt x="399" y="802"/>
                        <a:pt x="392" y="815"/>
                        <a:pt x="389" y="819"/>
                      </a:cubicBezTo>
                      <a:cubicBezTo>
                        <a:pt x="382" y="741"/>
                        <a:pt x="382" y="776"/>
                        <a:pt x="369" y="815"/>
                      </a:cubicBezTo>
                      <a:cubicBezTo>
                        <a:pt x="370" y="819"/>
                        <a:pt x="369" y="829"/>
                        <a:pt x="373" y="827"/>
                      </a:cubicBezTo>
                      <a:cubicBezTo>
                        <a:pt x="385" y="821"/>
                        <a:pt x="399" y="757"/>
                        <a:pt x="401" y="751"/>
                      </a:cubicBezTo>
                      <a:cubicBezTo>
                        <a:pt x="404" y="768"/>
                        <a:pt x="408" y="786"/>
                        <a:pt x="409" y="803"/>
                      </a:cubicBezTo>
                      <a:cubicBezTo>
                        <a:pt x="417" y="897"/>
                        <a:pt x="398" y="924"/>
                        <a:pt x="425" y="871"/>
                      </a:cubicBezTo>
                      <a:cubicBezTo>
                        <a:pt x="431" y="829"/>
                        <a:pt x="436" y="787"/>
                        <a:pt x="449" y="747"/>
                      </a:cubicBezTo>
                      <a:cubicBezTo>
                        <a:pt x="440" y="875"/>
                        <a:pt x="449" y="758"/>
                        <a:pt x="449" y="667"/>
                      </a:cubicBezTo>
                      <a:cubicBezTo>
                        <a:pt x="449" y="647"/>
                        <a:pt x="448" y="707"/>
                        <a:pt x="445" y="727"/>
                      </a:cubicBezTo>
                      <a:cubicBezTo>
                        <a:pt x="442" y="746"/>
                        <a:pt x="438" y="764"/>
                        <a:pt x="433" y="783"/>
                      </a:cubicBezTo>
                      <a:cubicBezTo>
                        <a:pt x="431" y="791"/>
                        <a:pt x="417" y="810"/>
                        <a:pt x="425" y="807"/>
                      </a:cubicBezTo>
                      <a:cubicBezTo>
                        <a:pt x="433" y="804"/>
                        <a:pt x="448" y="774"/>
                        <a:pt x="453" y="763"/>
                      </a:cubicBezTo>
                      <a:cubicBezTo>
                        <a:pt x="450" y="818"/>
                        <a:pt x="427" y="896"/>
                        <a:pt x="437" y="951"/>
                      </a:cubicBezTo>
                      <a:cubicBezTo>
                        <a:pt x="438" y="955"/>
                        <a:pt x="446" y="944"/>
                        <a:pt x="461" y="923"/>
                      </a:cubicBezTo>
                      <a:cubicBezTo>
                        <a:pt x="463" y="929"/>
                        <a:pt x="469" y="965"/>
                        <a:pt x="469" y="919"/>
                      </a:cubicBezTo>
                      <a:cubicBezTo>
                        <a:pt x="469" y="911"/>
                        <a:pt x="466" y="903"/>
                        <a:pt x="465" y="895"/>
                      </a:cubicBezTo>
                      <a:cubicBezTo>
                        <a:pt x="443" y="928"/>
                        <a:pt x="449" y="927"/>
                        <a:pt x="453" y="895"/>
                      </a:cubicBezTo>
                      <a:cubicBezTo>
                        <a:pt x="456" y="874"/>
                        <a:pt x="458" y="852"/>
                        <a:pt x="461" y="831"/>
                      </a:cubicBezTo>
                      <a:cubicBezTo>
                        <a:pt x="462" y="802"/>
                        <a:pt x="463" y="772"/>
                        <a:pt x="465" y="743"/>
                      </a:cubicBezTo>
                      <a:cubicBezTo>
                        <a:pt x="467" y="695"/>
                        <a:pt x="494" y="556"/>
                        <a:pt x="473" y="599"/>
                      </a:cubicBezTo>
                      <a:cubicBezTo>
                        <a:pt x="468" y="610"/>
                        <a:pt x="457" y="631"/>
                        <a:pt x="457" y="631"/>
                      </a:cubicBezTo>
                      <a:cubicBezTo>
                        <a:pt x="456" y="612"/>
                        <a:pt x="457" y="557"/>
                        <a:pt x="453" y="575"/>
                      </a:cubicBezTo>
                      <a:cubicBezTo>
                        <a:pt x="446" y="605"/>
                        <a:pt x="451" y="636"/>
                        <a:pt x="449" y="667"/>
                      </a:cubicBezTo>
                      <a:cubicBezTo>
                        <a:pt x="448" y="679"/>
                        <a:pt x="451" y="695"/>
                        <a:pt x="441" y="703"/>
                      </a:cubicBezTo>
                      <a:cubicBezTo>
                        <a:pt x="437" y="706"/>
                        <a:pt x="430" y="706"/>
                        <a:pt x="425" y="707"/>
                      </a:cubicBezTo>
                      <a:cubicBezTo>
                        <a:pt x="424" y="699"/>
                        <a:pt x="429" y="683"/>
                        <a:pt x="421" y="683"/>
                      </a:cubicBezTo>
                      <a:cubicBezTo>
                        <a:pt x="411" y="683"/>
                        <a:pt x="406" y="698"/>
                        <a:pt x="401" y="707"/>
                      </a:cubicBezTo>
                      <a:cubicBezTo>
                        <a:pt x="398" y="712"/>
                        <a:pt x="393" y="727"/>
                        <a:pt x="397" y="723"/>
                      </a:cubicBezTo>
                      <a:cubicBezTo>
                        <a:pt x="402" y="718"/>
                        <a:pt x="403" y="710"/>
                        <a:pt x="405" y="703"/>
                      </a:cubicBezTo>
                      <a:cubicBezTo>
                        <a:pt x="426" y="647"/>
                        <a:pt x="426" y="585"/>
                        <a:pt x="477" y="551"/>
                      </a:cubicBezTo>
                      <a:cubicBezTo>
                        <a:pt x="480" y="568"/>
                        <a:pt x="476" y="588"/>
                        <a:pt x="485" y="603"/>
                      </a:cubicBezTo>
                      <a:cubicBezTo>
                        <a:pt x="489" y="610"/>
                        <a:pt x="495" y="590"/>
                        <a:pt x="497" y="583"/>
                      </a:cubicBezTo>
                      <a:cubicBezTo>
                        <a:pt x="503" y="565"/>
                        <a:pt x="505" y="546"/>
                        <a:pt x="509" y="527"/>
                      </a:cubicBezTo>
                      <a:cubicBezTo>
                        <a:pt x="510" y="523"/>
                        <a:pt x="514" y="511"/>
                        <a:pt x="513" y="515"/>
                      </a:cubicBezTo>
                      <a:cubicBezTo>
                        <a:pt x="502" y="580"/>
                        <a:pt x="510" y="526"/>
                        <a:pt x="497" y="571"/>
                      </a:cubicBezTo>
                      <a:cubicBezTo>
                        <a:pt x="495" y="578"/>
                        <a:pt x="486" y="591"/>
                        <a:pt x="493" y="591"/>
                      </a:cubicBezTo>
                      <a:cubicBezTo>
                        <a:pt x="500" y="591"/>
                        <a:pt x="497" y="577"/>
                        <a:pt x="501" y="571"/>
                      </a:cubicBezTo>
                      <a:cubicBezTo>
                        <a:pt x="504" y="566"/>
                        <a:pt x="509" y="563"/>
                        <a:pt x="513" y="559"/>
                      </a:cubicBezTo>
                      <a:cubicBezTo>
                        <a:pt x="523" y="593"/>
                        <a:pt x="522" y="624"/>
                        <a:pt x="513" y="659"/>
                      </a:cubicBezTo>
                      <a:cubicBezTo>
                        <a:pt x="519" y="518"/>
                        <a:pt x="523" y="577"/>
                        <a:pt x="477" y="623"/>
                      </a:cubicBezTo>
                      <a:cubicBezTo>
                        <a:pt x="494" y="534"/>
                        <a:pt x="486" y="567"/>
                        <a:pt x="497" y="523"/>
                      </a:cubicBezTo>
                      <a:cubicBezTo>
                        <a:pt x="498" y="527"/>
                        <a:pt x="501" y="531"/>
                        <a:pt x="501" y="535"/>
                      </a:cubicBezTo>
                      <a:cubicBezTo>
                        <a:pt x="501" y="542"/>
                        <a:pt x="494" y="561"/>
                        <a:pt x="497" y="555"/>
                      </a:cubicBezTo>
                      <a:cubicBezTo>
                        <a:pt x="507" y="536"/>
                        <a:pt x="513" y="515"/>
                        <a:pt x="521" y="495"/>
                      </a:cubicBezTo>
                      <a:cubicBezTo>
                        <a:pt x="524" y="474"/>
                        <a:pt x="526" y="452"/>
                        <a:pt x="529" y="431"/>
                      </a:cubicBezTo>
                      <a:cubicBezTo>
                        <a:pt x="530" y="423"/>
                        <a:pt x="531" y="415"/>
                        <a:pt x="533" y="407"/>
                      </a:cubicBezTo>
                      <a:cubicBezTo>
                        <a:pt x="534" y="403"/>
                        <a:pt x="540" y="392"/>
                        <a:pt x="537" y="395"/>
                      </a:cubicBezTo>
                      <a:cubicBezTo>
                        <a:pt x="519" y="413"/>
                        <a:pt x="516" y="440"/>
                        <a:pt x="497" y="459"/>
                      </a:cubicBezTo>
                      <a:cubicBezTo>
                        <a:pt x="494" y="462"/>
                        <a:pt x="502" y="451"/>
                        <a:pt x="505" y="447"/>
                      </a:cubicBezTo>
                      <a:cubicBezTo>
                        <a:pt x="510" y="440"/>
                        <a:pt x="516" y="434"/>
                        <a:pt x="521" y="427"/>
                      </a:cubicBezTo>
                      <a:cubicBezTo>
                        <a:pt x="535" y="378"/>
                        <a:pt x="527" y="369"/>
                        <a:pt x="569" y="355"/>
                      </a:cubicBezTo>
                      <a:cubicBezTo>
                        <a:pt x="571" y="367"/>
                        <a:pt x="580" y="427"/>
                        <a:pt x="561" y="371"/>
                      </a:cubicBezTo>
                      <a:cubicBezTo>
                        <a:pt x="562" y="367"/>
                        <a:pt x="567" y="355"/>
                        <a:pt x="565" y="359"/>
                      </a:cubicBezTo>
                      <a:cubicBezTo>
                        <a:pt x="554" y="387"/>
                        <a:pt x="543" y="413"/>
                        <a:pt x="521" y="435"/>
                      </a:cubicBezTo>
                      <a:cubicBezTo>
                        <a:pt x="518" y="438"/>
                        <a:pt x="526" y="427"/>
                        <a:pt x="529" y="423"/>
                      </a:cubicBezTo>
                      <a:cubicBezTo>
                        <a:pt x="535" y="415"/>
                        <a:pt x="544" y="408"/>
                        <a:pt x="549" y="399"/>
                      </a:cubicBezTo>
                      <a:cubicBezTo>
                        <a:pt x="570" y="360"/>
                        <a:pt x="564" y="337"/>
                        <a:pt x="605" y="323"/>
                      </a:cubicBezTo>
                      <a:cubicBezTo>
                        <a:pt x="612" y="343"/>
                        <a:pt x="611" y="329"/>
                        <a:pt x="597" y="351"/>
                      </a:cubicBezTo>
                      <a:cubicBezTo>
                        <a:pt x="594" y="356"/>
                        <a:pt x="586" y="372"/>
                        <a:pt x="589" y="367"/>
                      </a:cubicBezTo>
                      <a:cubicBezTo>
                        <a:pt x="604" y="345"/>
                        <a:pt x="614" y="326"/>
                        <a:pt x="633" y="307"/>
                      </a:cubicBezTo>
                      <a:cubicBezTo>
                        <a:pt x="625" y="327"/>
                        <a:pt x="619" y="340"/>
                        <a:pt x="609" y="359"/>
                      </a:cubicBezTo>
                      <a:cubicBezTo>
                        <a:pt x="607" y="363"/>
                        <a:pt x="598" y="374"/>
                        <a:pt x="601" y="371"/>
                      </a:cubicBezTo>
                      <a:cubicBezTo>
                        <a:pt x="621" y="351"/>
                        <a:pt x="631" y="328"/>
                        <a:pt x="653" y="311"/>
                      </a:cubicBezTo>
                      <a:cubicBezTo>
                        <a:pt x="660" y="352"/>
                        <a:pt x="662" y="329"/>
                        <a:pt x="625" y="375"/>
                      </a:cubicBezTo>
                      <a:cubicBezTo>
                        <a:pt x="620" y="381"/>
                        <a:pt x="609" y="399"/>
                        <a:pt x="609" y="391"/>
                      </a:cubicBezTo>
                      <a:cubicBezTo>
                        <a:pt x="609" y="351"/>
                        <a:pt x="690" y="288"/>
                        <a:pt x="729" y="275"/>
                      </a:cubicBezTo>
                      <a:cubicBezTo>
                        <a:pt x="736" y="308"/>
                        <a:pt x="716" y="332"/>
                        <a:pt x="693" y="355"/>
                      </a:cubicBezTo>
                      <a:cubicBezTo>
                        <a:pt x="694" y="348"/>
                        <a:pt x="696" y="342"/>
                        <a:pt x="697" y="335"/>
                      </a:cubicBezTo>
                      <a:cubicBezTo>
                        <a:pt x="700" y="316"/>
                        <a:pt x="702" y="298"/>
                        <a:pt x="705" y="279"/>
                      </a:cubicBezTo>
                      <a:cubicBezTo>
                        <a:pt x="727" y="158"/>
                        <a:pt x="705" y="263"/>
                        <a:pt x="693" y="295"/>
                      </a:cubicBezTo>
                      <a:cubicBezTo>
                        <a:pt x="665" y="365"/>
                        <a:pt x="681" y="341"/>
                        <a:pt x="625" y="387"/>
                      </a:cubicBezTo>
                      <a:cubicBezTo>
                        <a:pt x="618" y="393"/>
                        <a:pt x="641" y="376"/>
                        <a:pt x="649" y="371"/>
                      </a:cubicBezTo>
                      <a:cubicBezTo>
                        <a:pt x="662" y="364"/>
                        <a:pt x="671" y="362"/>
                        <a:pt x="685" y="359"/>
                      </a:cubicBezTo>
                      <a:cubicBezTo>
                        <a:pt x="682" y="371"/>
                        <a:pt x="682" y="384"/>
                        <a:pt x="677" y="395"/>
                      </a:cubicBezTo>
                      <a:cubicBezTo>
                        <a:pt x="674" y="402"/>
                        <a:pt x="664" y="418"/>
                        <a:pt x="661" y="411"/>
                      </a:cubicBezTo>
                      <a:cubicBezTo>
                        <a:pt x="657" y="403"/>
                        <a:pt x="667" y="394"/>
                        <a:pt x="673" y="387"/>
                      </a:cubicBezTo>
                      <a:cubicBezTo>
                        <a:pt x="687" y="370"/>
                        <a:pt x="707" y="357"/>
                        <a:pt x="721" y="339"/>
                      </a:cubicBezTo>
                      <a:cubicBezTo>
                        <a:pt x="726" y="332"/>
                        <a:pt x="731" y="313"/>
                        <a:pt x="737" y="319"/>
                      </a:cubicBezTo>
                      <a:cubicBezTo>
                        <a:pt x="743" y="325"/>
                        <a:pt x="725" y="343"/>
                        <a:pt x="725" y="343"/>
                      </a:cubicBezTo>
                      <a:cubicBezTo>
                        <a:pt x="753" y="245"/>
                        <a:pt x="724" y="319"/>
                        <a:pt x="761" y="263"/>
                      </a:cubicBezTo>
                      <a:cubicBezTo>
                        <a:pt x="766" y="256"/>
                        <a:pt x="768" y="246"/>
                        <a:pt x="773" y="239"/>
                      </a:cubicBezTo>
                      <a:cubicBezTo>
                        <a:pt x="776" y="234"/>
                        <a:pt x="790" y="224"/>
                        <a:pt x="785" y="227"/>
                      </a:cubicBezTo>
                      <a:cubicBezTo>
                        <a:pt x="760" y="244"/>
                        <a:pt x="746" y="261"/>
                        <a:pt x="717" y="271"/>
                      </a:cubicBezTo>
                      <a:cubicBezTo>
                        <a:pt x="719" y="255"/>
                        <a:pt x="721" y="239"/>
                        <a:pt x="725" y="223"/>
                      </a:cubicBezTo>
                      <a:cubicBezTo>
                        <a:pt x="726" y="219"/>
                        <a:pt x="732" y="214"/>
                        <a:pt x="729" y="211"/>
                      </a:cubicBezTo>
                      <a:cubicBezTo>
                        <a:pt x="726" y="208"/>
                        <a:pt x="721" y="214"/>
                        <a:pt x="717" y="215"/>
                      </a:cubicBezTo>
                      <a:cubicBezTo>
                        <a:pt x="685" y="240"/>
                        <a:pt x="648" y="249"/>
                        <a:pt x="617" y="275"/>
                      </a:cubicBezTo>
                      <a:cubicBezTo>
                        <a:pt x="627" y="236"/>
                        <a:pt x="640" y="208"/>
                        <a:pt x="669" y="179"/>
                      </a:cubicBezTo>
                      <a:cubicBezTo>
                        <a:pt x="680" y="196"/>
                        <a:pt x="676" y="203"/>
                        <a:pt x="665" y="219"/>
                      </a:cubicBezTo>
                      <a:cubicBezTo>
                        <a:pt x="673" y="186"/>
                        <a:pt x="684" y="166"/>
                        <a:pt x="661" y="135"/>
                      </a:cubicBezTo>
                      <a:cubicBezTo>
                        <a:pt x="678" y="132"/>
                        <a:pt x="704" y="142"/>
                        <a:pt x="713" y="127"/>
                      </a:cubicBezTo>
                      <a:cubicBezTo>
                        <a:pt x="717" y="120"/>
                        <a:pt x="700" y="116"/>
                        <a:pt x="693" y="111"/>
                      </a:cubicBezTo>
                      <a:cubicBezTo>
                        <a:pt x="689" y="109"/>
                        <a:pt x="678" y="104"/>
                        <a:pt x="681" y="107"/>
                      </a:cubicBezTo>
                      <a:cubicBezTo>
                        <a:pt x="693" y="119"/>
                        <a:pt x="726" y="118"/>
                        <a:pt x="737" y="119"/>
                      </a:cubicBezTo>
                      <a:cubicBezTo>
                        <a:pt x="760" y="127"/>
                        <a:pt x="769" y="143"/>
                        <a:pt x="785" y="159"/>
                      </a:cubicBezTo>
                      <a:cubicBezTo>
                        <a:pt x="660" y="206"/>
                        <a:pt x="451" y="197"/>
                        <a:pt x="313" y="207"/>
                      </a:cubicBezTo>
                      <a:cubicBezTo>
                        <a:pt x="266" y="204"/>
                        <a:pt x="252" y="200"/>
                        <a:pt x="213" y="187"/>
                      </a:cubicBezTo>
                      <a:cubicBezTo>
                        <a:pt x="196" y="174"/>
                        <a:pt x="188" y="163"/>
                        <a:pt x="181" y="143"/>
                      </a:cubicBezTo>
                      <a:cubicBezTo>
                        <a:pt x="195" y="108"/>
                        <a:pt x="204" y="119"/>
                        <a:pt x="245" y="123"/>
                      </a:cubicBezTo>
                      <a:cubicBezTo>
                        <a:pt x="199" y="159"/>
                        <a:pt x="178" y="166"/>
                        <a:pt x="117" y="171"/>
                      </a:cubicBezTo>
                      <a:cubicBezTo>
                        <a:pt x="99" y="175"/>
                        <a:pt x="86" y="181"/>
                        <a:pt x="69" y="187"/>
                      </a:cubicBezTo>
                      <a:cubicBezTo>
                        <a:pt x="52" y="204"/>
                        <a:pt x="33" y="226"/>
                        <a:pt x="13" y="239"/>
                      </a:cubicBezTo>
                      <a:cubicBezTo>
                        <a:pt x="11" y="244"/>
                        <a:pt x="5" y="263"/>
                        <a:pt x="5" y="267"/>
                      </a:cubicBezTo>
                      <a:cubicBezTo>
                        <a:pt x="6" y="279"/>
                        <a:pt x="16" y="315"/>
                        <a:pt x="29" y="315"/>
                      </a:cubicBezTo>
                    </a:path>
                  </a:pathLst>
                </a:custGeom>
                <a:noFill/>
                <a:ln w="7632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grpSp>
          <p:sp>
            <p:nvSpPr>
              <p:cNvPr id="205" name=""/>
              <p:cNvSpPr/>
              <p:nvPr/>
            </p:nvSpPr>
            <p:spPr>
              <a:xfrm flipH="1" rot="7177800">
                <a:off x="4656600" y="5508360"/>
                <a:ext cx="653760" cy="123480"/>
              </a:xfrm>
              <a:custGeom>
                <a:avLst/>
                <a:gdLst/>
                <a:ahLst/>
                <a:rect l="l" t="t" r="r" b="b"/>
                <a:pathLst>
                  <a:path w="412" h="78">
                    <a:moveTo>
                      <a:pt x="0" y="78"/>
                    </a:moveTo>
                    <a:cubicBezTo>
                      <a:pt x="24" y="74"/>
                      <a:pt x="38" y="60"/>
                      <a:pt x="60" y="54"/>
                    </a:cubicBezTo>
                    <a:cubicBezTo>
                      <a:pt x="104" y="41"/>
                      <a:pt x="151" y="28"/>
                      <a:pt x="196" y="22"/>
                    </a:cubicBezTo>
                    <a:cubicBezTo>
                      <a:pt x="235" y="9"/>
                      <a:pt x="279" y="9"/>
                      <a:pt x="320" y="6"/>
                    </a:cubicBezTo>
                    <a:cubicBezTo>
                      <a:pt x="351" y="0"/>
                      <a:pt x="380" y="6"/>
                      <a:pt x="412" y="6"/>
                    </a:cubicBezTo>
                  </a:path>
                </a:pathLst>
              </a:custGeom>
              <a:noFill/>
              <a:ln w="7632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06" name=""/>
              <p:cNvSpPr/>
              <p:nvPr/>
            </p:nvSpPr>
            <p:spPr>
              <a:xfrm flipH="1" rot="7177800">
                <a:off x="4932720" y="4984920"/>
                <a:ext cx="52200" cy="41040"/>
              </a:xfrm>
              <a:custGeom>
                <a:avLst/>
                <a:gdLst/>
                <a:ahLst/>
                <a:rect l="l" t="t" r="r" b="b"/>
                <a:pathLst>
                  <a:path w="33" h="26">
                    <a:moveTo>
                      <a:pt x="29" y="1"/>
                    </a:moveTo>
                    <a:cubicBezTo>
                      <a:pt x="26" y="4"/>
                      <a:pt x="20" y="11"/>
                      <a:pt x="18" y="7"/>
                    </a:cubicBezTo>
                    <a:cubicBezTo>
                      <a:pt x="17" y="5"/>
                      <a:pt x="22" y="0"/>
                      <a:pt x="20" y="1"/>
                    </a:cubicBezTo>
                    <a:cubicBezTo>
                      <a:pt x="16" y="2"/>
                      <a:pt x="9" y="10"/>
                      <a:pt x="9" y="10"/>
                    </a:cubicBezTo>
                    <a:cubicBezTo>
                      <a:pt x="0" y="26"/>
                      <a:pt x="25" y="7"/>
                      <a:pt x="33" y="4"/>
                    </a:cubicBezTo>
                    <a:cubicBezTo>
                      <a:pt x="32" y="8"/>
                      <a:pt x="27" y="15"/>
                      <a:pt x="27" y="15"/>
                    </a:cubicBezTo>
                  </a:path>
                </a:pathLst>
              </a:custGeom>
              <a:noFill/>
              <a:ln w="76320">
                <a:solidFill>
                  <a:srgbClr val="66ff33"/>
                </a:solidFill>
                <a:round/>
              </a:ln>
            </p:spPr>
            <p:style>
              <a:lnRef idx="0"/>
              <a:fillRef idx="0"/>
              <a:effectRef idx="0"/>
              <a:fontRef idx="minor"/>
            </p:style>
            <p:txBody>
              <a:bodyPr lIns="90000" rIns="90000" tIns="-5760" bIns="-5760" anchor="t">
                <a:noAutofit/>
              </a:bodyPr>
              <a:p>
                <a:endParaRPr b="0" lang="en-US" sz="2400" spc="-1" strike="noStrike">
                  <a:solidFill>
                    <a:srgbClr val="f8f8f8"/>
                  </a:solidFill>
                  <a:latin typeface="Times New Roman"/>
                </a:endParaRPr>
              </a:p>
            </p:txBody>
          </p:sp>
          <p:sp>
            <p:nvSpPr>
              <p:cNvPr id="207" name=""/>
              <p:cNvSpPr/>
              <p:nvPr/>
            </p:nvSpPr>
            <p:spPr>
              <a:xfrm flipH="1" rot="7177800">
                <a:off x="4472640" y="4843080"/>
                <a:ext cx="33480" cy="101160"/>
              </a:xfrm>
              <a:custGeom>
                <a:avLst/>
                <a:gdLst/>
                <a:ahLst/>
                <a:rect l="l" t="t" r="r" b="b"/>
                <a:pathLst>
                  <a:path w="21" h="64">
                    <a:moveTo>
                      <a:pt x="1" y="0"/>
                    </a:moveTo>
                    <a:cubicBezTo>
                      <a:pt x="4" y="11"/>
                      <a:pt x="7" y="19"/>
                      <a:pt x="9" y="31"/>
                    </a:cubicBezTo>
                    <a:cubicBezTo>
                      <a:pt x="12" y="26"/>
                      <a:pt x="21" y="17"/>
                      <a:pt x="10" y="19"/>
                    </a:cubicBezTo>
                    <a:cubicBezTo>
                      <a:pt x="7" y="24"/>
                      <a:pt x="4" y="29"/>
                      <a:pt x="1" y="34"/>
                    </a:cubicBezTo>
                    <a:cubicBezTo>
                      <a:pt x="0" y="52"/>
                      <a:pt x="0" y="42"/>
                      <a:pt x="0" y="64"/>
                    </a:cubicBezTo>
                  </a:path>
                </a:pathLst>
              </a:custGeom>
              <a:noFill/>
              <a:ln w="7632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08" name=""/>
              <p:cNvSpPr/>
              <p:nvPr/>
            </p:nvSpPr>
            <p:spPr>
              <a:xfrm flipH="1" rot="7177800">
                <a:off x="4278240" y="5073480"/>
                <a:ext cx="46080" cy="33120"/>
              </a:xfrm>
              <a:custGeom>
                <a:avLst/>
                <a:gdLst/>
                <a:ahLst/>
                <a:rect l="l" t="t" r="r" b="b"/>
                <a:pathLst>
                  <a:path w="29" h="21">
                    <a:moveTo>
                      <a:pt x="29" y="0"/>
                    </a:moveTo>
                    <a:cubicBezTo>
                      <a:pt x="19" y="5"/>
                      <a:pt x="10" y="12"/>
                      <a:pt x="0" y="18"/>
                    </a:cubicBezTo>
                    <a:cubicBezTo>
                      <a:pt x="2" y="19"/>
                      <a:pt x="4" y="21"/>
                      <a:pt x="6" y="21"/>
                    </a:cubicBezTo>
                    <a:cubicBezTo>
                      <a:pt x="9" y="21"/>
                      <a:pt x="15" y="15"/>
                      <a:pt x="18" y="13"/>
                    </a:cubicBezTo>
                    <a:cubicBezTo>
                      <a:pt x="20" y="12"/>
                      <a:pt x="24" y="11"/>
                      <a:pt x="23" y="10"/>
                    </a:cubicBezTo>
                    <a:cubicBezTo>
                      <a:pt x="21" y="8"/>
                      <a:pt x="17" y="12"/>
                      <a:pt x="14" y="13"/>
                    </a:cubicBezTo>
                  </a:path>
                </a:pathLst>
              </a:custGeom>
              <a:noFill/>
              <a:ln w="76320">
                <a:solidFill>
                  <a:srgbClr val="66ff33"/>
                </a:solidFill>
                <a:round/>
              </a:ln>
            </p:spPr>
            <p:style>
              <a:lnRef idx="0"/>
              <a:fillRef idx="0"/>
              <a:effectRef idx="0"/>
              <a:fontRef idx="minor"/>
            </p:style>
            <p:txBody>
              <a:bodyPr lIns="90000" rIns="90000" tIns="-13680" bIns="-13680" anchor="t">
                <a:noAutofit/>
              </a:bodyPr>
              <a:p>
                <a:endParaRPr b="0" lang="en-US" sz="2400" spc="-1" strike="noStrike">
                  <a:solidFill>
                    <a:srgbClr val="f8f8f8"/>
                  </a:solidFill>
                  <a:latin typeface="Times New Roman"/>
                </a:endParaRPr>
              </a:p>
            </p:txBody>
          </p:sp>
          <p:sp>
            <p:nvSpPr>
              <p:cNvPr id="209" name=""/>
              <p:cNvSpPr/>
              <p:nvPr/>
            </p:nvSpPr>
            <p:spPr>
              <a:xfrm flipH="1" rot="7177800">
                <a:off x="3885480" y="5104800"/>
                <a:ext cx="34920" cy="66240"/>
              </a:xfrm>
              <a:custGeom>
                <a:avLst/>
                <a:gdLst/>
                <a:ahLst/>
                <a:rect l="l" t="t" r="r" b="b"/>
                <a:pathLst>
                  <a:path w="22" h="42">
                    <a:moveTo>
                      <a:pt x="0" y="0"/>
                    </a:moveTo>
                    <a:cubicBezTo>
                      <a:pt x="1" y="2"/>
                      <a:pt x="4" y="13"/>
                      <a:pt x="5" y="14"/>
                    </a:cubicBezTo>
                    <a:cubicBezTo>
                      <a:pt x="7" y="17"/>
                      <a:pt x="14" y="21"/>
                      <a:pt x="14" y="21"/>
                    </a:cubicBezTo>
                    <a:cubicBezTo>
                      <a:pt x="19" y="32"/>
                      <a:pt x="15" y="22"/>
                      <a:pt x="18" y="35"/>
                    </a:cubicBezTo>
                    <a:cubicBezTo>
                      <a:pt x="18" y="37"/>
                      <a:pt x="22" y="42"/>
                      <a:pt x="20" y="42"/>
                    </a:cubicBezTo>
                    <a:cubicBezTo>
                      <a:pt x="19" y="42"/>
                      <a:pt x="8" y="22"/>
                      <a:pt x="0" y="17"/>
                    </a:cubicBezTo>
                    <a:cubicBezTo>
                      <a:pt x="0" y="17"/>
                      <a:pt x="2" y="20"/>
                      <a:pt x="3" y="21"/>
                    </a:cubicBezTo>
                    <a:cubicBezTo>
                      <a:pt x="9" y="27"/>
                      <a:pt x="17" y="33"/>
                      <a:pt x="21" y="41"/>
                    </a:cubicBezTo>
                  </a:path>
                </a:pathLst>
              </a:custGeom>
              <a:noFill/>
              <a:ln w="76320">
                <a:solidFill>
                  <a:srgbClr val="66ff33"/>
                </a:solidFill>
                <a:round/>
              </a:ln>
            </p:spPr>
            <p:style>
              <a:lnRef idx="0"/>
              <a:fillRef idx="0"/>
              <a:effectRef idx="0"/>
              <a:fontRef idx="minor"/>
            </p:style>
            <p:txBody>
              <a:bodyPr lIns="90000" rIns="90000" tIns="19440" bIns="19440" anchor="t">
                <a:noAutofit/>
              </a:bodyPr>
              <a:p>
                <a:endParaRPr b="0" lang="en-US" sz="2400" spc="-1" strike="noStrike">
                  <a:solidFill>
                    <a:srgbClr val="f8f8f8"/>
                  </a:solidFill>
                  <a:latin typeface="Times New Roman"/>
                </a:endParaRPr>
              </a:p>
            </p:txBody>
          </p:sp>
        </p:grpSp>
        <p:sp>
          <p:nvSpPr>
            <p:cNvPr id="210" name=""/>
            <p:cNvSpPr/>
            <p:nvPr/>
          </p:nvSpPr>
          <p:spPr>
            <a:xfrm>
              <a:off x="3762360" y="4673520"/>
              <a:ext cx="1609920" cy="1339920"/>
            </a:xfrm>
            <a:custGeom>
              <a:avLst/>
              <a:gdLst/>
              <a:ahLst/>
              <a:rect l="l" t="t" r="r" b="b"/>
              <a:pathLst>
                <a:path w="1014" h="844">
                  <a:moveTo>
                    <a:pt x="10" y="0"/>
                  </a:moveTo>
                  <a:cubicBezTo>
                    <a:pt x="14" y="1"/>
                    <a:pt x="18" y="2"/>
                    <a:pt x="22" y="4"/>
                  </a:cubicBezTo>
                  <a:cubicBezTo>
                    <a:pt x="26" y="6"/>
                    <a:pt x="30" y="10"/>
                    <a:pt x="34" y="12"/>
                  </a:cubicBezTo>
                  <a:cubicBezTo>
                    <a:pt x="42" y="15"/>
                    <a:pt x="58" y="20"/>
                    <a:pt x="58" y="20"/>
                  </a:cubicBezTo>
                  <a:cubicBezTo>
                    <a:pt x="63" y="25"/>
                    <a:pt x="89" y="41"/>
                    <a:pt x="62" y="44"/>
                  </a:cubicBezTo>
                  <a:cubicBezTo>
                    <a:pt x="54" y="45"/>
                    <a:pt x="46" y="42"/>
                    <a:pt x="38" y="40"/>
                  </a:cubicBezTo>
                  <a:cubicBezTo>
                    <a:pt x="30" y="38"/>
                    <a:pt x="14" y="32"/>
                    <a:pt x="14" y="32"/>
                  </a:cubicBezTo>
                  <a:cubicBezTo>
                    <a:pt x="0" y="61"/>
                    <a:pt x="6" y="86"/>
                    <a:pt x="22" y="112"/>
                  </a:cubicBezTo>
                  <a:cubicBezTo>
                    <a:pt x="27" y="131"/>
                    <a:pt x="35" y="154"/>
                    <a:pt x="54" y="160"/>
                  </a:cubicBezTo>
                  <a:cubicBezTo>
                    <a:pt x="60" y="179"/>
                    <a:pt x="45" y="185"/>
                    <a:pt x="34" y="200"/>
                  </a:cubicBezTo>
                  <a:cubicBezTo>
                    <a:pt x="25" y="228"/>
                    <a:pt x="37" y="257"/>
                    <a:pt x="46" y="284"/>
                  </a:cubicBezTo>
                  <a:cubicBezTo>
                    <a:pt x="64" y="337"/>
                    <a:pt x="57" y="381"/>
                    <a:pt x="110" y="416"/>
                  </a:cubicBezTo>
                  <a:cubicBezTo>
                    <a:pt x="114" y="427"/>
                    <a:pt x="124" y="496"/>
                    <a:pt x="130" y="500"/>
                  </a:cubicBezTo>
                  <a:cubicBezTo>
                    <a:pt x="134" y="503"/>
                    <a:pt x="141" y="503"/>
                    <a:pt x="146" y="504"/>
                  </a:cubicBezTo>
                  <a:cubicBezTo>
                    <a:pt x="151" y="503"/>
                    <a:pt x="160" y="505"/>
                    <a:pt x="162" y="500"/>
                  </a:cubicBezTo>
                  <a:cubicBezTo>
                    <a:pt x="175" y="474"/>
                    <a:pt x="133" y="474"/>
                    <a:pt x="122" y="472"/>
                  </a:cubicBezTo>
                  <a:cubicBezTo>
                    <a:pt x="112" y="443"/>
                    <a:pt x="119" y="476"/>
                    <a:pt x="150" y="464"/>
                  </a:cubicBezTo>
                  <a:cubicBezTo>
                    <a:pt x="157" y="461"/>
                    <a:pt x="155" y="451"/>
                    <a:pt x="158" y="444"/>
                  </a:cubicBezTo>
                  <a:cubicBezTo>
                    <a:pt x="157" y="436"/>
                    <a:pt x="158" y="427"/>
                    <a:pt x="154" y="420"/>
                  </a:cubicBezTo>
                  <a:cubicBezTo>
                    <a:pt x="152" y="416"/>
                    <a:pt x="144" y="412"/>
                    <a:pt x="142" y="416"/>
                  </a:cubicBezTo>
                  <a:cubicBezTo>
                    <a:pt x="139" y="421"/>
                    <a:pt x="145" y="427"/>
                    <a:pt x="146" y="432"/>
                  </a:cubicBezTo>
                  <a:cubicBezTo>
                    <a:pt x="151" y="499"/>
                    <a:pt x="146" y="533"/>
                    <a:pt x="214" y="556"/>
                  </a:cubicBezTo>
                  <a:cubicBezTo>
                    <a:pt x="222" y="581"/>
                    <a:pt x="226" y="631"/>
                    <a:pt x="254" y="640"/>
                  </a:cubicBezTo>
                  <a:cubicBezTo>
                    <a:pt x="260" y="659"/>
                    <a:pt x="271" y="670"/>
                    <a:pt x="290" y="676"/>
                  </a:cubicBezTo>
                  <a:cubicBezTo>
                    <a:pt x="305" y="701"/>
                    <a:pt x="309" y="699"/>
                    <a:pt x="286" y="688"/>
                  </a:cubicBezTo>
                  <a:cubicBezTo>
                    <a:pt x="276" y="668"/>
                    <a:pt x="266" y="647"/>
                    <a:pt x="254" y="628"/>
                  </a:cubicBezTo>
                  <a:cubicBezTo>
                    <a:pt x="255" y="621"/>
                    <a:pt x="253" y="612"/>
                    <a:pt x="258" y="608"/>
                  </a:cubicBezTo>
                  <a:cubicBezTo>
                    <a:pt x="267" y="601"/>
                    <a:pt x="285" y="642"/>
                    <a:pt x="286" y="644"/>
                  </a:cubicBezTo>
                  <a:cubicBezTo>
                    <a:pt x="300" y="666"/>
                    <a:pt x="313" y="668"/>
                    <a:pt x="338" y="672"/>
                  </a:cubicBezTo>
                  <a:cubicBezTo>
                    <a:pt x="351" y="691"/>
                    <a:pt x="371" y="700"/>
                    <a:pt x="390" y="712"/>
                  </a:cubicBezTo>
                  <a:cubicBezTo>
                    <a:pt x="393" y="738"/>
                    <a:pt x="404" y="759"/>
                    <a:pt x="378" y="768"/>
                  </a:cubicBezTo>
                  <a:cubicBezTo>
                    <a:pt x="374" y="767"/>
                    <a:pt x="369" y="767"/>
                    <a:pt x="366" y="764"/>
                  </a:cubicBezTo>
                  <a:cubicBezTo>
                    <a:pt x="345" y="743"/>
                    <a:pt x="378" y="756"/>
                    <a:pt x="378" y="756"/>
                  </a:cubicBezTo>
                  <a:cubicBezTo>
                    <a:pt x="409" y="776"/>
                    <a:pt x="395" y="778"/>
                    <a:pt x="438" y="784"/>
                  </a:cubicBezTo>
                  <a:cubicBezTo>
                    <a:pt x="441" y="788"/>
                    <a:pt x="443" y="793"/>
                    <a:pt x="446" y="796"/>
                  </a:cubicBezTo>
                  <a:cubicBezTo>
                    <a:pt x="449" y="799"/>
                    <a:pt x="455" y="800"/>
                    <a:pt x="458" y="804"/>
                  </a:cubicBezTo>
                  <a:cubicBezTo>
                    <a:pt x="469" y="818"/>
                    <a:pt x="462" y="828"/>
                    <a:pt x="478" y="844"/>
                  </a:cubicBezTo>
                  <a:cubicBezTo>
                    <a:pt x="488" y="839"/>
                    <a:pt x="496" y="831"/>
                    <a:pt x="506" y="828"/>
                  </a:cubicBezTo>
                  <a:cubicBezTo>
                    <a:pt x="551" y="813"/>
                    <a:pt x="603" y="815"/>
                    <a:pt x="638" y="780"/>
                  </a:cubicBezTo>
                  <a:cubicBezTo>
                    <a:pt x="649" y="748"/>
                    <a:pt x="647" y="764"/>
                    <a:pt x="642" y="732"/>
                  </a:cubicBezTo>
                  <a:cubicBezTo>
                    <a:pt x="635" y="753"/>
                    <a:pt x="638" y="755"/>
                    <a:pt x="622" y="768"/>
                  </a:cubicBezTo>
                  <a:cubicBezTo>
                    <a:pt x="614" y="774"/>
                    <a:pt x="589" y="787"/>
                    <a:pt x="598" y="784"/>
                  </a:cubicBezTo>
                  <a:cubicBezTo>
                    <a:pt x="623" y="776"/>
                    <a:pt x="624" y="778"/>
                    <a:pt x="646" y="760"/>
                  </a:cubicBezTo>
                  <a:cubicBezTo>
                    <a:pt x="652" y="755"/>
                    <a:pt x="656" y="748"/>
                    <a:pt x="662" y="744"/>
                  </a:cubicBezTo>
                  <a:cubicBezTo>
                    <a:pt x="665" y="742"/>
                    <a:pt x="678" y="740"/>
                    <a:pt x="674" y="740"/>
                  </a:cubicBezTo>
                  <a:cubicBezTo>
                    <a:pt x="663" y="740"/>
                    <a:pt x="653" y="743"/>
                    <a:pt x="642" y="744"/>
                  </a:cubicBezTo>
                  <a:cubicBezTo>
                    <a:pt x="626" y="752"/>
                    <a:pt x="610" y="761"/>
                    <a:pt x="598" y="776"/>
                  </a:cubicBezTo>
                  <a:cubicBezTo>
                    <a:pt x="583" y="796"/>
                    <a:pt x="588" y="799"/>
                    <a:pt x="570" y="808"/>
                  </a:cubicBezTo>
                  <a:cubicBezTo>
                    <a:pt x="566" y="810"/>
                    <a:pt x="562" y="810"/>
                    <a:pt x="558" y="812"/>
                  </a:cubicBezTo>
                  <a:cubicBezTo>
                    <a:pt x="550" y="817"/>
                    <a:pt x="542" y="823"/>
                    <a:pt x="534" y="828"/>
                  </a:cubicBezTo>
                  <a:cubicBezTo>
                    <a:pt x="530" y="831"/>
                    <a:pt x="518" y="838"/>
                    <a:pt x="522" y="836"/>
                  </a:cubicBezTo>
                  <a:cubicBezTo>
                    <a:pt x="529" y="833"/>
                    <a:pt x="535" y="831"/>
                    <a:pt x="542" y="828"/>
                  </a:cubicBezTo>
                  <a:cubicBezTo>
                    <a:pt x="545" y="824"/>
                    <a:pt x="553" y="819"/>
                    <a:pt x="550" y="816"/>
                  </a:cubicBezTo>
                  <a:cubicBezTo>
                    <a:pt x="546" y="812"/>
                    <a:pt x="531" y="825"/>
                    <a:pt x="534" y="820"/>
                  </a:cubicBezTo>
                  <a:cubicBezTo>
                    <a:pt x="543" y="806"/>
                    <a:pt x="570" y="796"/>
                    <a:pt x="586" y="792"/>
                  </a:cubicBezTo>
                  <a:cubicBezTo>
                    <a:pt x="619" y="770"/>
                    <a:pt x="640" y="729"/>
                    <a:pt x="678" y="712"/>
                  </a:cubicBezTo>
                  <a:cubicBezTo>
                    <a:pt x="728" y="690"/>
                    <a:pt x="676" y="721"/>
                    <a:pt x="726" y="688"/>
                  </a:cubicBezTo>
                  <a:cubicBezTo>
                    <a:pt x="734" y="683"/>
                    <a:pt x="750" y="672"/>
                    <a:pt x="750" y="672"/>
                  </a:cubicBezTo>
                  <a:cubicBezTo>
                    <a:pt x="780" y="627"/>
                    <a:pt x="837" y="606"/>
                    <a:pt x="866" y="560"/>
                  </a:cubicBezTo>
                  <a:cubicBezTo>
                    <a:pt x="875" y="545"/>
                    <a:pt x="887" y="529"/>
                    <a:pt x="894" y="512"/>
                  </a:cubicBezTo>
                  <a:cubicBezTo>
                    <a:pt x="897" y="504"/>
                    <a:pt x="902" y="488"/>
                    <a:pt x="902" y="488"/>
                  </a:cubicBezTo>
                  <a:cubicBezTo>
                    <a:pt x="910" y="432"/>
                    <a:pt x="929" y="381"/>
                    <a:pt x="970" y="340"/>
                  </a:cubicBezTo>
                  <a:cubicBezTo>
                    <a:pt x="972" y="294"/>
                    <a:pt x="972" y="265"/>
                    <a:pt x="982" y="224"/>
                  </a:cubicBezTo>
                  <a:cubicBezTo>
                    <a:pt x="986" y="207"/>
                    <a:pt x="996" y="193"/>
                    <a:pt x="1002" y="176"/>
                  </a:cubicBezTo>
                  <a:cubicBezTo>
                    <a:pt x="1003" y="172"/>
                    <a:pt x="1006" y="164"/>
                    <a:pt x="1006" y="164"/>
                  </a:cubicBezTo>
                  <a:cubicBezTo>
                    <a:pt x="1010" y="76"/>
                    <a:pt x="1014" y="61"/>
                    <a:pt x="998" y="108"/>
                  </a:cubicBezTo>
                  <a:cubicBezTo>
                    <a:pt x="996" y="127"/>
                    <a:pt x="999" y="175"/>
                    <a:pt x="982" y="192"/>
                  </a:cubicBezTo>
                </a:path>
              </a:pathLst>
            </a:custGeom>
            <a:noFill/>
            <a:ln w="7632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grpSp>
      <p:grpSp>
        <p:nvGrpSpPr>
          <p:cNvPr id="211" name=""/>
          <p:cNvGrpSpPr/>
          <p:nvPr/>
        </p:nvGrpSpPr>
        <p:grpSpPr>
          <a:xfrm>
            <a:off x="4670280" y="2933640"/>
            <a:ext cx="1487520" cy="1603440"/>
            <a:chOff x="4670280" y="2933640"/>
            <a:chExt cx="1487520" cy="1603440"/>
          </a:xfrm>
        </p:grpSpPr>
        <p:grpSp>
          <p:nvGrpSpPr>
            <p:cNvPr id="212" name=""/>
            <p:cNvGrpSpPr/>
            <p:nvPr/>
          </p:nvGrpSpPr>
          <p:grpSpPr>
            <a:xfrm>
              <a:off x="4670280" y="2933640"/>
              <a:ext cx="1487520" cy="1603440"/>
              <a:chOff x="4670280" y="2933640"/>
              <a:chExt cx="1487520" cy="1603440"/>
            </a:xfrm>
          </p:grpSpPr>
          <p:sp>
            <p:nvSpPr>
              <p:cNvPr id="213" name=""/>
              <p:cNvSpPr/>
              <p:nvPr/>
            </p:nvSpPr>
            <p:spPr>
              <a:xfrm flipH="1">
                <a:off x="4716000" y="3073320"/>
                <a:ext cx="1415880" cy="1373400"/>
              </a:xfrm>
              <a:custGeom>
                <a:avLst/>
                <a:gdLst/>
                <a:ahLst/>
                <a:rect l="l" t="t" r="r" b="b"/>
                <a:pathLst>
                  <a:path w="892" h="865">
                    <a:moveTo>
                      <a:pt x="0" y="140"/>
                    </a:moveTo>
                    <a:cubicBezTo>
                      <a:pt x="37" y="135"/>
                      <a:pt x="85" y="137"/>
                      <a:pt x="120" y="120"/>
                    </a:cubicBezTo>
                    <a:cubicBezTo>
                      <a:pt x="142" y="109"/>
                      <a:pt x="142" y="90"/>
                      <a:pt x="156" y="76"/>
                    </a:cubicBezTo>
                    <a:cubicBezTo>
                      <a:pt x="185" y="47"/>
                      <a:pt x="235" y="51"/>
                      <a:pt x="272" y="44"/>
                    </a:cubicBezTo>
                    <a:cubicBezTo>
                      <a:pt x="327" y="8"/>
                      <a:pt x="392" y="15"/>
                      <a:pt x="456" y="12"/>
                    </a:cubicBezTo>
                    <a:cubicBezTo>
                      <a:pt x="531" y="0"/>
                      <a:pt x="590" y="32"/>
                      <a:pt x="660" y="48"/>
                    </a:cubicBezTo>
                    <a:cubicBezTo>
                      <a:pt x="697" y="56"/>
                      <a:pt x="735" y="58"/>
                      <a:pt x="772" y="60"/>
                    </a:cubicBezTo>
                    <a:cubicBezTo>
                      <a:pt x="806" y="69"/>
                      <a:pt x="839" y="84"/>
                      <a:pt x="872" y="92"/>
                    </a:cubicBezTo>
                    <a:cubicBezTo>
                      <a:pt x="879" y="99"/>
                      <a:pt x="892" y="104"/>
                      <a:pt x="880" y="116"/>
                    </a:cubicBezTo>
                    <a:cubicBezTo>
                      <a:pt x="878" y="118"/>
                      <a:pt x="852" y="124"/>
                      <a:pt x="852" y="124"/>
                    </a:cubicBezTo>
                    <a:cubicBezTo>
                      <a:pt x="829" y="131"/>
                      <a:pt x="803" y="136"/>
                      <a:pt x="784" y="152"/>
                    </a:cubicBezTo>
                    <a:cubicBezTo>
                      <a:pt x="761" y="171"/>
                      <a:pt x="744" y="202"/>
                      <a:pt x="724" y="224"/>
                    </a:cubicBezTo>
                    <a:cubicBezTo>
                      <a:pt x="716" y="232"/>
                      <a:pt x="708" y="240"/>
                      <a:pt x="700" y="248"/>
                    </a:cubicBezTo>
                    <a:cubicBezTo>
                      <a:pt x="693" y="255"/>
                      <a:pt x="676" y="264"/>
                      <a:pt x="676" y="264"/>
                    </a:cubicBezTo>
                    <a:cubicBezTo>
                      <a:pt x="657" y="293"/>
                      <a:pt x="636" y="340"/>
                      <a:pt x="600" y="352"/>
                    </a:cubicBezTo>
                    <a:cubicBezTo>
                      <a:pt x="578" y="374"/>
                      <a:pt x="558" y="400"/>
                      <a:pt x="544" y="428"/>
                    </a:cubicBezTo>
                    <a:cubicBezTo>
                      <a:pt x="538" y="440"/>
                      <a:pt x="524" y="464"/>
                      <a:pt x="524" y="464"/>
                    </a:cubicBezTo>
                    <a:cubicBezTo>
                      <a:pt x="512" y="512"/>
                      <a:pt x="492" y="549"/>
                      <a:pt x="468" y="592"/>
                    </a:cubicBezTo>
                    <a:cubicBezTo>
                      <a:pt x="459" y="608"/>
                      <a:pt x="459" y="612"/>
                      <a:pt x="452" y="632"/>
                    </a:cubicBezTo>
                    <a:cubicBezTo>
                      <a:pt x="449" y="640"/>
                      <a:pt x="444" y="656"/>
                      <a:pt x="444" y="656"/>
                    </a:cubicBezTo>
                    <a:cubicBezTo>
                      <a:pt x="441" y="688"/>
                      <a:pt x="440" y="724"/>
                      <a:pt x="416" y="748"/>
                    </a:cubicBezTo>
                    <a:cubicBezTo>
                      <a:pt x="410" y="766"/>
                      <a:pt x="401" y="781"/>
                      <a:pt x="396" y="800"/>
                    </a:cubicBezTo>
                    <a:cubicBezTo>
                      <a:pt x="395" y="817"/>
                      <a:pt x="394" y="835"/>
                      <a:pt x="392" y="852"/>
                    </a:cubicBezTo>
                    <a:cubicBezTo>
                      <a:pt x="391" y="856"/>
                      <a:pt x="392" y="865"/>
                      <a:pt x="388" y="864"/>
                    </a:cubicBezTo>
                    <a:cubicBezTo>
                      <a:pt x="382" y="862"/>
                      <a:pt x="380" y="853"/>
                      <a:pt x="376" y="848"/>
                    </a:cubicBezTo>
                    <a:cubicBezTo>
                      <a:pt x="355" y="824"/>
                      <a:pt x="338" y="770"/>
                      <a:pt x="308" y="760"/>
                    </a:cubicBezTo>
                    <a:cubicBezTo>
                      <a:pt x="278" y="770"/>
                      <a:pt x="258" y="729"/>
                      <a:pt x="244" y="708"/>
                    </a:cubicBezTo>
                    <a:cubicBezTo>
                      <a:pt x="235" y="695"/>
                      <a:pt x="225" y="684"/>
                      <a:pt x="216" y="672"/>
                    </a:cubicBezTo>
                    <a:cubicBezTo>
                      <a:pt x="199" y="648"/>
                      <a:pt x="190" y="624"/>
                      <a:pt x="172" y="600"/>
                    </a:cubicBezTo>
                    <a:cubicBezTo>
                      <a:pt x="153" y="575"/>
                      <a:pt x="172" y="594"/>
                      <a:pt x="160" y="572"/>
                    </a:cubicBezTo>
                    <a:cubicBezTo>
                      <a:pt x="148" y="550"/>
                      <a:pt x="134" y="526"/>
                      <a:pt x="116" y="508"/>
                    </a:cubicBezTo>
                    <a:cubicBezTo>
                      <a:pt x="108" y="470"/>
                      <a:pt x="95" y="427"/>
                      <a:pt x="72" y="396"/>
                    </a:cubicBezTo>
                    <a:cubicBezTo>
                      <a:pt x="62" y="365"/>
                      <a:pt x="45" y="342"/>
                      <a:pt x="32" y="312"/>
                    </a:cubicBezTo>
                    <a:cubicBezTo>
                      <a:pt x="26" y="298"/>
                      <a:pt x="20" y="268"/>
                      <a:pt x="20" y="268"/>
                    </a:cubicBezTo>
                    <a:cubicBezTo>
                      <a:pt x="21" y="241"/>
                      <a:pt x="16" y="213"/>
                      <a:pt x="24" y="188"/>
                    </a:cubicBezTo>
                    <a:cubicBezTo>
                      <a:pt x="28" y="176"/>
                      <a:pt x="48" y="180"/>
                      <a:pt x="60" y="176"/>
                    </a:cubicBezTo>
                    <a:cubicBezTo>
                      <a:pt x="94" y="165"/>
                      <a:pt x="127" y="151"/>
                      <a:pt x="160" y="140"/>
                    </a:cubicBezTo>
                    <a:cubicBezTo>
                      <a:pt x="171" y="129"/>
                      <a:pt x="178" y="113"/>
                      <a:pt x="192" y="104"/>
                    </a:cubicBezTo>
                    <a:cubicBezTo>
                      <a:pt x="226" y="83"/>
                      <a:pt x="276" y="82"/>
                      <a:pt x="312" y="80"/>
                    </a:cubicBezTo>
                    <a:cubicBezTo>
                      <a:pt x="347" y="71"/>
                      <a:pt x="380" y="60"/>
                      <a:pt x="416" y="56"/>
                    </a:cubicBezTo>
                    <a:cubicBezTo>
                      <a:pt x="483" y="59"/>
                      <a:pt x="550" y="58"/>
                      <a:pt x="616" y="64"/>
                    </a:cubicBezTo>
                    <a:cubicBezTo>
                      <a:pt x="625" y="65"/>
                      <a:pt x="639" y="80"/>
                      <a:pt x="648" y="84"/>
                    </a:cubicBezTo>
                    <a:cubicBezTo>
                      <a:pt x="679" y="97"/>
                      <a:pt x="715" y="90"/>
                      <a:pt x="748" y="92"/>
                    </a:cubicBezTo>
                    <a:cubicBezTo>
                      <a:pt x="771" y="96"/>
                      <a:pt x="789" y="99"/>
                      <a:pt x="808" y="112"/>
                    </a:cubicBezTo>
                    <a:cubicBezTo>
                      <a:pt x="747" y="113"/>
                      <a:pt x="685" y="108"/>
                      <a:pt x="624" y="116"/>
                    </a:cubicBezTo>
                    <a:cubicBezTo>
                      <a:pt x="617" y="117"/>
                      <a:pt x="624" y="131"/>
                      <a:pt x="628" y="136"/>
                    </a:cubicBezTo>
                    <a:cubicBezTo>
                      <a:pt x="634" y="143"/>
                      <a:pt x="647" y="141"/>
                      <a:pt x="656" y="144"/>
                    </a:cubicBezTo>
                    <a:cubicBezTo>
                      <a:pt x="667" y="160"/>
                      <a:pt x="674" y="159"/>
                      <a:pt x="692" y="164"/>
                    </a:cubicBezTo>
                    <a:cubicBezTo>
                      <a:pt x="724" y="148"/>
                      <a:pt x="708" y="155"/>
                      <a:pt x="740" y="144"/>
                    </a:cubicBezTo>
                    <a:cubicBezTo>
                      <a:pt x="744" y="143"/>
                      <a:pt x="732" y="147"/>
                      <a:pt x="728" y="148"/>
                    </a:cubicBezTo>
                    <a:cubicBezTo>
                      <a:pt x="724" y="149"/>
                      <a:pt x="720" y="151"/>
                      <a:pt x="716" y="152"/>
                    </a:cubicBezTo>
                    <a:cubicBezTo>
                      <a:pt x="698" y="158"/>
                      <a:pt x="687" y="174"/>
                      <a:pt x="672" y="184"/>
                    </a:cubicBezTo>
                    <a:cubicBezTo>
                      <a:pt x="664" y="196"/>
                      <a:pt x="656" y="208"/>
                      <a:pt x="648" y="220"/>
                    </a:cubicBezTo>
                    <a:cubicBezTo>
                      <a:pt x="642" y="228"/>
                      <a:pt x="642" y="240"/>
                      <a:pt x="636" y="248"/>
                    </a:cubicBezTo>
                    <a:cubicBezTo>
                      <a:pt x="626" y="261"/>
                      <a:pt x="600" y="280"/>
                      <a:pt x="600" y="280"/>
                    </a:cubicBezTo>
                    <a:cubicBezTo>
                      <a:pt x="593" y="300"/>
                      <a:pt x="585" y="313"/>
                      <a:pt x="568" y="324"/>
                    </a:cubicBezTo>
                    <a:cubicBezTo>
                      <a:pt x="559" y="338"/>
                      <a:pt x="548" y="344"/>
                      <a:pt x="536" y="356"/>
                    </a:cubicBezTo>
                    <a:cubicBezTo>
                      <a:pt x="531" y="372"/>
                      <a:pt x="524" y="380"/>
                      <a:pt x="512" y="392"/>
                    </a:cubicBezTo>
                    <a:cubicBezTo>
                      <a:pt x="503" y="419"/>
                      <a:pt x="473" y="437"/>
                      <a:pt x="464" y="464"/>
                    </a:cubicBezTo>
                    <a:cubicBezTo>
                      <a:pt x="451" y="504"/>
                      <a:pt x="471" y="442"/>
                      <a:pt x="456" y="492"/>
                    </a:cubicBezTo>
                    <a:cubicBezTo>
                      <a:pt x="454" y="500"/>
                      <a:pt x="448" y="516"/>
                      <a:pt x="448" y="516"/>
                    </a:cubicBezTo>
                    <a:cubicBezTo>
                      <a:pt x="448" y="523"/>
                      <a:pt x="450" y="569"/>
                      <a:pt x="440" y="588"/>
                    </a:cubicBezTo>
                    <a:cubicBezTo>
                      <a:pt x="424" y="619"/>
                      <a:pt x="441" y="580"/>
                      <a:pt x="420" y="612"/>
                    </a:cubicBezTo>
                    <a:cubicBezTo>
                      <a:pt x="401" y="641"/>
                      <a:pt x="388" y="674"/>
                      <a:pt x="380" y="708"/>
                    </a:cubicBezTo>
                    <a:cubicBezTo>
                      <a:pt x="377" y="739"/>
                      <a:pt x="383" y="770"/>
                      <a:pt x="356" y="788"/>
                    </a:cubicBezTo>
                    <a:cubicBezTo>
                      <a:pt x="345" y="771"/>
                      <a:pt x="347" y="746"/>
                      <a:pt x="336" y="732"/>
                    </a:cubicBezTo>
                    <a:cubicBezTo>
                      <a:pt x="333" y="728"/>
                      <a:pt x="328" y="727"/>
                      <a:pt x="324" y="724"/>
                    </a:cubicBezTo>
                    <a:cubicBezTo>
                      <a:pt x="320" y="720"/>
                      <a:pt x="315" y="716"/>
                      <a:pt x="312" y="712"/>
                    </a:cubicBezTo>
                    <a:cubicBezTo>
                      <a:pt x="297" y="693"/>
                      <a:pt x="274" y="669"/>
                      <a:pt x="264" y="648"/>
                    </a:cubicBezTo>
                    <a:cubicBezTo>
                      <a:pt x="249" y="619"/>
                      <a:pt x="222" y="558"/>
                      <a:pt x="200" y="536"/>
                    </a:cubicBezTo>
                    <a:cubicBezTo>
                      <a:pt x="171" y="507"/>
                      <a:pt x="146" y="468"/>
                      <a:pt x="128" y="432"/>
                    </a:cubicBezTo>
                    <a:cubicBezTo>
                      <a:pt x="107" y="390"/>
                      <a:pt x="123" y="309"/>
                      <a:pt x="96" y="276"/>
                    </a:cubicBezTo>
                    <a:cubicBezTo>
                      <a:pt x="87" y="264"/>
                      <a:pt x="73" y="258"/>
                      <a:pt x="64" y="244"/>
                    </a:cubicBezTo>
                    <a:cubicBezTo>
                      <a:pt x="63" y="239"/>
                      <a:pt x="59" y="233"/>
                      <a:pt x="60" y="228"/>
                    </a:cubicBezTo>
                    <a:cubicBezTo>
                      <a:pt x="62" y="212"/>
                      <a:pt x="82" y="211"/>
                      <a:pt x="92" y="208"/>
                    </a:cubicBezTo>
                    <a:cubicBezTo>
                      <a:pt x="116" y="200"/>
                      <a:pt x="143" y="196"/>
                      <a:pt x="168" y="192"/>
                    </a:cubicBezTo>
                    <a:cubicBezTo>
                      <a:pt x="191" y="176"/>
                      <a:pt x="199" y="157"/>
                      <a:pt x="220" y="140"/>
                    </a:cubicBezTo>
                    <a:cubicBezTo>
                      <a:pt x="238" y="126"/>
                      <a:pt x="309" y="127"/>
                      <a:pt x="332" y="124"/>
                    </a:cubicBezTo>
                    <a:cubicBezTo>
                      <a:pt x="376" y="109"/>
                      <a:pt x="403" y="100"/>
                      <a:pt x="452" y="96"/>
                    </a:cubicBezTo>
                    <a:cubicBezTo>
                      <a:pt x="479" y="89"/>
                      <a:pt x="505" y="83"/>
                      <a:pt x="532" y="80"/>
                    </a:cubicBezTo>
                    <a:cubicBezTo>
                      <a:pt x="569" y="84"/>
                      <a:pt x="568" y="87"/>
                      <a:pt x="596" y="96"/>
                    </a:cubicBezTo>
                    <a:cubicBezTo>
                      <a:pt x="606" y="126"/>
                      <a:pt x="628" y="117"/>
                      <a:pt x="660" y="120"/>
                    </a:cubicBezTo>
                    <a:cubicBezTo>
                      <a:pt x="664" y="124"/>
                      <a:pt x="672" y="126"/>
                      <a:pt x="672" y="132"/>
                    </a:cubicBezTo>
                    <a:cubicBezTo>
                      <a:pt x="672" y="141"/>
                      <a:pt x="632" y="159"/>
                      <a:pt x="624" y="164"/>
                    </a:cubicBezTo>
                    <a:cubicBezTo>
                      <a:pt x="608" y="188"/>
                      <a:pt x="593" y="201"/>
                      <a:pt x="576" y="224"/>
                    </a:cubicBezTo>
                    <a:cubicBezTo>
                      <a:pt x="568" y="235"/>
                      <a:pt x="560" y="245"/>
                      <a:pt x="552" y="256"/>
                    </a:cubicBezTo>
                    <a:cubicBezTo>
                      <a:pt x="546" y="264"/>
                      <a:pt x="536" y="280"/>
                      <a:pt x="536" y="280"/>
                    </a:cubicBezTo>
                    <a:cubicBezTo>
                      <a:pt x="534" y="297"/>
                      <a:pt x="534" y="330"/>
                      <a:pt x="520" y="344"/>
                    </a:cubicBezTo>
                    <a:cubicBezTo>
                      <a:pt x="496" y="368"/>
                      <a:pt x="474" y="374"/>
                      <a:pt x="452" y="404"/>
                    </a:cubicBezTo>
                    <a:cubicBezTo>
                      <a:pt x="436" y="427"/>
                      <a:pt x="432" y="457"/>
                      <a:pt x="416" y="480"/>
                    </a:cubicBezTo>
                    <a:cubicBezTo>
                      <a:pt x="410" y="511"/>
                      <a:pt x="414" y="493"/>
                      <a:pt x="404" y="532"/>
                    </a:cubicBezTo>
                    <a:cubicBezTo>
                      <a:pt x="399" y="552"/>
                      <a:pt x="381" y="571"/>
                      <a:pt x="376" y="592"/>
                    </a:cubicBezTo>
                    <a:cubicBezTo>
                      <a:pt x="367" y="627"/>
                      <a:pt x="359" y="675"/>
                      <a:pt x="320" y="688"/>
                    </a:cubicBezTo>
                    <a:cubicBezTo>
                      <a:pt x="290" y="676"/>
                      <a:pt x="283" y="653"/>
                      <a:pt x="272" y="624"/>
                    </a:cubicBezTo>
                    <a:cubicBezTo>
                      <a:pt x="269" y="602"/>
                      <a:pt x="268" y="573"/>
                      <a:pt x="260" y="552"/>
                    </a:cubicBezTo>
                    <a:cubicBezTo>
                      <a:pt x="251" y="527"/>
                      <a:pt x="219" y="517"/>
                      <a:pt x="208" y="492"/>
                    </a:cubicBezTo>
                    <a:cubicBezTo>
                      <a:pt x="198" y="469"/>
                      <a:pt x="196" y="424"/>
                      <a:pt x="172" y="416"/>
                    </a:cubicBezTo>
                    <a:cubicBezTo>
                      <a:pt x="167" y="390"/>
                      <a:pt x="156" y="369"/>
                      <a:pt x="148" y="344"/>
                    </a:cubicBezTo>
                    <a:cubicBezTo>
                      <a:pt x="144" y="314"/>
                      <a:pt x="138" y="280"/>
                      <a:pt x="124" y="252"/>
                    </a:cubicBezTo>
                    <a:cubicBezTo>
                      <a:pt x="184" y="212"/>
                      <a:pt x="245" y="178"/>
                      <a:pt x="316" y="164"/>
                    </a:cubicBezTo>
                    <a:cubicBezTo>
                      <a:pt x="369" y="129"/>
                      <a:pt x="420" y="142"/>
                      <a:pt x="488" y="140"/>
                    </a:cubicBezTo>
                    <a:cubicBezTo>
                      <a:pt x="518" y="136"/>
                      <a:pt x="545" y="131"/>
                      <a:pt x="576" y="136"/>
                    </a:cubicBezTo>
                    <a:cubicBezTo>
                      <a:pt x="612" y="163"/>
                      <a:pt x="597" y="153"/>
                      <a:pt x="620" y="168"/>
                    </a:cubicBezTo>
                    <a:cubicBezTo>
                      <a:pt x="587" y="179"/>
                      <a:pt x="545" y="211"/>
                      <a:pt x="520" y="236"/>
                    </a:cubicBezTo>
                    <a:cubicBezTo>
                      <a:pt x="504" y="252"/>
                      <a:pt x="493" y="281"/>
                      <a:pt x="480" y="300"/>
                    </a:cubicBezTo>
                    <a:cubicBezTo>
                      <a:pt x="464" y="324"/>
                      <a:pt x="436" y="340"/>
                      <a:pt x="424" y="368"/>
                    </a:cubicBezTo>
                    <a:cubicBezTo>
                      <a:pt x="409" y="401"/>
                      <a:pt x="414" y="440"/>
                      <a:pt x="400" y="472"/>
                    </a:cubicBezTo>
                    <a:cubicBezTo>
                      <a:pt x="393" y="489"/>
                      <a:pt x="369" y="507"/>
                      <a:pt x="356" y="520"/>
                    </a:cubicBezTo>
                    <a:cubicBezTo>
                      <a:pt x="347" y="547"/>
                      <a:pt x="336" y="573"/>
                      <a:pt x="328" y="600"/>
                    </a:cubicBezTo>
                    <a:cubicBezTo>
                      <a:pt x="322" y="621"/>
                      <a:pt x="324" y="633"/>
                      <a:pt x="304" y="640"/>
                    </a:cubicBezTo>
                    <a:cubicBezTo>
                      <a:pt x="252" y="627"/>
                      <a:pt x="313" y="559"/>
                      <a:pt x="272" y="532"/>
                    </a:cubicBezTo>
                    <a:cubicBezTo>
                      <a:pt x="262" y="518"/>
                      <a:pt x="250" y="506"/>
                      <a:pt x="240" y="492"/>
                    </a:cubicBezTo>
                    <a:cubicBezTo>
                      <a:pt x="232" y="481"/>
                      <a:pt x="232" y="466"/>
                      <a:pt x="224" y="456"/>
                    </a:cubicBezTo>
                    <a:cubicBezTo>
                      <a:pt x="205" y="432"/>
                      <a:pt x="213" y="443"/>
                      <a:pt x="200" y="424"/>
                    </a:cubicBezTo>
                    <a:cubicBezTo>
                      <a:pt x="195" y="405"/>
                      <a:pt x="190" y="386"/>
                      <a:pt x="184" y="368"/>
                    </a:cubicBezTo>
                    <a:cubicBezTo>
                      <a:pt x="182" y="333"/>
                      <a:pt x="186" y="308"/>
                      <a:pt x="168" y="280"/>
                    </a:cubicBezTo>
                    <a:cubicBezTo>
                      <a:pt x="246" y="231"/>
                      <a:pt x="332" y="195"/>
                      <a:pt x="424" y="180"/>
                    </a:cubicBezTo>
                    <a:cubicBezTo>
                      <a:pt x="461" y="184"/>
                      <a:pt x="499" y="183"/>
                      <a:pt x="536" y="192"/>
                    </a:cubicBezTo>
                    <a:cubicBezTo>
                      <a:pt x="542" y="193"/>
                      <a:pt x="528" y="200"/>
                      <a:pt x="524" y="204"/>
                    </a:cubicBezTo>
                    <a:cubicBezTo>
                      <a:pt x="511" y="215"/>
                      <a:pt x="506" y="215"/>
                      <a:pt x="496" y="228"/>
                    </a:cubicBezTo>
                    <a:cubicBezTo>
                      <a:pt x="473" y="257"/>
                      <a:pt x="451" y="287"/>
                      <a:pt x="420" y="308"/>
                    </a:cubicBezTo>
                    <a:cubicBezTo>
                      <a:pt x="404" y="332"/>
                      <a:pt x="377" y="356"/>
                      <a:pt x="368" y="384"/>
                    </a:cubicBezTo>
                    <a:cubicBezTo>
                      <a:pt x="360" y="408"/>
                      <a:pt x="347" y="444"/>
                      <a:pt x="332" y="464"/>
                    </a:cubicBezTo>
                    <a:cubicBezTo>
                      <a:pt x="318" y="483"/>
                      <a:pt x="307" y="502"/>
                      <a:pt x="300" y="524"/>
                    </a:cubicBezTo>
                    <a:cubicBezTo>
                      <a:pt x="292" y="503"/>
                      <a:pt x="282" y="486"/>
                      <a:pt x="268" y="468"/>
                    </a:cubicBezTo>
                    <a:cubicBezTo>
                      <a:pt x="264" y="454"/>
                      <a:pt x="248" y="428"/>
                      <a:pt x="248" y="428"/>
                    </a:cubicBezTo>
                    <a:cubicBezTo>
                      <a:pt x="240" y="395"/>
                      <a:pt x="226" y="366"/>
                      <a:pt x="220" y="332"/>
                    </a:cubicBezTo>
                    <a:cubicBezTo>
                      <a:pt x="227" y="305"/>
                      <a:pt x="252" y="288"/>
                      <a:pt x="276" y="276"/>
                    </a:cubicBezTo>
                    <a:cubicBezTo>
                      <a:pt x="303" y="262"/>
                      <a:pt x="343" y="233"/>
                      <a:pt x="372" y="228"/>
                    </a:cubicBezTo>
                    <a:cubicBezTo>
                      <a:pt x="391" y="225"/>
                      <a:pt x="409" y="223"/>
                      <a:pt x="428" y="220"/>
                    </a:cubicBezTo>
                    <a:cubicBezTo>
                      <a:pt x="465" y="235"/>
                      <a:pt x="443" y="233"/>
                      <a:pt x="424" y="256"/>
                    </a:cubicBezTo>
                    <a:cubicBezTo>
                      <a:pt x="417" y="264"/>
                      <a:pt x="403" y="297"/>
                      <a:pt x="392" y="304"/>
                    </a:cubicBezTo>
                    <a:cubicBezTo>
                      <a:pt x="380" y="312"/>
                      <a:pt x="350" y="325"/>
                      <a:pt x="340" y="336"/>
                    </a:cubicBezTo>
                    <a:cubicBezTo>
                      <a:pt x="305" y="375"/>
                      <a:pt x="325" y="355"/>
                      <a:pt x="308" y="384"/>
                    </a:cubicBezTo>
                    <a:cubicBezTo>
                      <a:pt x="303" y="392"/>
                      <a:pt x="292" y="408"/>
                      <a:pt x="292" y="408"/>
                    </a:cubicBezTo>
                    <a:cubicBezTo>
                      <a:pt x="291" y="421"/>
                      <a:pt x="301" y="448"/>
                      <a:pt x="288" y="448"/>
                    </a:cubicBezTo>
                    <a:cubicBezTo>
                      <a:pt x="265" y="448"/>
                      <a:pt x="245" y="383"/>
                      <a:pt x="240" y="364"/>
                    </a:cubicBezTo>
                    <a:cubicBezTo>
                      <a:pt x="241" y="357"/>
                      <a:pt x="240" y="350"/>
                      <a:pt x="244" y="344"/>
                    </a:cubicBezTo>
                    <a:cubicBezTo>
                      <a:pt x="255" y="327"/>
                      <a:pt x="319" y="301"/>
                      <a:pt x="336" y="292"/>
                    </a:cubicBezTo>
                    <a:cubicBezTo>
                      <a:pt x="350" y="285"/>
                      <a:pt x="376" y="268"/>
                      <a:pt x="376" y="268"/>
                    </a:cubicBezTo>
                    <a:cubicBezTo>
                      <a:pt x="363" y="290"/>
                      <a:pt x="340" y="315"/>
                      <a:pt x="320" y="332"/>
                    </a:cubicBezTo>
                    <a:cubicBezTo>
                      <a:pt x="301" y="348"/>
                      <a:pt x="280" y="353"/>
                      <a:pt x="268" y="376"/>
                    </a:cubicBezTo>
                  </a:path>
                </a:pathLst>
              </a:custGeom>
              <a:noFill/>
              <a:ln w="7632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14" name=""/>
              <p:cNvSpPr/>
              <p:nvPr/>
            </p:nvSpPr>
            <p:spPr>
              <a:xfrm flipH="1">
                <a:off x="4670280" y="2933640"/>
                <a:ext cx="1487520" cy="1603440"/>
              </a:xfrm>
              <a:custGeom>
                <a:avLst/>
                <a:gdLst/>
                <a:ahLst/>
                <a:rect l="l" t="t" r="r" b="b"/>
                <a:pathLst>
                  <a:path w="937" h="1010">
                    <a:moveTo>
                      <a:pt x="9" y="231"/>
                    </a:moveTo>
                    <a:cubicBezTo>
                      <a:pt x="23" y="210"/>
                      <a:pt x="46" y="207"/>
                      <a:pt x="69" y="199"/>
                    </a:cubicBezTo>
                    <a:cubicBezTo>
                      <a:pt x="77" y="196"/>
                      <a:pt x="85" y="194"/>
                      <a:pt x="93" y="191"/>
                    </a:cubicBezTo>
                    <a:cubicBezTo>
                      <a:pt x="97" y="190"/>
                      <a:pt x="105" y="187"/>
                      <a:pt x="105" y="187"/>
                    </a:cubicBezTo>
                    <a:cubicBezTo>
                      <a:pt x="142" y="159"/>
                      <a:pt x="200" y="151"/>
                      <a:pt x="245" y="143"/>
                    </a:cubicBezTo>
                    <a:cubicBezTo>
                      <a:pt x="260" y="135"/>
                      <a:pt x="274" y="127"/>
                      <a:pt x="289" y="119"/>
                    </a:cubicBezTo>
                    <a:cubicBezTo>
                      <a:pt x="368" y="0"/>
                      <a:pt x="516" y="89"/>
                      <a:pt x="685" y="87"/>
                    </a:cubicBezTo>
                    <a:cubicBezTo>
                      <a:pt x="701" y="89"/>
                      <a:pt x="721" y="85"/>
                      <a:pt x="733" y="95"/>
                    </a:cubicBezTo>
                    <a:cubicBezTo>
                      <a:pt x="749" y="109"/>
                      <a:pt x="761" y="129"/>
                      <a:pt x="781" y="139"/>
                    </a:cubicBezTo>
                    <a:cubicBezTo>
                      <a:pt x="828" y="163"/>
                      <a:pt x="887" y="166"/>
                      <a:pt x="937" y="183"/>
                    </a:cubicBezTo>
                    <a:cubicBezTo>
                      <a:pt x="925" y="219"/>
                      <a:pt x="856" y="250"/>
                      <a:pt x="825" y="271"/>
                    </a:cubicBezTo>
                    <a:cubicBezTo>
                      <a:pt x="812" y="279"/>
                      <a:pt x="802" y="291"/>
                      <a:pt x="789" y="299"/>
                    </a:cubicBezTo>
                    <a:cubicBezTo>
                      <a:pt x="782" y="304"/>
                      <a:pt x="765" y="307"/>
                      <a:pt x="765" y="307"/>
                    </a:cubicBezTo>
                    <a:cubicBezTo>
                      <a:pt x="748" y="324"/>
                      <a:pt x="731" y="321"/>
                      <a:pt x="713" y="339"/>
                    </a:cubicBezTo>
                    <a:cubicBezTo>
                      <a:pt x="680" y="372"/>
                      <a:pt x="661" y="406"/>
                      <a:pt x="633" y="443"/>
                    </a:cubicBezTo>
                    <a:cubicBezTo>
                      <a:pt x="630" y="453"/>
                      <a:pt x="618" y="506"/>
                      <a:pt x="613" y="511"/>
                    </a:cubicBezTo>
                    <a:cubicBezTo>
                      <a:pt x="607" y="518"/>
                      <a:pt x="589" y="527"/>
                      <a:pt x="589" y="527"/>
                    </a:cubicBezTo>
                    <a:cubicBezTo>
                      <a:pt x="577" y="552"/>
                      <a:pt x="595" y="575"/>
                      <a:pt x="581" y="595"/>
                    </a:cubicBezTo>
                    <a:cubicBezTo>
                      <a:pt x="576" y="602"/>
                      <a:pt x="557" y="603"/>
                      <a:pt x="557" y="603"/>
                    </a:cubicBezTo>
                    <a:cubicBezTo>
                      <a:pt x="540" y="629"/>
                      <a:pt x="533" y="663"/>
                      <a:pt x="521" y="691"/>
                    </a:cubicBezTo>
                    <a:cubicBezTo>
                      <a:pt x="513" y="710"/>
                      <a:pt x="501" y="730"/>
                      <a:pt x="497" y="751"/>
                    </a:cubicBezTo>
                    <a:cubicBezTo>
                      <a:pt x="492" y="781"/>
                      <a:pt x="486" y="837"/>
                      <a:pt x="473" y="863"/>
                    </a:cubicBezTo>
                    <a:cubicBezTo>
                      <a:pt x="454" y="900"/>
                      <a:pt x="445" y="917"/>
                      <a:pt x="437" y="959"/>
                    </a:cubicBezTo>
                    <a:cubicBezTo>
                      <a:pt x="436" y="974"/>
                      <a:pt x="442" y="992"/>
                      <a:pt x="433" y="1003"/>
                    </a:cubicBezTo>
                    <a:cubicBezTo>
                      <a:pt x="427" y="1010"/>
                      <a:pt x="413" y="1003"/>
                      <a:pt x="405" y="999"/>
                    </a:cubicBezTo>
                    <a:cubicBezTo>
                      <a:pt x="386" y="989"/>
                      <a:pt x="379" y="934"/>
                      <a:pt x="373" y="931"/>
                    </a:cubicBezTo>
                    <a:cubicBezTo>
                      <a:pt x="365" y="927"/>
                      <a:pt x="354" y="928"/>
                      <a:pt x="345" y="927"/>
                    </a:cubicBezTo>
                    <a:cubicBezTo>
                      <a:pt x="318" y="900"/>
                      <a:pt x="330" y="909"/>
                      <a:pt x="309" y="895"/>
                    </a:cubicBezTo>
                    <a:cubicBezTo>
                      <a:pt x="298" y="879"/>
                      <a:pt x="276" y="824"/>
                      <a:pt x="265" y="815"/>
                    </a:cubicBezTo>
                    <a:cubicBezTo>
                      <a:pt x="255" y="807"/>
                      <a:pt x="237" y="809"/>
                      <a:pt x="225" y="803"/>
                    </a:cubicBezTo>
                    <a:cubicBezTo>
                      <a:pt x="217" y="798"/>
                      <a:pt x="201" y="787"/>
                      <a:pt x="201" y="787"/>
                    </a:cubicBezTo>
                    <a:cubicBezTo>
                      <a:pt x="190" y="771"/>
                      <a:pt x="180" y="755"/>
                      <a:pt x="169" y="739"/>
                    </a:cubicBezTo>
                    <a:cubicBezTo>
                      <a:pt x="157" y="721"/>
                      <a:pt x="165" y="693"/>
                      <a:pt x="153" y="675"/>
                    </a:cubicBezTo>
                    <a:cubicBezTo>
                      <a:pt x="145" y="663"/>
                      <a:pt x="121" y="647"/>
                      <a:pt x="121" y="647"/>
                    </a:cubicBezTo>
                    <a:cubicBezTo>
                      <a:pt x="113" y="630"/>
                      <a:pt x="107" y="613"/>
                      <a:pt x="101" y="595"/>
                    </a:cubicBezTo>
                    <a:cubicBezTo>
                      <a:pt x="98" y="585"/>
                      <a:pt x="87" y="580"/>
                      <a:pt x="81" y="571"/>
                    </a:cubicBezTo>
                    <a:cubicBezTo>
                      <a:pt x="74" y="544"/>
                      <a:pt x="79" y="512"/>
                      <a:pt x="65" y="487"/>
                    </a:cubicBezTo>
                    <a:cubicBezTo>
                      <a:pt x="55" y="469"/>
                      <a:pt x="43" y="458"/>
                      <a:pt x="37" y="439"/>
                    </a:cubicBezTo>
                    <a:cubicBezTo>
                      <a:pt x="34" y="401"/>
                      <a:pt x="33" y="386"/>
                      <a:pt x="25" y="355"/>
                    </a:cubicBezTo>
                    <a:cubicBezTo>
                      <a:pt x="14" y="310"/>
                      <a:pt x="30" y="362"/>
                      <a:pt x="13" y="311"/>
                    </a:cubicBezTo>
                    <a:cubicBezTo>
                      <a:pt x="12" y="307"/>
                      <a:pt x="8" y="295"/>
                      <a:pt x="9" y="299"/>
                    </a:cubicBezTo>
                    <a:cubicBezTo>
                      <a:pt x="26" y="365"/>
                      <a:pt x="89" y="387"/>
                      <a:pt x="109" y="447"/>
                    </a:cubicBezTo>
                    <a:cubicBezTo>
                      <a:pt x="108" y="458"/>
                      <a:pt x="108" y="489"/>
                      <a:pt x="105" y="479"/>
                    </a:cubicBezTo>
                    <a:cubicBezTo>
                      <a:pt x="99" y="461"/>
                      <a:pt x="103" y="442"/>
                      <a:pt x="101" y="423"/>
                    </a:cubicBezTo>
                    <a:cubicBezTo>
                      <a:pt x="98" y="396"/>
                      <a:pt x="90" y="369"/>
                      <a:pt x="81" y="343"/>
                    </a:cubicBezTo>
                    <a:cubicBezTo>
                      <a:pt x="77" y="294"/>
                      <a:pt x="83" y="298"/>
                      <a:pt x="45" y="283"/>
                    </a:cubicBezTo>
                    <a:cubicBezTo>
                      <a:pt x="79" y="260"/>
                      <a:pt x="110" y="225"/>
                      <a:pt x="133" y="191"/>
                    </a:cubicBezTo>
                    <a:cubicBezTo>
                      <a:pt x="137" y="185"/>
                      <a:pt x="125" y="202"/>
                      <a:pt x="121" y="207"/>
                    </a:cubicBezTo>
                    <a:cubicBezTo>
                      <a:pt x="116" y="213"/>
                      <a:pt x="110" y="217"/>
                      <a:pt x="105" y="223"/>
                    </a:cubicBezTo>
                    <a:cubicBezTo>
                      <a:pt x="92" y="239"/>
                      <a:pt x="73" y="261"/>
                      <a:pt x="61" y="279"/>
                    </a:cubicBezTo>
                    <a:cubicBezTo>
                      <a:pt x="60" y="284"/>
                      <a:pt x="59" y="290"/>
                      <a:pt x="57" y="295"/>
                    </a:cubicBezTo>
                    <a:cubicBezTo>
                      <a:pt x="57" y="295"/>
                      <a:pt x="47" y="325"/>
                      <a:pt x="45" y="331"/>
                    </a:cubicBezTo>
                    <a:cubicBezTo>
                      <a:pt x="43" y="337"/>
                      <a:pt x="35" y="348"/>
                      <a:pt x="41" y="351"/>
                    </a:cubicBezTo>
                    <a:cubicBezTo>
                      <a:pt x="49" y="355"/>
                      <a:pt x="74" y="325"/>
                      <a:pt x="77" y="323"/>
                    </a:cubicBezTo>
                    <a:cubicBezTo>
                      <a:pt x="109" y="299"/>
                      <a:pt x="154" y="278"/>
                      <a:pt x="177" y="243"/>
                    </a:cubicBezTo>
                    <a:cubicBezTo>
                      <a:pt x="187" y="228"/>
                      <a:pt x="191" y="212"/>
                      <a:pt x="197" y="195"/>
                    </a:cubicBezTo>
                    <a:cubicBezTo>
                      <a:pt x="201" y="182"/>
                      <a:pt x="220" y="172"/>
                      <a:pt x="217" y="171"/>
                    </a:cubicBezTo>
                    <a:cubicBezTo>
                      <a:pt x="211" y="168"/>
                      <a:pt x="204" y="176"/>
                      <a:pt x="197" y="179"/>
                    </a:cubicBezTo>
                    <a:cubicBezTo>
                      <a:pt x="183" y="193"/>
                      <a:pt x="162" y="208"/>
                      <a:pt x="149" y="223"/>
                    </a:cubicBezTo>
                    <a:cubicBezTo>
                      <a:pt x="133" y="242"/>
                      <a:pt x="123" y="265"/>
                      <a:pt x="105" y="283"/>
                    </a:cubicBezTo>
                    <a:cubicBezTo>
                      <a:pt x="69" y="319"/>
                      <a:pt x="32" y="349"/>
                      <a:pt x="9" y="395"/>
                    </a:cubicBezTo>
                    <a:cubicBezTo>
                      <a:pt x="8" y="402"/>
                      <a:pt x="0" y="410"/>
                      <a:pt x="5" y="415"/>
                    </a:cubicBezTo>
                    <a:cubicBezTo>
                      <a:pt x="9" y="419"/>
                      <a:pt x="17" y="411"/>
                      <a:pt x="21" y="407"/>
                    </a:cubicBezTo>
                    <a:cubicBezTo>
                      <a:pt x="28" y="400"/>
                      <a:pt x="32" y="391"/>
                      <a:pt x="37" y="383"/>
                    </a:cubicBezTo>
                    <a:cubicBezTo>
                      <a:pt x="54" y="357"/>
                      <a:pt x="108" y="336"/>
                      <a:pt x="129" y="315"/>
                    </a:cubicBezTo>
                    <a:cubicBezTo>
                      <a:pt x="140" y="304"/>
                      <a:pt x="165" y="287"/>
                      <a:pt x="165" y="287"/>
                    </a:cubicBezTo>
                    <a:cubicBezTo>
                      <a:pt x="195" y="242"/>
                      <a:pt x="250" y="216"/>
                      <a:pt x="285" y="175"/>
                    </a:cubicBezTo>
                    <a:cubicBezTo>
                      <a:pt x="295" y="163"/>
                      <a:pt x="303" y="151"/>
                      <a:pt x="313" y="139"/>
                    </a:cubicBezTo>
                    <a:cubicBezTo>
                      <a:pt x="317" y="135"/>
                      <a:pt x="321" y="131"/>
                      <a:pt x="325" y="127"/>
                    </a:cubicBezTo>
                    <a:cubicBezTo>
                      <a:pt x="328" y="123"/>
                      <a:pt x="337" y="112"/>
                      <a:pt x="333" y="115"/>
                    </a:cubicBezTo>
                    <a:cubicBezTo>
                      <a:pt x="294" y="148"/>
                      <a:pt x="278" y="191"/>
                      <a:pt x="245" y="227"/>
                    </a:cubicBezTo>
                    <a:cubicBezTo>
                      <a:pt x="231" y="242"/>
                      <a:pt x="216" y="256"/>
                      <a:pt x="201" y="271"/>
                    </a:cubicBezTo>
                    <a:cubicBezTo>
                      <a:pt x="175" y="297"/>
                      <a:pt x="120" y="317"/>
                      <a:pt x="101" y="343"/>
                    </a:cubicBezTo>
                    <a:cubicBezTo>
                      <a:pt x="83" y="366"/>
                      <a:pt x="68" y="381"/>
                      <a:pt x="61" y="411"/>
                    </a:cubicBezTo>
                    <a:cubicBezTo>
                      <a:pt x="58" y="422"/>
                      <a:pt x="56" y="433"/>
                      <a:pt x="53" y="443"/>
                    </a:cubicBezTo>
                    <a:cubicBezTo>
                      <a:pt x="52" y="447"/>
                      <a:pt x="45" y="455"/>
                      <a:pt x="49" y="455"/>
                    </a:cubicBezTo>
                    <a:cubicBezTo>
                      <a:pt x="59" y="455"/>
                      <a:pt x="68" y="447"/>
                      <a:pt x="77" y="443"/>
                    </a:cubicBezTo>
                    <a:cubicBezTo>
                      <a:pt x="117" y="393"/>
                      <a:pt x="162" y="370"/>
                      <a:pt x="205" y="327"/>
                    </a:cubicBezTo>
                    <a:cubicBezTo>
                      <a:pt x="230" y="302"/>
                      <a:pt x="252" y="269"/>
                      <a:pt x="281" y="247"/>
                    </a:cubicBezTo>
                    <a:cubicBezTo>
                      <a:pt x="312" y="223"/>
                      <a:pt x="338" y="198"/>
                      <a:pt x="361" y="167"/>
                    </a:cubicBezTo>
                    <a:cubicBezTo>
                      <a:pt x="382" y="105"/>
                      <a:pt x="358" y="169"/>
                      <a:pt x="377" y="131"/>
                    </a:cubicBezTo>
                    <a:cubicBezTo>
                      <a:pt x="379" y="127"/>
                      <a:pt x="385" y="117"/>
                      <a:pt x="381" y="119"/>
                    </a:cubicBezTo>
                    <a:cubicBezTo>
                      <a:pt x="374" y="124"/>
                      <a:pt x="371" y="133"/>
                      <a:pt x="365" y="139"/>
                    </a:cubicBezTo>
                    <a:cubicBezTo>
                      <a:pt x="339" y="168"/>
                      <a:pt x="318" y="198"/>
                      <a:pt x="293" y="227"/>
                    </a:cubicBezTo>
                    <a:cubicBezTo>
                      <a:pt x="266" y="259"/>
                      <a:pt x="238" y="294"/>
                      <a:pt x="209" y="323"/>
                    </a:cubicBezTo>
                    <a:cubicBezTo>
                      <a:pt x="198" y="334"/>
                      <a:pt x="180" y="340"/>
                      <a:pt x="169" y="351"/>
                    </a:cubicBezTo>
                    <a:cubicBezTo>
                      <a:pt x="136" y="384"/>
                      <a:pt x="117" y="427"/>
                      <a:pt x="85" y="459"/>
                    </a:cubicBezTo>
                    <a:cubicBezTo>
                      <a:pt x="82" y="468"/>
                      <a:pt x="71" y="494"/>
                      <a:pt x="85" y="499"/>
                    </a:cubicBezTo>
                    <a:cubicBezTo>
                      <a:pt x="93" y="502"/>
                      <a:pt x="95" y="485"/>
                      <a:pt x="101" y="479"/>
                    </a:cubicBezTo>
                    <a:cubicBezTo>
                      <a:pt x="115" y="466"/>
                      <a:pt x="130" y="455"/>
                      <a:pt x="145" y="443"/>
                    </a:cubicBezTo>
                    <a:cubicBezTo>
                      <a:pt x="170" y="423"/>
                      <a:pt x="187" y="401"/>
                      <a:pt x="209" y="379"/>
                    </a:cubicBezTo>
                    <a:cubicBezTo>
                      <a:pt x="240" y="348"/>
                      <a:pt x="283" y="328"/>
                      <a:pt x="317" y="299"/>
                    </a:cubicBezTo>
                    <a:cubicBezTo>
                      <a:pt x="333" y="285"/>
                      <a:pt x="339" y="269"/>
                      <a:pt x="353" y="255"/>
                    </a:cubicBezTo>
                    <a:cubicBezTo>
                      <a:pt x="359" y="238"/>
                      <a:pt x="368" y="228"/>
                      <a:pt x="381" y="215"/>
                    </a:cubicBezTo>
                    <a:cubicBezTo>
                      <a:pt x="390" y="187"/>
                      <a:pt x="424" y="152"/>
                      <a:pt x="449" y="135"/>
                    </a:cubicBezTo>
                    <a:cubicBezTo>
                      <a:pt x="452" y="127"/>
                      <a:pt x="454" y="119"/>
                      <a:pt x="457" y="111"/>
                    </a:cubicBezTo>
                    <a:cubicBezTo>
                      <a:pt x="459" y="106"/>
                      <a:pt x="449" y="119"/>
                      <a:pt x="445" y="123"/>
                    </a:cubicBezTo>
                    <a:cubicBezTo>
                      <a:pt x="438" y="131"/>
                      <a:pt x="432" y="139"/>
                      <a:pt x="425" y="147"/>
                    </a:cubicBezTo>
                    <a:cubicBezTo>
                      <a:pt x="394" y="180"/>
                      <a:pt x="372" y="216"/>
                      <a:pt x="349" y="255"/>
                    </a:cubicBezTo>
                    <a:cubicBezTo>
                      <a:pt x="310" y="323"/>
                      <a:pt x="238" y="350"/>
                      <a:pt x="189" y="411"/>
                    </a:cubicBezTo>
                    <a:cubicBezTo>
                      <a:pt x="146" y="465"/>
                      <a:pt x="167" y="514"/>
                      <a:pt x="93" y="539"/>
                    </a:cubicBezTo>
                    <a:cubicBezTo>
                      <a:pt x="90" y="543"/>
                      <a:pt x="73" y="579"/>
                      <a:pt x="77" y="579"/>
                    </a:cubicBezTo>
                    <a:cubicBezTo>
                      <a:pt x="91" y="581"/>
                      <a:pt x="104" y="574"/>
                      <a:pt x="117" y="571"/>
                    </a:cubicBezTo>
                    <a:cubicBezTo>
                      <a:pt x="188" y="524"/>
                      <a:pt x="237" y="447"/>
                      <a:pt x="297" y="387"/>
                    </a:cubicBezTo>
                    <a:cubicBezTo>
                      <a:pt x="309" y="375"/>
                      <a:pt x="333" y="347"/>
                      <a:pt x="341" y="339"/>
                    </a:cubicBezTo>
                    <a:cubicBezTo>
                      <a:pt x="349" y="331"/>
                      <a:pt x="357" y="323"/>
                      <a:pt x="365" y="315"/>
                    </a:cubicBezTo>
                    <a:cubicBezTo>
                      <a:pt x="370" y="310"/>
                      <a:pt x="381" y="299"/>
                      <a:pt x="381" y="299"/>
                    </a:cubicBezTo>
                    <a:cubicBezTo>
                      <a:pt x="394" y="259"/>
                      <a:pt x="444" y="242"/>
                      <a:pt x="461" y="203"/>
                    </a:cubicBezTo>
                    <a:cubicBezTo>
                      <a:pt x="468" y="186"/>
                      <a:pt x="472" y="168"/>
                      <a:pt x="477" y="151"/>
                    </a:cubicBezTo>
                    <a:cubicBezTo>
                      <a:pt x="478" y="147"/>
                      <a:pt x="479" y="143"/>
                      <a:pt x="481" y="139"/>
                    </a:cubicBezTo>
                    <a:cubicBezTo>
                      <a:pt x="483" y="135"/>
                      <a:pt x="492" y="124"/>
                      <a:pt x="489" y="127"/>
                    </a:cubicBezTo>
                    <a:cubicBezTo>
                      <a:pt x="452" y="164"/>
                      <a:pt x="409" y="202"/>
                      <a:pt x="377" y="243"/>
                    </a:cubicBezTo>
                    <a:cubicBezTo>
                      <a:pt x="364" y="260"/>
                      <a:pt x="354" y="282"/>
                      <a:pt x="337" y="295"/>
                    </a:cubicBezTo>
                    <a:cubicBezTo>
                      <a:pt x="310" y="315"/>
                      <a:pt x="282" y="336"/>
                      <a:pt x="261" y="363"/>
                    </a:cubicBezTo>
                    <a:cubicBezTo>
                      <a:pt x="236" y="394"/>
                      <a:pt x="194" y="449"/>
                      <a:pt x="161" y="471"/>
                    </a:cubicBezTo>
                    <a:cubicBezTo>
                      <a:pt x="155" y="488"/>
                      <a:pt x="145" y="502"/>
                      <a:pt x="137" y="519"/>
                    </a:cubicBezTo>
                    <a:cubicBezTo>
                      <a:pt x="132" y="530"/>
                      <a:pt x="121" y="551"/>
                      <a:pt x="121" y="551"/>
                    </a:cubicBezTo>
                    <a:cubicBezTo>
                      <a:pt x="117" y="576"/>
                      <a:pt x="109" y="613"/>
                      <a:pt x="121" y="635"/>
                    </a:cubicBezTo>
                    <a:cubicBezTo>
                      <a:pt x="126" y="643"/>
                      <a:pt x="140" y="632"/>
                      <a:pt x="149" y="631"/>
                    </a:cubicBezTo>
                    <a:cubicBezTo>
                      <a:pt x="156" y="620"/>
                      <a:pt x="168" y="611"/>
                      <a:pt x="173" y="599"/>
                    </a:cubicBezTo>
                    <a:cubicBezTo>
                      <a:pt x="189" y="562"/>
                      <a:pt x="188" y="523"/>
                      <a:pt x="209" y="487"/>
                    </a:cubicBezTo>
                    <a:cubicBezTo>
                      <a:pt x="214" y="478"/>
                      <a:pt x="225" y="474"/>
                      <a:pt x="233" y="467"/>
                    </a:cubicBezTo>
                    <a:cubicBezTo>
                      <a:pt x="265" y="437"/>
                      <a:pt x="290" y="409"/>
                      <a:pt x="317" y="375"/>
                    </a:cubicBezTo>
                    <a:cubicBezTo>
                      <a:pt x="334" y="353"/>
                      <a:pt x="358" y="345"/>
                      <a:pt x="381" y="331"/>
                    </a:cubicBezTo>
                    <a:cubicBezTo>
                      <a:pt x="424" y="305"/>
                      <a:pt x="468" y="283"/>
                      <a:pt x="509" y="255"/>
                    </a:cubicBezTo>
                    <a:cubicBezTo>
                      <a:pt x="535" y="238"/>
                      <a:pt x="548" y="196"/>
                      <a:pt x="565" y="171"/>
                    </a:cubicBezTo>
                    <a:cubicBezTo>
                      <a:pt x="569" y="155"/>
                      <a:pt x="572" y="139"/>
                      <a:pt x="577" y="123"/>
                    </a:cubicBezTo>
                    <a:cubicBezTo>
                      <a:pt x="579" y="118"/>
                      <a:pt x="584" y="112"/>
                      <a:pt x="581" y="107"/>
                    </a:cubicBezTo>
                    <a:cubicBezTo>
                      <a:pt x="579" y="103"/>
                      <a:pt x="573" y="110"/>
                      <a:pt x="569" y="111"/>
                    </a:cubicBezTo>
                    <a:cubicBezTo>
                      <a:pt x="552" y="144"/>
                      <a:pt x="532" y="190"/>
                      <a:pt x="509" y="219"/>
                    </a:cubicBezTo>
                    <a:cubicBezTo>
                      <a:pt x="486" y="248"/>
                      <a:pt x="455" y="263"/>
                      <a:pt x="425" y="283"/>
                    </a:cubicBezTo>
                    <a:cubicBezTo>
                      <a:pt x="403" y="298"/>
                      <a:pt x="371" y="331"/>
                      <a:pt x="353" y="351"/>
                    </a:cubicBezTo>
                    <a:cubicBezTo>
                      <a:pt x="316" y="392"/>
                      <a:pt x="290" y="443"/>
                      <a:pt x="257" y="487"/>
                    </a:cubicBezTo>
                    <a:cubicBezTo>
                      <a:pt x="240" y="537"/>
                      <a:pt x="210" y="595"/>
                      <a:pt x="161" y="619"/>
                    </a:cubicBezTo>
                    <a:cubicBezTo>
                      <a:pt x="156" y="627"/>
                      <a:pt x="150" y="635"/>
                      <a:pt x="145" y="643"/>
                    </a:cubicBezTo>
                    <a:cubicBezTo>
                      <a:pt x="142" y="647"/>
                      <a:pt x="137" y="655"/>
                      <a:pt x="137" y="655"/>
                    </a:cubicBezTo>
                    <a:cubicBezTo>
                      <a:pt x="139" y="665"/>
                      <a:pt x="135" y="686"/>
                      <a:pt x="153" y="683"/>
                    </a:cubicBezTo>
                    <a:cubicBezTo>
                      <a:pt x="170" y="680"/>
                      <a:pt x="203" y="631"/>
                      <a:pt x="213" y="623"/>
                    </a:cubicBezTo>
                    <a:cubicBezTo>
                      <a:pt x="244" y="599"/>
                      <a:pt x="266" y="580"/>
                      <a:pt x="301" y="563"/>
                    </a:cubicBezTo>
                    <a:cubicBezTo>
                      <a:pt x="335" y="546"/>
                      <a:pt x="364" y="504"/>
                      <a:pt x="389" y="479"/>
                    </a:cubicBezTo>
                    <a:cubicBezTo>
                      <a:pt x="432" y="436"/>
                      <a:pt x="470" y="390"/>
                      <a:pt x="513" y="347"/>
                    </a:cubicBezTo>
                    <a:cubicBezTo>
                      <a:pt x="560" y="300"/>
                      <a:pt x="593" y="290"/>
                      <a:pt x="605" y="219"/>
                    </a:cubicBezTo>
                    <a:cubicBezTo>
                      <a:pt x="612" y="126"/>
                      <a:pt x="600" y="190"/>
                      <a:pt x="617" y="147"/>
                    </a:cubicBezTo>
                    <a:cubicBezTo>
                      <a:pt x="620" y="139"/>
                      <a:pt x="622" y="131"/>
                      <a:pt x="625" y="123"/>
                    </a:cubicBezTo>
                    <a:cubicBezTo>
                      <a:pt x="628" y="115"/>
                      <a:pt x="645" y="103"/>
                      <a:pt x="637" y="99"/>
                    </a:cubicBezTo>
                    <a:cubicBezTo>
                      <a:pt x="627" y="94"/>
                      <a:pt x="620" y="114"/>
                      <a:pt x="613" y="123"/>
                    </a:cubicBezTo>
                    <a:cubicBezTo>
                      <a:pt x="590" y="150"/>
                      <a:pt x="558" y="206"/>
                      <a:pt x="533" y="223"/>
                    </a:cubicBezTo>
                    <a:cubicBezTo>
                      <a:pt x="508" y="261"/>
                      <a:pt x="473" y="295"/>
                      <a:pt x="441" y="327"/>
                    </a:cubicBezTo>
                    <a:cubicBezTo>
                      <a:pt x="423" y="345"/>
                      <a:pt x="410" y="365"/>
                      <a:pt x="389" y="379"/>
                    </a:cubicBezTo>
                    <a:cubicBezTo>
                      <a:pt x="378" y="413"/>
                      <a:pt x="341" y="435"/>
                      <a:pt x="329" y="471"/>
                    </a:cubicBezTo>
                    <a:cubicBezTo>
                      <a:pt x="327" y="488"/>
                      <a:pt x="330" y="508"/>
                      <a:pt x="321" y="523"/>
                    </a:cubicBezTo>
                    <a:cubicBezTo>
                      <a:pt x="309" y="544"/>
                      <a:pt x="281" y="551"/>
                      <a:pt x="265" y="567"/>
                    </a:cubicBezTo>
                    <a:cubicBezTo>
                      <a:pt x="238" y="594"/>
                      <a:pt x="236" y="594"/>
                      <a:pt x="217" y="619"/>
                    </a:cubicBezTo>
                    <a:cubicBezTo>
                      <a:pt x="201" y="640"/>
                      <a:pt x="188" y="663"/>
                      <a:pt x="177" y="687"/>
                    </a:cubicBezTo>
                    <a:cubicBezTo>
                      <a:pt x="174" y="695"/>
                      <a:pt x="169" y="711"/>
                      <a:pt x="169" y="711"/>
                    </a:cubicBezTo>
                    <a:cubicBezTo>
                      <a:pt x="170" y="713"/>
                      <a:pt x="174" y="736"/>
                      <a:pt x="185" y="727"/>
                    </a:cubicBezTo>
                    <a:cubicBezTo>
                      <a:pt x="202" y="714"/>
                      <a:pt x="198" y="662"/>
                      <a:pt x="205" y="643"/>
                    </a:cubicBezTo>
                    <a:cubicBezTo>
                      <a:pt x="212" y="623"/>
                      <a:pt x="247" y="616"/>
                      <a:pt x="265" y="611"/>
                    </a:cubicBezTo>
                    <a:cubicBezTo>
                      <a:pt x="282" y="600"/>
                      <a:pt x="313" y="588"/>
                      <a:pt x="333" y="583"/>
                    </a:cubicBezTo>
                    <a:cubicBezTo>
                      <a:pt x="341" y="576"/>
                      <a:pt x="348" y="569"/>
                      <a:pt x="357" y="563"/>
                    </a:cubicBezTo>
                    <a:cubicBezTo>
                      <a:pt x="362" y="560"/>
                      <a:pt x="368" y="558"/>
                      <a:pt x="373" y="555"/>
                    </a:cubicBezTo>
                    <a:cubicBezTo>
                      <a:pt x="398" y="537"/>
                      <a:pt x="419" y="505"/>
                      <a:pt x="441" y="483"/>
                    </a:cubicBezTo>
                    <a:cubicBezTo>
                      <a:pt x="448" y="476"/>
                      <a:pt x="455" y="463"/>
                      <a:pt x="461" y="455"/>
                    </a:cubicBezTo>
                    <a:cubicBezTo>
                      <a:pt x="469" y="444"/>
                      <a:pt x="485" y="423"/>
                      <a:pt x="485" y="423"/>
                    </a:cubicBezTo>
                    <a:cubicBezTo>
                      <a:pt x="490" y="385"/>
                      <a:pt x="509" y="355"/>
                      <a:pt x="529" y="323"/>
                    </a:cubicBezTo>
                    <a:cubicBezTo>
                      <a:pt x="573" y="253"/>
                      <a:pt x="593" y="203"/>
                      <a:pt x="665" y="155"/>
                    </a:cubicBezTo>
                    <a:cubicBezTo>
                      <a:pt x="674" y="149"/>
                      <a:pt x="680" y="137"/>
                      <a:pt x="689" y="131"/>
                    </a:cubicBezTo>
                    <a:cubicBezTo>
                      <a:pt x="665" y="115"/>
                      <a:pt x="645" y="153"/>
                      <a:pt x="629" y="171"/>
                    </a:cubicBezTo>
                    <a:cubicBezTo>
                      <a:pt x="594" y="210"/>
                      <a:pt x="559" y="256"/>
                      <a:pt x="529" y="299"/>
                    </a:cubicBezTo>
                    <a:cubicBezTo>
                      <a:pt x="513" y="323"/>
                      <a:pt x="496" y="360"/>
                      <a:pt x="473" y="375"/>
                    </a:cubicBezTo>
                    <a:cubicBezTo>
                      <a:pt x="456" y="409"/>
                      <a:pt x="476" y="376"/>
                      <a:pt x="449" y="399"/>
                    </a:cubicBezTo>
                    <a:cubicBezTo>
                      <a:pt x="432" y="413"/>
                      <a:pt x="417" y="435"/>
                      <a:pt x="401" y="451"/>
                    </a:cubicBezTo>
                    <a:cubicBezTo>
                      <a:pt x="393" y="459"/>
                      <a:pt x="385" y="467"/>
                      <a:pt x="377" y="475"/>
                    </a:cubicBezTo>
                    <a:cubicBezTo>
                      <a:pt x="371" y="481"/>
                      <a:pt x="353" y="483"/>
                      <a:pt x="353" y="483"/>
                    </a:cubicBezTo>
                    <a:cubicBezTo>
                      <a:pt x="319" y="533"/>
                      <a:pt x="337" y="581"/>
                      <a:pt x="281" y="619"/>
                    </a:cubicBezTo>
                    <a:cubicBezTo>
                      <a:pt x="271" y="634"/>
                      <a:pt x="258" y="647"/>
                      <a:pt x="249" y="663"/>
                    </a:cubicBezTo>
                    <a:cubicBezTo>
                      <a:pt x="234" y="690"/>
                      <a:pt x="230" y="732"/>
                      <a:pt x="197" y="743"/>
                    </a:cubicBezTo>
                    <a:cubicBezTo>
                      <a:pt x="196" y="739"/>
                      <a:pt x="191" y="735"/>
                      <a:pt x="193" y="731"/>
                    </a:cubicBezTo>
                    <a:cubicBezTo>
                      <a:pt x="204" y="712"/>
                      <a:pt x="241" y="681"/>
                      <a:pt x="257" y="659"/>
                    </a:cubicBezTo>
                    <a:cubicBezTo>
                      <a:pt x="188" y="650"/>
                      <a:pt x="205" y="633"/>
                      <a:pt x="185" y="663"/>
                    </a:cubicBezTo>
                    <a:cubicBezTo>
                      <a:pt x="196" y="697"/>
                      <a:pt x="209" y="714"/>
                      <a:pt x="245" y="723"/>
                    </a:cubicBezTo>
                    <a:cubicBezTo>
                      <a:pt x="268" y="757"/>
                      <a:pt x="240" y="714"/>
                      <a:pt x="257" y="747"/>
                    </a:cubicBezTo>
                    <a:cubicBezTo>
                      <a:pt x="259" y="751"/>
                      <a:pt x="270" y="757"/>
                      <a:pt x="265" y="759"/>
                    </a:cubicBezTo>
                    <a:cubicBezTo>
                      <a:pt x="258" y="761"/>
                      <a:pt x="252" y="754"/>
                      <a:pt x="245" y="751"/>
                    </a:cubicBezTo>
                    <a:cubicBezTo>
                      <a:pt x="228" y="717"/>
                      <a:pt x="234" y="720"/>
                      <a:pt x="241" y="671"/>
                    </a:cubicBezTo>
                    <a:cubicBezTo>
                      <a:pt x="249" y="690"/>
                      <a:pt x="254" y="708"/>
                      <a:pt x="261" y="727"/>
                    </a:cubicBezTo>
                    <a:cubicBezTo>
                      <a:pt x="264" y="735"/>
                      <a:pt x="269" y="751"/>
                      <a:pt x="269" y="751"/>
                    </a:cubicBezTo>
                    <a:cubicBezTo>
                      <a:pt x="309" y="711"/>
                      <a:pt x="299" y="657"/>
                      <a:pt x="321" y="607"/>
                    </a:cubicBezTo>
                    <a:cubicBezTo>
                      <a:pt x="329" y="588"/>
                      <a:pt x="333" y="570"/>
                      <a:pt x="353" y="563"/>
                    </a:cubicBezTo>
                    <a:cubicBezTo>
                      <a:pt x="372" y="588"/>
                      <a:pt x="368" y="681"/>
                      <a:pt x="353" y="635"/>
                    </a:cubicBezTo>
                    <a:cubicBezTo>
                      <a:pt x="359" y="593"/>
                      <a:pt x="361" y="547"/>
                      <a:pt x="385" y="511"/>
                    </a:cubicBezTo>
                    <a:cubicBezTo>
                      <a:pt x="383" y="531"/>
                      <a:pt x="377" y="551"/>
                      <a:pt x="377" y="571"/>
                    </a:cubicBezTo>
                    <a:cubicBezTo>
                      <a:pt x="377" y="574"/>
                      <a:pt x="379" y="566"/>
                      <a:pt x="381" y="563"/>
                    </a:cubicBezTo>
                    <a:cubicBezTo>
                      <a:pt x="388" y="552"/>
                      <a:pt x="394" y="542"/>
                      <a:pt x="401" y="531"/>
                    </a:cubicBezTo>
                    <a:cubicBezTo>
                      <a:pt x="408" y="520"/>
                      <a:pt x="394" y="555"/>
                      <a:pt x="389" y="567"/>
                    </a:cubicBezTo>
                    <a:cubicBezTo>
                      <a:pt x="377" y="597"/>
                      <a:pt x="364" y="608"/>
                      <a:pt x="337" y="627"/>
                    </a:cubicBezTo>
                    <a:cubicBezTo>
                      <a:pt x="330" y="638"/>
                      <a:pt x="318" y="678"/>
                      <a:pt x="309" y="651"/>
                    </a:cubicBezTo>
                    <a:cubicBezTo>
                      <a:pt x="312" y="646"/>
                      <a:pt x="311" y="633"/>
                      <a:pt x="317" y="635"/>
                    </a:cubicBezTo>
                    <a:cubicBezTo>
                      <a:pt x="323" y="637"/>
                      <a:pt x="321" y="648"/>
                      <a:pt x="321" y="655"/>
                    </a:cubicBezTo>
                    <a:cubicBezTo>
                      <a:pt x="321" y="777"/>
                      <a:pt x="325" y="750"/>
                      <a:pt x="313" y="811"/>
                    </a:cubicBezTo>
                    <a:cubicBezTo>
                      <a:pt x="316" y="770"/>
                      <a:pt x="319" y="732"/>
                      <a:pt x="309" y="691"/>
                    </a:cubicBezTo>
                    <a:cubicBezTo>
                      <a:pt x="288" y="755"/>
                      <a:pt x="284" y="864"/>
                      <a:pt x="349" y="907"/>
                    </a:cubicBezTo>
                    <a:cubicBezTo>
                      <a:pt x="376" y="880"/>
                      <a:pt x="385" y="843"/>
                      <a:pt x="397" y="807"/>
                    </a:cubicBezTo>
                    <a:cubicBezTo>
                      <a:pt x="399" y="802"/>
                      <a:pt x="392" y="815"/>
                      <a:pt x="389" y="819"/>
                    </a:cubicBezTo>
                    <a:cubicBezTo>
                      <a:pt x="382" y="741"/>
                      <a:pt x="382" y="776"/>
                      <a:pt x="369" y="815"/>
                    </a:cubicBezTo>
                    <a:cubicBezTo>
                      <a:pt x="370" y="819"/>
                      <a:pt x="369" y="829"/>
                      <a:pt x="373" y="827"/>
                    </a:cubicBezTo>
                    <a:cubicBezTo>
                      <a:pt x="385" y="821"/>
                      <a:pt x="399" y="757"/>
                      <a:pt x="401" y="751"/>
                    </a:cubicBezTo>
                    <a:cubicBezTo>
                      <a:pt x="404" y="768"/>
                      <a:pt x="408" y="786"/>
                      <a:pt x="409" y="803"/>
                    </a:cubicBezTo>
                    <a:cubicBezTo>
                      <a:pt x="417" y="897"/>
                      <a:pt x="398" y="924"/>
                      <a:pt x="425" y="871"/>
                    </a:cubicBezTo>
                    <a:cubicBezTo>
                      <a:pt x="431" y="829"/>
                      <a:pt x="436" y="787"/>
                      <a:pt x="449" y="747"/>
                    </a:cubicBezTo>
                    <a:cubicBezTo>
                      <a:pt x="440" y="875"/>
                      <a:pt x="449" y="758"/>
                      <a:pt x="449" y="667"/>
                    </a:cubicBezTo>
                    <a:cubicBezTo>
                      <a:pt x="449" y="647"/>
                      <a:pt x="448" y="707"/>
                      <a:pt x="445" y="727"/>
                    </a:cubicBezTo>
                    <a:cubicBezTo>
                      <a:pt x="442" y="746"/>
                      <a:pt x="438" y="764"/>
                      <a:pt x="433" y="783"/>
                    </a:cubicBezTo>
                    <a:cubicBezTo>
                      <a:pt x="431" y="791"/>
                      <a:pt x="417" y="810"/>
                      <a:pt x="425" y="807"/>
                    </a:cubicBezTo>
                    <a:cubicBezTo>
                      <a:pt x="433" y="804"/>
                      <a:pt x="448" y="774"/>
                      <a:pt x="453" y="763"/>
                    </a:cubicBezTo>
                    <a:cubicBezTo>
                      <a:pt x="450" y="818"/>
                      <a:pt x="427" y="896"/>
                      <a:pt x="437" y="951"/>
                    </a:cubicBezTo>
                    <a:cubicBezTo>
                      <a:pt x="438" y="955"/>
                      <a:pt x="446" y="944"/>
                      <a:pt x="461" y="923"/>
                    </a:cubicBezTo>
                    <a:cubicBezTo>
                      <a:pt x="463" y="929"/>
                      <a:pt x="469" y="965"/>
                      <a:pt x="469" y="919"/>
                    </a:cubicBezTo>
                    <a:cubicBezTo>
                      <a:pt x="469" y="911"/>
                      <a:pt x="466" y="903"/>
                      <a:pt x="465" y="895"/>
                    </a:cubicBezTo>
                    <a:cubicBezTo>
                      <a:pt x="443" y="928"/>
                      <a:pt x="449" y="927"/>
                      <a:pt x="453" y="895"/>
                    </a:cubicBezTo>
                    <a:cubicBezTo>
                      <a:pt x="456" y="874"/>
                      <a:pt x="458" y="852"/>
                      <a:pt x="461" y="831"/>
                    </a:cubicBezTo>
                    <a:cubicBezTo>
                      <a:pt x="462" y="802"/>
                      <a:pt x="463" y="772"/>
                      <a:pt x="465" y="743"/>
                    </a:cubicBezTo>
                    <a:cubicBezTo>
                      <a:pt x="467" y="695"/>
                      <a:pt x="494" y="556"/>
                      <a:pt x="473" y="599"/>
                    </a:cubicBezTo>
                    <a:cubicBezTo>
                      <a:pt x="468" y="610"/>
                      <a:pt x="457" y="631"/>
                      <a:pt x="457" y="631"/>
                    </a:cubicBezTo>
                    <a:cubicBezTo>
                      <a:pt x="456" y="612"/>
                      <a:pt x="457" y="557"/>
                      <a:pt x="453" y="575"/>
                    </a:cubicBezTo>
                    <a:cubicBezTo>
                      <a:pt x="446" y="605"/>
                      <a:pt x="451" y="636"/>
                      <a:pt x="449" y="667"/>
                    </a:cubicBezTo>
                    <a:cubicBezTo>
                      <a:pt x="448" y="679"/>
                      <a:pt x="451" y="695"/>
                      <a:pt x="441" y="703"/>
                    </a:cubicBezTo>
                    <a:cubicBezTo>
                      <a:pt x="437" y="706"/>
                      <a:pt x="430" y="706"/>
                      <a:pt x="425" y="707"/>
                    </a:cubicBezTo>
                    <a:cubicBezTo>
                      <a:pt x="424" y="699"/>
                      <a:pt x="429" y="683"/>
                      <a:pt x="421" y="683"/>
                    </a:cubicBezTo>
                    <a:cubicBezTo>
                      <a:pt x="411" y="683"/>
                      <a:pt x="406" y="698"/>
                      <a:pt x="401" y="707"/>
                    </a:cubicBezTo>
                    <a:cubicBezTo>
                      <a:pt x="398" y="712"/>
                      <a:pt x="393" y="727"/>
                      <a:pt x="397" y="723"/>
                    </a:cubicBezTo>
                    <a:cubicBezTo>
                      <a:pt x="402" y="718"/>
                      <a:pt x="403" y="710"/>
                      <a:pt x="405" y="703"/>
                    </a:cubicBezTo>
                    <a:cubicBezTo>
                      <a:pt x="426" y="647"/>
                      <a:pt x="426" y="585"/>
                      <a:pt x="477" y="551"/>
                    </a:cubicBezTo>
                    <a:cubicBezTo>
                      <a:pt x="480" y="568"/>
                      <a:pt x="476" y="588"/>
                      <a:pt x="485" y="603"/>
                    </a:cubicBezTo>
                    <a:cubicBezTo>
                      <a:pt x="489" y="610"/>
                      <a:pt x="495" y="590"/>
                      <a:pt x="497" y="583"/>
                    </a:cubicBezTo>
                    <a:cubicBezTo>
                      <a:pt x="503" y="565"/>
                      <a:pt x="505" y="546"/>
                      <a:pt x="509" y="527"/>
                    </a:cubicBezTo>
                    <a:cubicBezTo>
                      <a:pt x="510" y="523"/>
                      <a:pt x="514" y="511"/>
                      <a:pt x="513" y="515"/>
                    </a:cubicBezTo>
                    <a:cubicBezTo>
                      <a:pt x="502" y="580"/>
                      <a:pt x="510" y="526"/>
                      <a:pt x="497" y="571"/>
                    </a:cubicBezTo>
                    <a:cubicBezTo>
                      <a:pt x="495" y="578"/>
                      <a:pt x="486" y="591"/>
                      <a:pt x="493" y="591"/>
                    </a:cubicBezTo>
                    <a:cubicBezTo>
                      <a:pt x="500" y="591"/>
                      <a:pt x="497" y="577"/>
                      <a:pt x="501" y="571"/>
                    </a:cubicBezTo>
                    <a:cubicBezTo>
                      <a:pt x="504" y="566"/>
                      <a:pt x="509" y="563"/>
                      <a:pt x="513" y="559"/>
                    </a:cubicBezTo>
                    <a:cubicBezTo>
                      <a:pt x="523" y="593"/>
                      <a:pt x="522" y="624"/>
                      <a:pt x="513" y="659"/>
                    </a:cubicBezTo>
                    <a:cubicBezTo>
                      <a:pt x="519" y="518"/>
                      <a:pt x="523" y="577"/>
                      <a:pt x="477" y="623"/>
                    </a:cubicBezTo>
                    <a:cubicBezTo>
                      <a:pt x="494" y="534"/>
                      <a:pt x="486" y="567"/>
                      <a:pt x="497" y="523"/>
                    </a:cubicBezTo>
                    <a:cubicBezTo>
                      <a:pt x="498" y="527"/>
                      <a:pt x="501" y="531"/>
                      <a:pt x="501" y="535"/>
                    </a:cubicBezTo>
                    <a:cubicBezTo>
                      <a:pt x="501" y="542"/>
                      <a:pt x="494" y="561"/>
                      <a:pt x="497" y="555"/>
                    </a:cubicBezTo>
                    <a:cubicBezTo>
                      <a:pt x="507" y="536"/>
                      <a:pt x="513" y="515"/>
                      <a:pt x="521" y="495"/>
                    </a:cubicBezTo>
                    <a:cubicBezTo>
                      <a:pt x="524" y="474"/>
                      <a:pt x="526" y="452"/>
                      <a:pt x="529" y="431"/>
                    </a:cubicBezTo>
                    <a:cubicBezTo>
                      <a:pt x="530" y="423"/>
                      <a:pt x="531" y="415"/>
                      <a:pt x="533" y="407"/>
                    </a:cubicBezTo>
                    <a:cubicBezTo>
                      <a:pt x="534" y="403"/>
                      <a:pt x="540" y="392"/>
                      <a:pt x="537" y="395"/>
                    </a:cubicBezTo>
                    <a:cubicBezTo>
                      <a:pt x="519" y="413"/>
                      <a:pt x="516" y="440"/>
                      <a:pt x="497" y="459"/>
                    </a:cubicBezTo>
                    <a:cubicBezTo>
                      <a:pt x="494" y="462"/>
                      <a:pt x="502" y="451"/>
                      <a:pt x="505" y="447"/>
                    </a:cubicBezTo>
                    <a:cubicBezTo>
                      <a:pt x="510" y="440"/>
                      <a:pt x="516" y="434"/>
                      <a:pt x="521" y="427"/>
                    </a:cubicBezTo>
                    <a:cubicBezTo>
                      <a:pt x="535" y="378"/>
                      <a:pt x="527" y="369"/>
                      <a:pt x="569" y="355"/>
                    </a:cubicBezTo>
                    <a:cubicBezTo>
                      <a:pt x="571" y="367"/>
                      <a:pt x="580" y="427"/>
                      <a:pt x="561" y="371"/>
                    </a:cubicBezTo>
                    <a:cubicBezTo>
                      <a:pt x="562" y="367"/>
                      <a:pt x="567" y="355"/>
                      <a:pt x="565" y="359"/>
                    </a:cubicBezTo>
                    <a:cubicBezTo>
                      <a:pt x="554" y="387"/>
                      <a:pt x="543" y="413"/>
                      <a:pt x="521" y="435"/>
                    </a:cubicBezTo>
                    <a:cubicBezTo>
                      <a:pt x="518" y="438"/>
                      <a:pt x="526" y="427"/>
                      <a:pt x="529" y="423"/>
                    </a:cubicBezTo>
                    <a:cubicBezTo>
                      <a:pt x="535" y="415"/>
                      <a:pt x="544" y="408"/>
                      <a:pt x="549" y="399"/>
                    </a:cubicBezTo>
                    <a:cubicBezTo>
                      <a:pt x="570" y="360"/>
                      <a:pt x="564" y="337"/>
                      <a:pt x="605" y="323"/>
                    </a:cubicBezTo>
                    <a:cubicBezTo>
                      <a:pt x="612" y="343"/>
                      <a:pt x="611" y="329"/>
                      <a:pt x="597" y="351"/>
                    </a:cubicBezTo>
                    <a:cubicBezTo>
                      <a:pt x="594" y="356"/>
                      <a:pt x="586" y="372"/>
                      <a:pt x="589" y="367"/>
                    </a:cubicBezTo>
                    <a:cubicBezTo>
                      <a:pt x="604" y="345"/>
                      <a:pt x="614" y="326"/>
                      <a:pt x="633" y="307"/>
                    </a:cubicBezTo>
                    <a:cubicBezTo>
                      <a:pt x="625" y="327"/>
                      <a:pt x="619" y="340"/>
                      <a:pt x="609" y="359"/>
                    </a:cubicBezTo>
                    <a:cubicBezTo>
                      <a:pt x="607" y="363"/>
                      <a:pt x="598" y="374"/>
                      <a:pt x="601" y="371"/>
                    </a:cubicBezTo>
                    <a:cubicBezTo>
                      <a:pt x="621" y="351"/>
                      <a:pt x="631" y="328"/>
                      <a:pt x="653" y="311"/>
                    </a:cubicBezTo>
                    <a:cubicBezTo>
                      <a:pt x="660" y="352"/>
                      <a:pt x="662" y="329"/>
                      <a:pt x="625" y="375"/>
                    </a:cubicBezTo>
                    <a:cubicBezTo>
                      <a:pt x="620" y="381"/>
                      <a:pt x="609" y="399"/>
                      <a:pt x="609" y="391"/>
                    </a:cubicBezTo>
                    <a:cubicBezTo>
                      <a:pt x="609" y="351"/>
                      <a:pt x="690" y="288"/>
                      <a:pt x="729" y="275"/>
                    </a:cubicBezTo>
                    <a:cubicBezTo>
                      <a:pt x="736" y="308"/>
                      <a:pt x="716" y="332"/>
                      <a:pt x="693" y="355"/>
                    </a:cubicBezTo>
                    <a:cubicBezTo>
                      <a:pt x="694" y="348"/>
                      <a:pt x="696" y="342"/>
                      <a:pt x="697" y="335"/>
                    </a:cubicBezTo>
                    <a:cubicBezTo>
                      <a:pt x="700" y="316"/>
                      <a:pt x="702" y="298"/>
                      <a:pt x="705" y="279"/>
                    </a:cubicBezTo>
                    <a:cubicBezTo>
                      <a:pt x="727" y="158"/>
                      <a:pt x="705" y="263"/>
                      <a:pt x="693" y="295"/>
                    </a:cubicBezTo>
                    <a:cubicBezTo>
                      <a:pt x="665" y="365"/>
                      <a:pt x="681" y="341"/>
                      <a:pt x="625" y="387"/>
                    </a:cubicBezTo>
                    <a:cubicBezTo>
                      <a:pt x="618" y="393"/>
                      <a:pt x="641" y="376"/>
                      <a:pt x="649" y="371"/>
                    </a:cubicBezTo>
                    <a:cubicBezTo>
                      <a:pt x="662" y="364"/>
                      <a:pt x="671" y="362"/>
                      <a:pt x="685" y="359"/>
                    </a:cubicBezTo>
                    <a:cubicBezTo>
                      <a:pt x="682" y="371"/>
                      <a:pt x="682" y="384"/>
                      <a:pt x="677" y="395"/>
                    </a:cubicBezTo>
                    <a:cubicBezTo>
                      <a:pt x="674" y="402"/>
                      <a:pt x="664" y="418"/>
                      <a:pt x="661" y="411"/>
                    </a:cubicBezTo>
                    <a:cubicBezTo>
                      <a:pt x="657" y="403"/>
                      <a:pt x="667" y="394"/>
                      <a:pt x="673" y="387"/>
                    </a:cubicBezTo>
                    <a:cubicBezTo>
                      <a:pt x="687" y="370"/>
                      <a:pt x="707" y="357"/>
                      <a:pt x="721" y="339"/>
                    </a:cubicBezTo>
                    <a:cubicBezTo>
                      <a:pt x="726" y="332"/>
                      <a:pt x="731" y="313"/>
                      <a:pt x="737" y="319"/>
                    </a:cubicBezTo>
                    <a:cubicBezTo>
                      <a:pt x="743" y="325"/>
                      <a:pt x="725" y="343"/>
                      <a:pt x="725" y="343"/>
                    </a:cubicBezTo>
                    <a:cubicBezTo>
                      <a:pt x="753" y="245"/>
                      <a:pt x="724" y="319"/>
                      <a:pt x="761" y="263"/>
                    </a:cubicBezTo>
                    <a:cubicBezTo>
                      <a:pt x="766" y="256"/>
                      <a:pt x="768" y="246"/>
                      <a:pt x="773" y="239"/>
                    </a:cubicBezTo>
                    <a:cubicBezTo>
                      <a:pt x="776" y="234"/>
                      <a:pt x="790" y="224"/>
                      <a:pt x="785" y="227"/>
                    </a:cubicBezTo>
                    <a:cubicBezTo>
                      <a:pt x="760" y="244"/>
                      <a:pt x="746" y="261"/>
                      <a:pt x="717" y="271"/>
                    </a:cubicBezTo>
                    <a:cubicBezTo>
                      <a:pt x="719" y="255"/>
                      <a:pt x="721" y="239"/>
                      <a:pt x="725" y="223"/>
                    </a:cubicBezTo>
                    <a:cubicBezTo>
                      <a:pt x="726" y="219"/>
                      <a:pt x="732" y="214"/>
                      <a:pt x="729" y="211"/>
                    </a:cubicBezTo>
                    <a:cubicBezTo>
                      <a:pt x="726" y="208"/>
                      <a:pt x="721" y="214"/>
                      <a:pt x="717" y="215"/>
                    </a:cubicBezTo>
                    <a:cubicBezTo>
                      <a:pt x="685" y="240"/>
                      <a:pt x="648" y="249"/>
                      <a:pt x="617" y="275"/>
                    </a:cubicBezTo>
                    <a:cubicBezTo>
                      <a:pt x="627" y="236"/>
                      <a:pt x="640" y="208"/>
                      <a:pt x="669" y="179"/>
                    </a:cubicBezTo>
                    <a:cubicBezTo>
                      <a:pt x="680" y="196"/>
                      <a:pt x="676" y="203"/>
                      <a:pt x="665" y="219"/>
                    </a:cubicBezTo>
                    <a:cubicBezTo>
                      <a:pt x="673" y="186"/>
                      <a:pt x="684" y="166"/>
                      <a:pt x="661" y="135"/>
                    </a:cubicBezTo>
                    <a:cubicBezTo>
                      <a:pt x="678" y="132"/>
                      <a:pt x="704" y="142"/>
                      <a:pt x="713" y="127"/>
                    </a:cubicBezTo>
                    <a:cubicBezTo>
                      <a:pt x="717" y="120"/>
                      <a:pt x="700" y="116"/>
                      <a:pt x="693" y="111"/>
                    </a:cubicBezTo>
                    <a:cubicBezTo>
                      <a:pt x="689" y="109"/>
                      <a:pt x="678" y="104"/>
                      <a:pt x="681" y="107"/>
                    </a:cubicBezTo>
                    <a:cubicBezTo>
                      <a:pt x="693" y="119"/>
                      <a:pt x="726" y="118"/>
                      <a:pt x="737" y="119"/>
                    </a:cubicBezTo>
                    <a:cubicBezTo>
                      <a:pt x="760" y="127"/>
                      <a:pt x="769" y="143"/>
                      <a:pt x="785" y="159"/>
                    </a:cubicBezTo>
                    <a:cubicBezTo>
                      <a:pt x="660" y="206"/>
                      <a:pt x="451" y="197"/>
                      <a:pt x="313" y="207"/>
                    </a:cubicBezTo>
                    <a:cubicBezTo>
                      <a:pt x="266" y="204"/>
                      <a:pt x="252" y="200"/>
                      <a:pt x="213" y="187"/>
                    </a:cubicBezTo>
                    <a:cubicBezTo>
                      <a:pt x="196" y="174"/>
                      <a:pt x="188" y="163"/>
                      <a:pt x="181" y="143"/>
                    </a:cubicBezTo>
                    <a:cubicBezTo>
                      <a:pt x="195" y="108"/>
                      <a:pt x="204" y="119"/>
                      <a:pt x="245" y="123"/>
                    </a:cubicBezTo>
                    <a:cubicBezTo>
                      <a:pt x="199" y="159"/>
                      <a:pt x="178" y="166"/>
                      <a:pt x="117" y="171"/>
                    </a:cubicBezTo>
                    <a:cubicBezTo>
                      <a:pt x="99" y="175"/>
                      <a:pt x="86" y="181"/>
                      <a:pt x="69" y="187"/>
                    </a:cubicBezTo>
                    <a:cubicBezTo>
                      <a:pt x="52" y="204"/>
                      <a:pt x="33" y="226"/>
                      <a:pt x="13" y="239"/>
                    </a:cubicBezTo>
                    <a:cubicBezTo>
                      <a:pt x="11" y="244"/>
                      <a:pt x="5" y="263"/>
                      <a:pt x="5" y="267"/>
                    </a:cubicBezTo>
                    <a:cubicBezTo>
                      <a:pt x="6" y="279"/>
                      <a:pt x="16" y="315"/>
                      <a:pt x="29" y="315"/>
                    </a:cubicBezTo>
                  </a:path>
                </a:pathLst>
              </a:custGeom>
              <a:noFill/>
              <a:ln w="7632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grpSp>
        <p:sp>
          <p:nvSpPr>
            <p:cNvPr id="215" name=""/>
            <p:cNvSpPr/>
            <p:nvPr/>
          </p:nvSpPr>
          <p:spPr>
            <a:xfrm flipH="1">
              <a:off x="5281560" y="3038400"/>
              <a:ext cx="653760" cy="123840"/>
            </a:xfrm>
            <a:custGeom>
              <a:avLst/>
              <a:gdLst/>
              <a:ahLst/>
              <a:rect l="l" t="t" r="r" b="b"/>
              <a:pathLst>
                <a:path w="412" h="78">
                  <a:moveTo>
                    <a:pt x="0" y="78"/>
                  </a:moveTo>
                  <a:cubicBezTo>
                    <a:pt x="24" y="74"/>
                    <a:pt x="38" y="60"/>
                    <a:pt x="60" y="54"/>
                  </a:cubicBezTo>
                  <a:cubicBezTo>
                    <a:pt x="104" y="41"/>
                    <a:pt x="151" y="28"/>
                    <a:pt x="196" y="22"/>
                  </a:cubicBezTo>
                  <a:cubicBezTo>
                    <a:pt x="235" y="9"/>
                    <a:pt x="279" y="9"/>
                    <a:pt x="320" y="6"/>
                  </a:cubicBezTo>
                  <a:cubicBezTo>
                    <a:pt x="351" y="0"/>
                    <a:pt x="380" y="6"/>
                    <a:pt x="412" y="6"/>
                  </a:cubicBezTo>
                </a:path>
              </a:pathLst>
            </a:custGeom>
            <a:noFill/>
            <a:ln w="7632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16" name=""/>
            <p:cNvSpPr/>
            <p:nvPr/>
          </p:nvSpPr>
          <p:spPr>
            <a:xfrm flipH="1">
              <a:off x="5103360" y="3379680"/>
              <a:ext cx="52200" cy="41400"/>
            </a:xfrm>
            <a:custGeom>
              <a:avLst/>
              <a:gdLst/>
              <a:ahLst/>
              <a:rect l="l" t="t" r="r" b="b"/>
              <a:pathLst>
                <a:path w="33" h="26">
                  <a:moveTo>
                    <a:pt x="29" y="1"/>
                  </a:moveTo>
                  <a:cubicBezTo>
                    <a:pt x="26" y="4"/>
                    <a:pt x="20" y="11"/>
                    <a:pt x="18" y="7"/>
                  </a:cubicBezTo>
                  <a:cubicBezTo>
                    <a:pt x="17" y="5"/>
                    <a:pt x="22" y="0"/>
                    <a:pt x="20" y="1"/>
                  </a:cubicBezTo>
                  <a:cubicBezTo>
                    <a:pt x="16" y="2"/>
                    <a:pt x="9" y="10"/>
                    <a:pt x="9" y="10"/>
                  </a:cubicBezTo>
                  <a:cubicBezTo>
                    <a:pt x="0" y="26"/>
                    <a:pt x="25" y="7"/>
                    <a:pt x="33" y="4"/>
                  </a:cubicBezTo>
                  <a:cubicBezTo>
                    <a:pt x="32" y="8"/>
                    <a:pt x="27" y="15"/>
                    <a:pt x="27" y="15"/>
                  </a:cubicBezTo>
                </a:path>
              </a:pathLst>
            </a:custGeom>
            <a:noFill/>
            <a:ln w="76320">
              <a:solidFill>
                <a:srgbClr val="66ff33"/>
              </a:solidFill>
              <a:round/>
            </a:ln>
          </p:spPr>
          <p:style>
            <a:lnRef idx="0"/>
            <a:fillRef idx="0"/>
            <a:effectRef idx="0"/>
            <a:fontRef idx="minor"/>
          </p:style>
          <p:txBody>
            <a:bodyPr lIns="90000" rIns="90000" tIns="-5400" bIns="-5400" anchor="t">
              <a:noAutofit/>
            </a:bodyPr>
            <a:p>
              <a:endParaRPr b="0" lang="en-US" sz="2400" spc="-1" strike="noStrike">
                <a:solidFill>
                  <a:srgbClr val="f8f8f8"/>
                </a:solidFill>
                <a:latin typeface="Times New Roman"/>
              </a:endParaRPr>
            </a:p>
          </p:txBody>
        </p:sp>
        <p:sp>
          <p:nvSpPr>
            <p:cNvPr id="217" name=""/>
            <p:cNvSpPr/>
            <p:nvPr/>
          </p:nvSpPr>
          <p:spPr>
            <a:xfrm flipH="1">
              <a:off x="5247720" y="3813120"/>
              <a:ext cx="33480" cy="101520"/>
            </a:xfrm>
            <a:custGeom>
              <a:avLst/>
              <a:gdLst/>
              <a:ahLst/>
              <a:rect l="l" t="t" r="r" b="b"/>
              <a:pathLst>
                <a:path w="21" h="64">
                  <a:moveTo>
                    <a:pt x="1" y="0"/>
                  </a:moveTo>
                  <a:cubicBezTo>
                    <a:pt x="4" y="11"/>
                    <a:pt x="7" y="19"/>
                    <a:pt x="9" y="31"/>
                  </a:cubicBezTo>
                  <a:cubicBezTo>
                    <a:pt x="12" y="26"/>
                    <a:pt x="21" y="17"/>
                    <a:pt x="10" y="19"/>
                  </a:cubicBezTo>
                  <a:cubicBezTo>
                    <a:pt x="7" y="24"/>
                    <a:pt x="4" y="29"/>
                    <a:pt x="1" y="34"/>
                  </a:cubicBezTo>
                  <a:cubicBezTo>
                    <a:pt x="0" y="52"/>
                    <a:pt x="0" y="42"/>
                    <a:pt x="0" y="64"/>
                  </a:cubicBezTo>
                </a:path>
              </a:pathLst>
            </a:custGeom>
            <a:noFill/>
            <a:ln w="7632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18" name=""/>
            <p:cNvSpPr/>
            <p:nvPr/>
          </p:nvSpPr>
          <p:spPr>
            <a:xfrm flipH="1">
              <a:off x="5505120" y="3913200"/>
              <a:ext cx="46080" cy="33480"/>
            </a:xfrm>
            <a:custGeom>
              <a:avLst/>
              <a:gdLst/>
              <a:ahLst/>
              <a:rect l="l" t="t" r="r" b="b"/>
              <a:pathLst>
                <a:path w="29" h="21">
                  <a:moveTo>
                    <a:pt x="29" y="0"/>
                  </a:moveTo>
                  <a:cubicBezTo>
                    <a:pt x="19" y="5"/>
                    <a:pt x="10" y="12"/>
                    <a:pt x="0" y="18"/>
                  </a:cubicBezTo>
                  <a:cubicBezTo>
                    <a:pt x="2" y="19"/>
                    <a:pt x="4" y="21"/>
                    <a:pt x="6" y="21"/>
                  </a:cubicBezTo>
                  <a:cubicBezTo>
                    <a:pt x="9" y="21"/>
                    <a:pt x="15" y="15"/>
                    <a:pt x="18" y="13"/>
                  </a:cubicBezTo>
                  <a:cubicBezTo>
                    <a:pt x="20" y="12"/>
                    <a:pt x="24" y="11"/>
                    <a:pt x="23" y="10"/>
                  </a:cubicBezTo>
                  <a:cubicBezTo>
                    <a:pt x="21" y="8"/>
                    <a:pt x="17" y="12"/>
                    <a:pt x="14" y="13"/>
                  </a:cubicBezTo>
                </a:path>
              </a:pathLst>
            </a:custGeom>
            <a:noFill/>
            <a:ln w="76320">
              <a:solidFill>
                <a:srgbClr val="66ff33"/>
              </a:solidFill>
              <a:round/>
            </a:ln>
          </p:spPr>
          <p:style>
            <a:lnRef idx="0"/>
            <a:fillRef idx="0"/>
            <a:effectRef idx="0"/>
            <a:fontRef idx="minor"/>
          </p:style>
          <p:txBody>
            <a:bodyPr lIns="90000" rIns="90000" tIns="-13320" bIns="-13320" anchor="t">
              <a:noAutofit/>
            </a:bodyPr>
            <a:p>
              <a:endParaRPr b="0" lang="en-US" sz="2400" spc="-1" strike="noStrike">
                <a:solidFill>
                  <a:srgbClr val="f8f8f8"/>
                </a:solidFill>
                <a:latin typeface="Times New Roman"/>
              </a:endParaRPr>
            </a:p>
          </p:txBody>
        </p:sp>
        <p:sp>
          <p:nvSpPr>
            <p:cNvPr id="219" name=""/>
            <p:cNvSpPr/>
            <p:nvPr/>
          </p:nvSpPr>
          <p:spPr>
            <a:xfrm flipH="1">
              <a:off x="5749200" y="4219560"/>
              <a:ext cx="34920" cy="66600"/>
            </a:xfrm>
            <a:custGeom>
              <a:avLst/>
              <a:gdLst/>
              <a:ahLst/>
              <a:rect l="l" t="t" r="r" b="b"/>
              <a:pathLst>
                <a:path w="22" h="42">
                  <a:moveTo>
                    <a:pt x="0" y="0"/>
                  </a:moveTo>
                  <a:cubicBezTo>
                    <a:pt x="1" y="2"/>
                    <a:pt x="4" y="13"/>
                    <a:pt x="5" y="14"/>
                  </a:cubicBezTo>
                  <a:cubicBezTo>
                    <a:pt x="7" y="17"/>
                    <a:pt x="14" y="21"/>
                    <a:pt x="14" y="21"/>
                  </a:cubicBezTo>
                  <a:cubicBezTo>
                    <a:pt x="19" y="32"/>
                    <a:pt x="15" y="22"/>
                    <a:pt x="18" y="35"/>
                  </a:cubicBezTo>
                  <a:cubicBezTo>
                    <a:pt x="18" y="37"/>
                    <a:pt x="22" y="42"/>
                    <a:pt x="20" y="42"/>
                  </a:cubicBezTo>
                  <a:cubicBezTo>
                    <a:pt x="19" y="42"/>
                    <a:pt x="8" y="22"/>
                    <a:pt x="0" y="17"/>
                  </a:cubicBezTo>
                  <a:cubicBezTo>
                    <a:pt x="0" y="17"/>
                    <a:pt x="2" y="20"/>
                    <a:pt x="3" y="21"/>
                  </a:cubicBezTo>
                  <a:cubicBezTo>
                    <a:pt x="9" y="27"/>
                    <a:pt x="17" y="33"/>
                    <a:pt x="21" y="41"/>
                  </a:cubicBezTo>
                </a:path>
              </a:pathLst>
            </a:custGeom>
            <a:noFill/>
            <a:ln w="76320">
              <a:solidFill>
                <a:srgbClr val="66ff33"/>
              </a:solidFill>
              <a:round/>
            </a:ln>
          </p:spPr>
          <p:style>
            <a:lnRef idx="0"/>
            <a:fillRef idx="0"/>
            <a:effectRef idx="0"/>
            <a:fontRef idx="minor"/>
          </p:style>
          <p:txBody>
            <a:bodyPr lIns="90000" rIns="90000" tIns="19800" bIns="19800" anchor="t">
              <a:noAutofit/>
            </a:bodyPr>
            <a:p>
              <a:endParaRPr b="0" lang="en-US" sz="2400" spc="-1" strike="noStrike">
                <a:solidFill>
                  <a:srgbClr val="f8f8f8"/>
                </a:solidFill>
                <a:latin typeface="Times New Roman"/>
              </a:endParaRPr>
            </a:p>
          </p:txBody>
        </p:sp>
      </p:grpSp>
      <p:grpSp>
        <p:nvGrpSpPr>
          <p:cNvPr id="220" name=""/>
          <p:cNvGrpSpPr/>
          <p:nvPr/>
        </p:nvGrpSpPr>
        <p:grpSpPr>
          <a:xfrm>
            <a:off x="2984400" y="2933640"/>
            <a:ext cx="1487520" cy="1603440"/>
            <a:chOff x="2984400" y="2933640"/>
            <a:chExt cx="1487520" cy="1603440"/>
          </a:xfrm>
        </p:grpSpPr>
        <p:grpSp>
          <p:nvGrpSpPr>
            <p:cNvPr id="221" name=""/>
            <p:cNvGrpSpPr/>
            <p:nvPr/>
          </p:nvGrpSpPr>
          <p:grpSpPr>
            <a:xfrm>
              <a:off x="2984400" y="2933640"/>
              <a:ext cx="1487520" cy="1603440"/>
              <a:chOff x="2984400" y="2933640"/>
              <a:chExt cx="1487520" cy="1603440"/>
            </a:xfrm>
          </p:grpSpPr>
          <p:sp>
            <p:nvSpPr>
              <p:cNvPr id="222" name=""/>
              <p:cNvSpPr/>
              <p:nvPr/>
            </p:nvSpPr>
            <p:spPr>
              <a:xfrm>
                <a:off x="3009960" y="3073320"/>
                <a:ext cx="1415880" cy="1373400"/>
              </a:xfrm>
              <a:custGeom>
                <a:avLst/>
                <a:gdLst/>
                <a:ahLst/>
                <a:rect l="l" t="t" r="r" b="b"/>
                <a:pathLst>
                  <a:path w="892" h="865">
                    <a:moveTo>
                      <a:pt x="0" y="140"/>
                    </a:moveTo>
                    <a:cubicBezTo>
                      <a:pt x="37" y="135"/>
                      <a:pt x="85" y="137"/>
                      <a:pt x="120" y="120"/>
                    </a:cubicBezTo>
                    <a:cubicBezTo>
                      <a:pt x="142" y="109"/>
                      <a:pt x="142" y="90"/>
                      <a:pt x="156" y="76"/>
                    </a:cubicBezTo>
                    <a:cubicBezTo>
                      <a:pt x="185" y="47"/>
                      <a:pt x="235" y="51"/>
                      <a:pt x="272" y="44"/>
                    </a:cubicBezTo>
                    <a:cubicBezTo>
                      <a:pt x="327" y="8"/>
                      <a:pt x="392" y="15"/>
                      <a:pt x="456" y="12"/>
                    </a:cubicBezTo>
                    <a:cubicBezTo>
                      <a:pt x="531" y="0"/>
                      <a:pt x="590" y="32"/>
                      <a:pt x="660" y="48"/>
                    </a:cubicBezTo>
                    <a:cubicBezTo>
                      <a:pt x="697" y="56"/>
                      <a:pt x="735" y="58"/>
                      <a:pt x="772" y="60"/>
                    </a:cubicBezTo>
                    <a:cubicBezTo>
                      <a:pt x="806" y="69"/>
                      <a:pt x="839" y="84"/>
                      <a:pt x="872" y="92"/>
                    </a:cubicBezTo>
                    <a:cubicBezTo>
                      <a:pt x="879" y="99"/>
                      <a:pt x="892" y="104"/>
                      <a:pt x="880" y="116"/>
                    </a:cubicBezTo>
                    <a:cubicBezTo>
                      <a:pt x="878" y="118"/>
                      <a:pt x="852" y="124"/>
                      <a:pt x="852" y="124"/>
                    </a:cubicBezTo>
                    <a:cubicBezTo>
                      <a:pt x="829" y="131"/>
                      <a:pt x="803" y="136"/>
                      <a:pt x="784" y="152"/>
                    </a:cubicBezTo>
                    <a:cubicBezTo>
                      <a:pt x="761" y="171"/>
                      <a:pt x="744" y="202"/>
                      <a:pt x="724" y="224"/>
                    </a:cubicBezTo>
                    <a:cubicBezTo>
                      <a:pt x="716" y="232"/>
                      <a:pt x="708" y="240"/>
                      <a:pt x="700" y="248"/>
                    </a:cubicBezTo>
                    <a:cubicBezTo>
                      <a:pt x="693" y="255"/>
                      <a:pt x="676" y="264"/>
                      <a:pt x="676" y="264"/>
                    </a:cubicBezTo>
                    <a:cubicBezTo>
                      <a:pt x="657" y="293"/>
                      <a:pt x="636" y="340"/>
                      <a:pt x="600" y="352"/>
                    </a:cubicBezTo>
                    <a:cubicBezTo>
                      <a:pt x="578" y="374"/>
                      <a:pt x="558" y="400"/>
                      <a:pt x="544" y="428"/>
                    </a:cubicBezTo>
                    <a:cubicBezTo>
                      <a:pt x="538" y="440"/>
                      <a:pt x="524" y="464"/>
                      <a:pt x="524" y="464"/>
                    </a:cubicBezTo>
                    <a:cubicBezTo>
                      <a:pt x="512" y="512"/>
                      <a:pt x="492" y="549"/>
                      <a:pt x="468" y="592"/>
                    </a:cubicBezTo>
                    <a:cubicBezTo>
                      <a:pt x="459" y="608"/>
                      <a:pt x="459" y="612"/>
                      <a:pt x="452" y="632"/>
                    </a:cubicBezTo>
                    <a:cubicBezTo>
                      <a:pt x="449" y="640"/>
                      <a:pt x="444" y="656"/>
                      <a:pt x="444" y="656"/>
                    </a:cubicBezTo>
                    <a:cubicBezTo>
                      <a:pt x="441" y="688"/>
                      <a:pt x="440" y="724"/>
                      <a:pt x="416" y="748"/>
                    </a:cubicBezTo>
                    <a:cubicBezTo>
                      <a:pt x="410" y="766"/>
                      <a:pt x="401" y="781"/>
                      <a:pt x="396" y="800"/>
                    </a:cubicBezTo>
                    <a:cubicBezTo>
                      <a:pt x="395" y="817"/>
                      <a:pt x="394" y="835"/>
                      <a:pt x="392" y="852"/>
                    </a:cubicBezTo>
                    <a:cubicBezTo>
                      <a:pt x="391" y="856"/>
                      <a:pt x="392" y="865"/>
                      <a:pt x="388" y="864"/>
                    </a:cubicBezTo>
                    <a:cubicBezTo>
                      <a:pt x="382" y="862"/>
                      <a:pt x="380" y="853"/>
                      <a:pt x="376" y="848"/>
                    </a:cubicBezTo>
                    <a:cubicBezTo>
                      <a:pt x="355" y="824"/>
                      <a:pt x="338" y="770"/>
                      <a:pt x="308" y="760"/>
                    </a:cubicBezTo>
                    <a:cubicBezTo>
                      <a:pt x="278" y="770"/>
                      <a:pt x="258" y="729"/>
                      <a:pt x="244" y="708"/>
                    </a:cubicBezTo>
                    <a:cubicBezTo>
                      <a:pt x="235" y="695"/>
                      <a:pt x="225" y="684"/>
                      <a:pt x="216" y="672"/>
                    </a:cubicBezTo>
                    <a:cubicBezTo>
                      <a:pt x="199" y="648"/>
                      <a:pt x="190" y="624"/>
                      <a:pt x="172" y="600"/>
                    </a:cubicBezTo>
                    <a:cubicBezTo>
                      <a:pt x="153" y="575"/>
                      <a:pt x="172" y="594"/>
                      <a:pt x="160" y="572"/>
                    </a:cubicBezTo>
                    <a:cubicBezTo>
                      <a:pt x="148" y="550"/>
                      <a:pt x="134" y="526"/>
                      <a:pt x="116" y="508"/>
                    </a:cubicBezTo>
                    <a:cubicBezTo>
                      <a:pt x="108" y="470"/>
                      <a:pt x="95" y="427"/>
                      <a:pt x="72" y="396"/>
                    </a:cubicBezTo>
                    <a:cubicBezTo>
                      <a:pt x="62" y="365"/>
                      <a:pt x="45" y="342"/>
                      <a:pt x="32" y="312"/>
                    </a:cubicBezTo>
                    <a:cubicBezTo>
                      <a:pt x="26" y="298"/>
                      <a:pt x="20" y="268"/>
                      <a:pt x="20" y="268"/>
                    </a:cubicBezTo>
                    <a:cubicBezTo>
                      <a:pt x="21" y="241"/>
                      <a:pt x="16" y="213"/>
                      <a:pt x="24" y="188"/>
                    </a:cubicBezTo>
                    <a:cubicBezTo>
                      <a:pt x="28" y="176"/>
                      <a:pt x="48" y="180"/>
                      <a:pt x="60" y="176"/>
                    </a:cubicBezTo>
                    <a:cubicBezTo>
                      <a:pt x="94" y="165"/>
                      <a:pt x="127" y="151"/>
                      <a:pt x="160" y="140"/>
                    </a:cubicBezTo>
                    <a:cubicBezTo>
                      <a:pt x="171" y="129"/>
                      <a:pt x="178" y="113"/>
                      <a:pt x="192" y="104"/>
                    </a:cubicBezTo>
                    <a:cubicBezTo>
                      <a:pt x="226" y="83"/>
                      <a:pt x="276" y="82"/>
                      <a:pt x="312" y="80"/>
                    </a:cubicBezTo>
                    <a:cubicBezTo>
                      <a:pt x="347" y="71"/>
                      <a:pt x="380" y="60"/>
                      <a:pt x="416" y="56"/>
                    </a:cubicBezTo>
                    <a:cubicBezTo>
                      <a:pt x="483" y="59"/>
                      <a:pt x="550" y="58"/>
                      <a:pt x="616" y="64"/>
                    </a:cubicBezTo>
                    <a:cubicBezTo>
                      <a:pt x="625" y="65"/>
                      <a:pt x="639" y="80"/>
                      <a:pt x="648" y="84"/>
                    </a:cubicBezTo>
                    <a:cubicBezTo>
                      <a:pt x="679" y="97"/>
                      <a:pt x="715" y="90"/>
                      <a:pt x="748" y="92"/>
                    </a:cubicBezTo>
                    <a:cubicBezTo>
                      <a:pt x="771" y="96"/>
                      <a:pt x="789" y="99"/>
                      <a:pt x="808" y="112"/>
                    </a:cubicBezTo>
                    <a:cubicBezTo>
                      <a:pt x="747" y="113"/>
                      <a:pt x="685" y="108"/>
                      <a:pt x="624" y="116"/>
                    </a:cubicBezTo>
                    <a:cubicBezTo>
                      <a:pt x="617" y="117"/>
                      <a:pt x="624" y="131"/>
                      <a:pt x="628" y="136"/>
                    </a:cubicBezTo>
                    <a:cubicBezTo>
                      <a:pt x="634" y="143"/>
                      <a:pt x="647" y="141"/>
                      <a:pt x="656" y="144"/>
                    </a:cubicBezTo>
                    <a:cubicBezTo>
                      <a:pt x="667" y="160"/>
                      <a:pt x="674" y="159"/>
                      <a:pt x="692" y="164"/>
                    </a:cubicBezTo>
                    <a:cubicBezTo>
                      <a:pt x="724" y="148"/>
                      <a:pt x="708" y="155"/>
                      <a:pt x="740" y="144"/>
                    </a:cubicBezTo>
                    <a:cubicBezTo>
                      <a:pt x="744" y="143"/>
                      <a:pt x="732" y="147"/>
                      <a:pt x="728" y="148"/>
                    </a:cubicBezTo>
                    <a:cubicBezTo>
                      <a:pt x="724" y="149"/>
                      <a:pt x="720" y="151"/>
                      <a:pt x="716" y="152"/>
                    </a:cubicBezTo>
                    <a:cubicBezTo>
                      <a:pt x="698" y="158"/>
                      <a:pt x="687" y="174"/>
                      <a:pt x="672" y="184"/>
                    </a:cubicBezTo>
                    <a:cubicBezTo>
                      <a:pt x="664" y="196"/>
                      <a:pt x="656" y="208"/>
                      <a:pt x="648" y="220"/>
                    </a:cubicBezTo>
                    <a:cubicBezTo>
                      <a:pt x="642" y="228"/>
                      <a:pt x="642" y="240"/>
                      <a:pt x="636" y="248"/>
                    </a:cubicBezTo>
                    <a:cubicBezTo>
                      <a:pt x="626" y="261"/>
                      <a:pt x="600" y="280"/>
                      <a:pt x="600" y="280"/>
                    </a:cubicBezTo>
                    <a:cubicBezTo>
                      <a:pt x="593" y="300"/>
                      <a:pt x="585" y="313"/>
                      <a:pt x="568" y="324"/>
                    </a:cubicBezTo>
                    <a:cubicBezTo>
                      <a:pt x="559" y="338"/>
                      <a:pt x="548" y="344"/>
                      <a:pt x="536" y="356"/>
                    </a:cubicBezTo>
                    <a:cubicBezTo>
                      <a:pt x="531" y="372"/>
                      <a:pt x="524" y="380"/>
                      <a:pt x="512" y="392"/>
                    </a:cubicBezTo>
                    <a:cubicBezTo>
                      <a:pt x="503" y="419"/>
                      <a:pt x="473" y="437"/>
                      <a:pt x="464" y="464"/>
                    </a:cubicBezTo>
                    <a:cubicBezTo>
                      <a:pt x="451" y="504"/>
                      <a:pt x="471" y="442"/>
                      <a:pt x="456" y="492"/>
                    </a:cubicBezTo>
                    <a:cubicBezTo>
                      <a:pt x="454" y="500"/>
                      <a:pt x="448" y="516"/>
                      <a:pt x="448" y="516"/>
                    </a:cubicBezTo>
                    <a:cubicBezTo>
                      <a:pt x="448" y="523"/>
                      <a:pt x="450" y="569"/>
                      <a:pt x="440" y="588"/>
                    </a:cubicBezTo>
                    <a:cubicBezTo>
                      <a:pt x="424" y="619"/>
                      <a:pt x="441" y="580"/>
                      <a:pt x="420" y="612"/>
                    </a:cubicBezTo>
                    <a:cubicBezTo>
                      <a:pt x="401" y="641"/>
                      <a:pt x="388" y="674"/>
                      <a:pt x="380" y="708"/>
                    </a:cubicBezTo>
                    <a:cubicBezTo>
                      <a:pt x="377" y="739"/>
                      <a:pt x="383" y="770"/>
                      <a:pt x="356" y="788"/>
                    </a:cubicBezTo>
                    <a:cubicBezTo>
                      <a:pt x="345" y="771"/>
                      <a:pt x="347" y="746"/>
                      <a:pt x="336" y="732"/>
                    </a:cubicBezTo>
                    <a:cubicBezTo>
                      <a:pt x="333" y="728"/>
                      <a:pt x="328" y="727"/>
                      <a:pt x="324" y="724"/>
                    </a:cubicBezTo>
                    <a:cubicBezTo>
                      <a:pt x="320" y="720"/>
                      <a:pt x="315" y="716"/>
                      <a:pt x="312" y="712"/>
                    </a:cubicBezTo>
                    <a:cubicBezTo>
                      <a:pt x="297" y="693"/>
                      <a:pt x="274" y="669"/>
                      <a:pt x="264" y="648"/>
                    </a:cubicBezTo>
                    <a:cubicBezTo>
                      <a:pt x="249" y="619"/>
                      <a:pt x="222" y="558"/>
                      <a:pt x="200" y="536"/>
                    </a:cubicBezTo>
                    <a:cubicBezTo>
                      <a:pt x="171" y="507"/>
                      <a:pt x="146" y="468"/>
                      <a:pt x="128" y="432"/>
                    </a:cubicBezTo>
                    <a:cubicBezTo>
                      <a:pt x="107" y="390"/>
                      <a:pt x="123" y="309"/>
                      <a:pt x="96" y="276"/>
                    </a:cubicBezTo>
                    <a:cubicBezTo>
                      <a:pt x="87" y="264"/>
                      <a:pt x="73" y="258"/>
                      <a:pt x="64" y="244"/>
                    </a:cubicBezTo>
                    <a:cubicBezTo>
                      <a:pt x="63" y="239"/>
                      <a:pt x="59" y="233"/>
                      <a:pt x="60" y="228"/>
                    </a:cubicBezTo>
                    <a:cubicBezTo>
                      <a:pt x="62" y="212"/>
                      <a:pt x="82" y="211"/>
                      <a:pt x="92" y="208"/>
                    </a:cubicBezTo>
                    <a:cubicBezTo>
                      <a:pt x="116" y="200"/>
                      <a:pt x="143" y="196"/>
                      <a:pt x="168" y="192"/>
                    </a:cubicBezTo>
                    <a:cubicBezTo>
                      <a:pt x="191" y="176"/>
                      <a:pt x="199" y="157"/>
                      <a:pt x="220" y="140"/>
                    </a:cubicBezTo>
                    <a:cubicBezTo>
                      <a:pt x="238" y="126"/>
                      <a:pt x="309" y="127"/>
                      <a:pt x="332" y="124"/>
                    </a:cubicBezTo>
                    <a:cubicBezTo>
                      <a:pt x="376" y="109"/>
                      <a:pt x="403" y="100"/>
                      <a:pt x="452" y="96"/>
                    </a:cubicBezTo>
                    <a:cubicBezTo>
                      <a:pt x="479" y="89"/>
                      <a:pt x="505" y="83"/>
                      <a:pt x="532" y="80"/>
                    </a:cubicBezTo>
                    <a:cubicBezTo>
                      <a:pt x="569" y="84"/>
                      <a:pt x="568" y="87"/>
                      <a:pt x="596" y="96"/>
                    </a:cubicBezTo>
                    <a:cubicBezTo>
                      <a:pt x="606" y="126"/>
                      <a:pt x="628" y="117"/>
                      <a:pt x="660" y="120"/>
                    </a:cubicBezTo>
                    <a:cubicBezTo>
                      <a:pt x="664" y="124"/>
                      <a:pt x="672" y="126"/>
                      <a:pt x="672" y="132"/>
                    </a:cubicBezTo>
                    <a:cubicBezTo>
                      <a:pt x="672" y="141"/>
                      <a:pt x="632" y="159"/>
                      <a:pt x="624" y="164"/>
                    </a:cubicBezTo>
                    <a:cubicBezTo>
                      <a:pt x="608" y="188"/>
                      <a:pt x="593" y="201"/>
                      <a:pt x="576" y="224"/>
                    </a:cubicBezTo>
                    <a:cubicBezTo>
                      <a:pt x="568" y="235"/>
                      <a:pt x="560" y="245"/>
                      <a:pt x="552" y="256"/>
                    </a:cubicBezTo>
                    <a:cubicBezTo>
                      <a:pt x="546" y="264"/>
                      <a:pt x="536" y="280"/>
                      <a:pt x="536" y="280"/>
                    </a:cubicBezTo>
                    <a:cubicBezTo>
                      <a:pt x="534" y="297"/>
                      <a:pt x="534" y="330"/>
                      <a:pt x="520" y="344"/>
                    </a:cubicBezTo>
                    <a:cubicBezTo>
                      <a:pt x="496" y="368"/>
                      <a:pt x="474" y="374"/>
                      <a:pt x="452" y="404"/>
                    </a:cubicBezTo>
                    <a:cubicBezTo>
                      <a:pt x="436" y="427"/>
                      <a:pt x="432" y="457"/>
                      <a:pt x="416" y="480"/>
                    </a:cubicBezTo>
                    <a:cubicBezTo>
                      <a:pt x="410" y="511"/>
                      <a:pt x="414" y="493"/>
                      <a:pt x="404" y="532"/>
                    </a:cubicBezTo>
                    <a:cubicBezTo>
                      <a:pt x="399" y="552"/>
                      <a:pt x="381" y="571"/>
                      <a:pt x="376" y="592"/>
                    </a:cubicBezTo>
                    <a:cubicBezTo>
                      <a:pt x="367" y="627"/>
                      <a:pt x="359" y="675"/>
                      <a:pt x="320" y="688"/>
                    </a:cubicBezTo>
                    <a:cubicBezTo>
                      <a:pt x="290" y="676"/>
                      <a:pt x="283" y="653"/>
                      <a:pt x="272" y="624"/>
                    </a:cubicBezTo>
                    <a:cubicBezTo>
                      <a:pt x="269" y="602"/>
                      <a:pt x="268" y="573"/>
                      <a:pt x="260" y="552"/>
                    </a:cubicBezTo>
                    <a:cubicBezTo>
                      <a:pt x="251" y="527"/>
                      <a:pt x="219" y="517"/>
                      <a:pt x="208" y="492"/>
                    </a:cubicBezTo>
                    <a:cubicBezTo>
                      <a:pt x="198" y="469"/>
                      <a:pt x="196" y="424"/>
                      <a:pt x="172" y="416"/>
                    </a:cubicBezTo>
                    <a:cubicBezTo>
                      <a:pt x="167" y="390"/>
                      <a:pt x="156" y="369"/>
                      <a:pt x="148" y="344"/>
                    </a:cubicBezTo>
                    <a:cubicBezTo>
                      <a:pt x="144" y="314"/>
                      <a:pt x="138" y="280"/>
                      <a:pt x="124" y="252"/>
                    </a:cubicBezTo>
                    <a:cubicBezTo>
                      <a:pt x="184" y="212"/>
                      <a:pt x="245" y="178"/>
                      <a:pt x="316" y="164"/>
                    </a:cubicBezTo>
                    <a:cubicBezTo>
                      <a:pt x="369" y="129"/>
                      <a:pt x="420" y="142"/>
                      <a:pt x="488" y="140"/>
                    </a:cubicBezTo>
                    <a:cubicBezTo>
                      <a:pt x="518" y="136"/>
                      <a:pt x="545" y="131"/>
                      <a:pt x="576" y="136"/>
                    </a:cubicBezTo>
                    <a:cubicBezTo>
                      <a:pt x="612" y="163"/>
                      <a:pt x="597" y="153"/>
                      <a:pt x="620" y="168"/>
                    </a:cubicBezTo>
                    <a:cubicBezTo>
                      <a:pt x="587" y="179"/>
                      <a:pt x="545" y="211"/>
                      <a:pt x="520" y="236"/>
                    </a:cubicBezTo>
                    <a:cubicBezTo>
                      <a:pt x="504" y="252"/>
                      <a:pt x="493" y="281"/>
                      <a:pt x="480" y="300"/>
                    </a:cubicBezTo>
                    <a:cubicBezTo>
                      <a:pt x="464" y="324"/>
                      <a:pt x="436" y="340"/>
                      <a:pt x="424" y="368"/>
                    </a:cubicBezTo>
                    <a:cubicBezTo>
                      <a:pt x="409" y="401"/>
                      <a:pt x="414" y="440"/>
                      <a:pt x="400" y="472"/>
                    </a:cubicBezTo>
                    <a:cubicBezTo>
                      <a:pt x="393" y="489"/>
                      <a:pt x="369" y="507"/>
                      <a:pt x="356" y="520"/>
                    </a:cubicBezTo>
                    <a:cubicBezTo>
                      <a:pt x="347" y="547"/>
                      <a:pt x="336" y="573"/>
                      <a:pt x="328" y="600"/>
                    </a:cubicBezTo>
                    <a:cubicBezTo>
                      <a:pt x="322" y="621"/>
                      <a:pt x="324" y="633"/>
                      <a:pt x="304" y="640"/>
                    </a:cubicBezTo>
                    <a:cubicBezTo>
                      <a:pt x="252" y="627"/>
                      <a:pt x="313" y="559"/>
                      <a:pt x="272" y="532"/>
                    </a:cubicBezTo>
                    <a:cubicBezTo>
                      <a:pt x="262" y="518"/>
                      <a:pt x="250" y="506"/>
                      <a:pt x="240" y="492"/>
                    </a:cubicBezTo>
                    <a:cubicBezTo>
                      <a:pt x="232" y="481"/>
                      <a:pt x="232" y="466"/>
                      <a:pt x="224" y="456"/>
                    </a:cubicBezTo>
                    <a:cubicBezTo>
                      <a:pt x="205" y="432"/>
                      <a:pt x="213" y="443"/>
                      <a:pt x="200" y="424"/>
                    </a:cubicBezTo>
                    <a:cubicBezTo>
                      <a:pt x="195" y="405"/>
                      <a:pt x="190" y="386"/>
                      <a:pt x="184" y="368"/>
                    </a:cubicBezTo>
                    <a:cubicBezTo>
                      <a:pt x="182" y="333"/>
                      <a:pt x="186" y="308"/>
                      <a:pt x="168" y="280"/>
                    </a:cubicBezTo>
                    <a:cubicBezTo>
                      <a:pt x="246" y="231"/>
                      <a:pt x="332" y="195"/>
                      <a:pt x="424" y="180"/>
                    </a:cubicBezTo>
                    <a:cubicBezTo>
                      <a:pt x="461" y="184"/>
                      <a:pt x="499" y="183"/>
                      <a:pt x="536" y="192"/>
                    </a:cubicBezTo>
                    <a:cubicBezTo>
                      <a:pt x="542" y="193"/>
                      <a:pt x="528" y="200"/>
                      <a:pt x="524" y="204"/>
                    </a:cubicBezTo>
                    <a:cubicBezTo>
                      <a:pt x="511" y="215"/>
                      <a:pt x="506" y="215"/>
                      <a:pt x="496" y="228"/>
                    </a:cubicBezTo>
                    <a:cubicBezTo>
                      <a:pt x="473" y="257"/>
                      <a:pt x="451" y="287"/>
                      <a:pt x="420" y="308"/>
                    </a:cubicBezTo>
                    <a:cubicBezTo>
                      <a:pt x="404" y="332"/>
                      <a:pt x="377" y="356"/>
                      <a:pt x="368" y="384"/>
                    </a:cubicBezTo>
                    <a:cubicBezTo>
                      <a:pt x="360" y="408"/>
                      <a:pt x="347" y="444"/>
                      <a:pt x="332" y="464"/>
                    </a:cubicBezTo>
                    <a:cubicBezTo>
                      <a:pt x="318" y="483"/>
                      <a:pt x="307" y="502"/>
                      <a:pt x="300" y="524"/>
                    </a:cubicBezTo>
                    <a:cubicBezTo>
                      <a:pt x="292" y="503"/>
                      <a:pt x="282" y="486"/>
                      <a:pt x="268" y="468"/>
                    </a:cubicBezTo>
                    <a:cubicBezTo>
                      <a:pt x="264" y="454"/>
                      <a:pt x="248" y="428"/>
                      <a:pt x="248" y="428"/>
                    </a:cubicBezTo>
                    <a:cubicBezTo>
                      <a:pt x="240" y="395"/>
                      <a:pt x="226" y="366"/>
                      <a:pt x="220" y="332"/>
                    </a:cubicBezTo>
                    <a:cubicBezTo>
                      <a:pt x="227" y="305"/>
                      <a:pt x="252" y="288"/>
                      <a:pt x="276" y="276"/>
                    </a:cubicBezTo>
                    <a:cubicBezTo>
                      <a:pt x="303" y="262"/>
                      <a:pt x="343" y="233"/>
                      <a:pt x="372" y="228"/>
                    </a:cubicBezTo>
                    <a:cubicBezTo>
                      <a:pt x="391" y="225"/>
                      <a:pt x="409" y="223"/>
                      <a:pt x="428" y="220"/>
                    </a:cubicBezTo>
                    <a:cubicBezTo>
                      <a:pt x="465" y="235"/>
                      <a:pt x="443" y="233"/>
                      <a:pt x="424" y="256"/>
                    </a:cubicBezTo>
                    <a:cubicBezTo>
                      <a:pt x="417" y="264"/>
                      <a:pt x="403" y="297"/>
                      <a:pt x="392" y="304"/>
                    </a:cubicBezTo>
                    <a:cubicBezTo>
                      <a:pt x="380" y="312"/>
                      <a:pt x="350" y="325"/>
                      <a:pt x="340" y="336"/>
                    </a:cubicBezTo>
                    <a:cubicBezTo>
                      <a:pt x="305" y="375"/>
                      <a:pt x="325" y="355"/>
                      <a:pt x="308" y="384"/>
                    </a:cubicBezTo>
                    <a:cubicBezTo>
                      <a:pt x="303" y="392"/>
                      <a:pt x="292" y="408"/>
                      <a:pt x="292" y="408"/>
                    </a:cubicBezTo>
                    <a:cubicBezTo>
                      <a:pt x="291" y="421"/>
                      <a:pt x="301" y="448"/>
                      <a:pt x="288" y="448"/>
                    </a:cubicBezTo>
                    <a:cubicBezTo>
                      <a:pt x="265" y="448"/>
                      <a:pt x="245" y="383"/>
                      <a:pt x="240" y="364"/>
                    </a:cubicBezTo>
                    <a:cubicBezTo>
                      <a:pt x="241" y="357"/>
                      <a:pt x="240" y="350"/>
                      <a:pt x="244" y="344"/>
                    </a:cubicBezTo>
                    <a:cubicBezTo>
                      <a:pt x="255" y="327"/>
                      <a:pt x="319" y="301"/>
                      <a:pt x="336" y="292"/>
                    </a:cubicBezTo>
                    <a:cubicBezTo>
                      <a:pt x="350" y="285"/>
                      <a:pt x="376" y="268"/>
                      <a:pt x="376" y="268"/>
                    </a:cubicBezTo>
                    <a:cubicBezTo>
                      <a:pt x="363" y="290"/>
                      <a:pt x="340" y="315"/>
                      <a:pt x="320" y="332"/>
                    </a:cubicBezTo>
                    <a:cubicBezTo>
                      <a:pt x="301" y="348"/>
                      <a:pt x="280" y="353"/>
                      <a:pt x="268" y="376"/>
                    </a:cubicBezTo>
                  </a:path>
                </a:pathLst>
              </a:custGeom>
              <a:noFill/>
              <a:ln w="7632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23" name=""/>
              <p:cNvSpPr/>
              <p:nvPr/>
            </p:nvSpPr>
            <p:spPr>
              <a:xfrm>
                <a:off x="2984400" y="2933640"/>
                <a:ext cx="1487520" cy="1603440"/>
              </a:xfrm>
              <a:custGeom>
                <a:avLst/>
                <a:gdLst/>
                <a:ahLst/>
                <a:rect l="l" t="t" r="r" b="b"/>
                <a:pathLst>
                  <a:path w="937" h="1010">
                    <a:moveTo>
                      <a:pt x="9" y="231"/>
                    </a:moveTo>
                    <a:cubicBezTo>
                      <a:pt x="23" y="210"/>
                      <a:pt x="46" y="207"/>
                      <a:pt x="69" y="199"/>
                    </a:cubicBezTo>
                    <a:cubicBezTo>
                      <a:pt x="77" y="196"/>
                      <a:pt x="85" y="194"/>
                      <a:pt x="93" y="191"/>
                    </a:cubicBezTo>
                    <a:cubicBezTo>
                      <a:pt x="97" y="190"/>
                      <a:pt x="105" y="187"/>
                      <a:pt x="105" y="187"/>
                    </a:cubicBezTo>
                    <a:cubicBezTo>
                      <a:pt x="142" y="159"/>
                      <a:pt x="200" y="151"/>
                      <a:pt x="245" y="143"/>
                    </a:cubicBezTo>
                    <a:cubicBezTo>
                      <a:pt x="260" y="135"/>
                      <a:pt x="274" y="127"/>
                      <a:pt x="289" y="119"/>
                    </a:cubicBezTo>
                    <a:cubicBezTo>
                      <a:pt x="368" y="0"/>
                      <a:pt x="516" y="89"/>
                      <a:pt x="685" y="87"/>
                    </a:cubicBezTo>
                    <a:cubicBezTo>
                      <a:pt x="701" y="89"/>
                      <a:pt x="721" y="85"/>
                      <a:pt x="733" y="95"/>
                    </a:cubicBezTo>
                    <a:cubicBezTo>
                      <a:pt x="749" y="109"/>
                      <a:pt x="761" y="129"/>
                      <a:pt x="781" y="139"/>
                    </a:cubicBezTo>
                    <a:cubicBezTo>
                      <a:pt x="828" y="163"/>
                      <a:pt x="887" y="166"/>
                      <a:pt x="937" y="183"/>
                    </a:cubicBezTo>
                    <a:cubicBezTo>
                      <a:pt x="925" y="219"/>
                      <a:pt x="856" y="250"/>
                      <a:pt x="825" y="271"/>
                    </a:cubicBezTo>
                    <a:cubicBezTo>
                      <a:pt x="812" y="279"/>
                      <a:pt x="802" y="291"/>
                      <a:pt x="789" y="299"/>
                    </a:cubicBezTo>
                    <a:cubicBezTo>
                      <a:pt x="782" y="304"/>
                      <a:pt x="765" y="307"/>
                      <a:pt x="765" y="307"/>
                    </a:cubicBezTo>
                    <a:cubicBezTo>
                      <a:pt x="748" y="324"/>
                      <a:pt x="731" y="321"/>
                      <a:pt x="713" y="339"/>
                    </a:cubicBezTo>
                    <a:cubicBezTo>
                      <a:pt x="680" y="372"/>
                      <a:pt x="661" y="406"/>
                      <a:pt x="633" y="443"/>
                    </a:cubicBezTo>
                    <a:cubicBezTo>
                      <a:pt x="630" y="453"/>
                      <a:pt x="618" y="506"/>
                      <a:pt x="613" y="511"/>
                    </a:cubicBezTo>
                    <a:cubicBezTo>
                      <a:pt x="607" y="518"/>
                      <a:pt x="589" y="527"/>
                      <a:pt x="589" y="527"/>
                    </a:cubicBezTo>
                    <a:cubicBezTo>
                      <a:pt x="577" y="552"/>
                      <a:pt x="595" y="575"/>
                      <a:pt x="581" y="595"/>
                    </a:cubicBezTo>
                    <a:cubicBezTo>
                      <a:pt x="576" y="602"/>
                      <a:pt x="557" y="603"/>
                      <a:pt x="557" y="603"/>
                    </a:cubicBezTo>
                    <a:cubicBezTo>
                      <a:pt x="540" y="629"/>
                      <a:pt x="533" y="663"/>
                      <a:pt x="521" y="691"/>
                    </a:cubicBezTo>
                    <a:cubicBezTo>
                      <a:pt x="513" y="710"/>
                      <a:pt x="501" y="730"/>
                      <a:pt x="497" y="751"/>
                    </a:cubicBezTo>
                    <a:cubicBezTo>
                      <a:pt x="492" y="781"/>
                      <a:pt x="486" y="837"/>
                      <a:pt x="473" y="863"/>
                    </a:cubicBezTo>
                    <a:cubicBezTo>
                      <a:pt x="454" y="900"/>
                      <a:pt x="445" y="917"/>
                      <a:pt x="437" y="959"/>
                    </a:cubicBezTo>
                    <a:cubicBezTo>
                      <a:pt x="436" y="974"/>
                      <a:pt x="442" y="992"/>
                      <a:pt x="433" y="1003"/>
                    </a:cubicBezTo>
                    <a:cubicBezTo>
                      <a:pt x="427" y="1010"/>
                      <a:pt x="413" y="1003"/>
                      <a:pt x="405" y="999"/>
                    </a:cubicBezTo>
                    <a:cubicBezTo>
                      <a:pt x="386" y="989"/>
                      <a:pt x="379" y="934"/>
                      <a:pt x="373" y="931"/>
                    </a:cubicBezTo>
                    <a:cubicBezTo>
                      <a:pt x="365" y="927"/>
                      <a:pt x="354" y="928"/>
                      <a:pt x="345" y="927"/>
                    </a:cubicBezTo>
                    <a:cubicBezTo>
                      <a:pt x="318" y="900"/>
                      <a:pt x="330" y="909"/>
                      <a:pt x="309" y="895"/>
                    </a:cubicBezTo>
                    <a:cubicBezTo>
                      <a:pt x="298" y="879"/>
                      <a:pt x="276" y="824"/>
                      <a:pt x="265" y="815"/>
                    </a:cubicBezTo>
                    <a:cubicBezTo>
                      <a:pt x="255" y="807"/>
                      <a:pt x="237" y="809"/>
                      <a:pt x="225" y="803"/>
                    </a:cubicBezTo>
                    <a:cubicBezTo>
                      <a:pt x="217" y="798"/>
                      <a:pt x="201" y="787"/>
                      <a:pt x="201" y="787"/>
                    </a:cubicBezTo>
                    <a:cubicBezTo>
                      <a:pt x="190" y="771"/>
                      <a:pt x="180" y="755"/>
                      <a:pt x="169" y="739"/>
                    </a:cubicBezTo>
                    <a:cubicBezTo>
                      <a:pt x="157" y="721"/>
                      <a:pt x="165" y="693"/>
                      <a:pt x="153" y="675"/>
                    </a:cubicBezTo>
                    <a:cubicBezTo>
                      <a:pt x="145" y="663"/>
                      <a:pt x="121" y="647"/>
                      <a:pt x="121" y="647"/>
                    </a:cubicBezTo>
                    <a:cubicBezTo>
                      <a:pt x="113" y="630"/>
                      <a:pt x="107" y="613"/>
                      <a:pt x="101" y="595"/>
                    </a:cubicBezTo>
                    <a:cubicBezTo>
                      <a:pt x="98" y="585"/>
                      <a:pt x="87" y="580"/>
                      <a:pt x="81" y="571"/>
                    </a:cubicBezTo>
                    <a:cubicBezTo>
                      <a:pt x="74" y="544"/>
                      <a:pt x="79" y="512"/>
                      <a:pt x="65" y="487"/>
                    </a:cubicBezTo>
                    <a:cubicBezTo>
                      <a:pt x="55" y="469"/>
                      <a:pt x="43" y="458"/>
                      <a:pt x="37" y="439"/>
                    </a:cubicBezTo>
                    <a:cubicBezTo>
                      <a:pt x="34" y="401"/>
                      <a:pt x="33" y="386"/>
                      <a:pt x="25" y="355"/>
                    </a:cubicBezTo>
                    <a:cubicBezTo>
                      <a:pt x="14" y="310"/>
                      <a:pt x="30" y="362"/>
                      <a:pt x="13" y="311"/>
                    </a:cubicBezTo>
                    <a:cubicBezTo>
                      <a:pt x="12" y="307"/>
                      <a:pt x="8" y="295"/>
                      <a:pt x="9" y="299"/>
                    </a:cubicBezTo>
                    <a:cubicBezTo>
                      <a:pt x="26" y="365"/>
                      <a:pt x="89" y="387"/>
                      <a:pt x="109" y="447"/>
                    </a:cubicBezTo>
                    <a:cubicBezTo>
                      <a:pt x="108" y="458"/>
                      <a:pt x="108" y="489"/>
                      <a:pt x="105" y="479"/>
                    </a:cubicBezTo>
                    <a:cubicBezTo>
                      <a:pt x="99" y="461"/>
                      <a:pt x="103" y="442"/>
                      <a:pt x="101" y="423"/>
                    </a:cubicBezTo>
                    <a:cubicBezTo>
                      <a:pt x="98" y="396"/>
                      <a:pt x="90" y="369"/>
                      <a:pt x="81" y="343"/>
                    </a:cubicBezTo>
                    <a:cubicBezTo>
                      <a:pt x="77" y="294"/>
                      <a:pt x="83" y="298"/>
                      <a:pt x="45" y="283"/>
                    </a:cubicBezTo>
                    <a:cubicBezTo>
                      <a:pt x="79" y="260"/>
                      <a:pt x="110" y="225"/>
                      <a:pt x="133" y="191"/>
                    </a:cubicBezTo>
                    <a:cubicBezTo>
                      <a:pt x="137" y="185"/>
                      <a:pt x="125" y="202"/>
                      <a:pt x="121" y="207"/>
                    </a:cubicBezTo>
                    <a:cubicBezTo>
                      <a:pt x="116" y="213"/>
                      <a:pt x="110" y="217"/>
                      <a:pt x="105" y="223"/>
                    </a:cubicBezTo>
                    <a:cubicBezTo>
                      <a:pt x="92" y="239"/>
                      <a:pt x="73" y="261"/>
                      <a:pt x="61" y="279"/>
                    </a:cubicBezTo>
                    <a:cubicBezTo>
                      <a:pt x="60" y="284"/>
                      <a:pt x="59" y="290"/>
                      <a:pt x="57" y="295"/>
                    </a:cubicBezTo>
                    <a:cubicBezTo>
                      <a:pt x="57" y="295"/>
                      <a:pt x="47" y="325"/>
                      <a:pt x="45" y="331"/>
                    </a:cubicBezTo>
                    <a:cubicBezTo>
                      <a:pt x="43" y="337"/>
                      <a:pt x="35" y="348"/>
                      <a:pt x="41" y="351"/>
                    </a:cubicBezTo>
                    <a:cubicBezTo>
                      <a:pt x="49" y="355"/>
                      <a:pt x="74" y="325"/>
                      <a:pt x="77" y="323"/>
                    </a:cubicBezTo>
                    <a:cubicBezTo>
                      <a:pt x="109" y="299"/>
                      <a:pt x="154" y="278"/>
                      <a:pt x="177" y="243"/>
                    </a:cubicBezTo>
                    <a:cubicBezTo>
                      <a:pt x="187" y="228"/>
                      <a:pt x="191" y="212"/>
                      <a:pt x="197" y="195"/>
                    </a:cubicBezTo>
                    <a:cubicBezTo>
                      <a:pt x="201" y="182"/>
                      <a:pt x="220" y="172"/>
                      <a:pt x="217" y="171"/>
                    </a:cubicBezTo>
                    <a:cubicBezTo>
                      <a:pt x="211" y="168"/>
                      <a:pt x="204" y="176"/>
                      <a:pt x="197" y="179"/>
                    </a:cubicBezTo>
                    <a:cubicBezTo>
                      <a:pt x="183" y="193"/>
                      <a:pt x="162" y="208"/>
                      <a:pt x="149" y="223"/>
                    </a:cubicBezTo>
                    <a:cubicBezTo>
                      <a:pt x="133" y="242"/>
                      <a:pt x="123" y="265"/>
                      <a:pt x="105" y="283"/>
                    </a:cubicBezTo>
                    <a:cubicBezTo>
                      <a:pt x="69" y="319"/>
                      <a:pt x="32" y="349"/>
                      <a:pt x="9" y="395"/>
                    </a:cubicBezTo>
                    <a:cubicBezTo>
                      <a:pt x="8" y="402"/>
                      <a:pt x="0" y="410"/>
                      <a:pt x="5" y="415"/>
                    </a:cubicBezTo>
                    <a:cubicBezTo>
                      <a:pt x="9" y="419"/>
                      <a:pt x="17" y="411"/>
                      <a:pt x="21" y="407"/>
                    </a:cubicBezTo>
                    <a:cubicBezTo>
                      <a:pt x="28" y="400"/>
                      <a:pt x="32" y="391"/>
                      <a:pt x="37" y="383"/>
                    </a:cubicBezTo>
                    <a:cubicBezTo>
                      <a:pt x="54" y="357"/>
                      <a:pt x="108" y="336"/>
                      <a:pt x="129" y="315"/>
                    </a:cubicBezTo>
                    <a:cubicBezTo>
                      <a:pt x="140" y="304"/>
                      <a:pt x="165" y="287"/>
                      <a:pt x="165" y="287"/>
                    </a:cubicBezTo>
                    <a:cubicBezTo>
                      <a:pt x="195" y="242"/>
                      <a:pt x="250" y="216"/>
                      <a:pt x="285" y="175"/>
                    </a:cubicBezTo>
                    <a:cubicBezTo>
                      <a:pt x="295" y="163"/>
                      <a:pt x="303" y="151"/>
                      <a:pt x="313" y="139"/>
                    </a:cubicBezTo>
                    <a:cubicBezTo>
                      <a:pt x="317" y="135"/>
                      <a:pt x="321" y="131"/>
                      <a:pt x="325" y="127"/>
                    </a:cubicBezTo>
                    <a:cubicBezTo>
                      <a:pt x="328" y="123"/>
                      <a:pt x="337" y="112"/>
                      <a:pt x="333" y="115"/>
                    </a:cubicBezTo>
                    <a:cubicBezTo>
                      <a:pt x="294" y="148"/>
                      <a:pt x="278" y="191"/>
                      <a:pt x="245" y="227"/>
                    </a:cubicBezTo>
                    <a:cubicBezTo>
                      <a:pt x="231" y="242"/>
                      <a:pt x="216" y="256"/>
                      <a:pt x="201" y="271"/>
                    </a:cubicBezTo>
                    <a:cubicBezTo>
                      <a:pt x="175" y="297"/>
                      <a:pt x="120" y="317"/>
                      <a:pt x="101" y="343"/>
                    </a:cubicBezTo>
                    <a:cubicBezTo>
                      <a:pt x="83" y="366"/>
                      <a:pt x="68" y="381"/>
                      <a:pt x="61" y="411"/>
                    </a:cubicBezTo>
                    <a:cubicBezTo>
                      <a:pt x="58" y="422"/>
                      <a:pt x="56" y="433"/>
                      <a:pt x="53" y="443"/>
                    </a:cubicBezTo>
                    <a:cubicBezTo>
                      <a:pt x="52" y="447"/>
                      <a:pt x="45" y="455"/>
                      <a:pt x="49" y="455"/>
                    </a:cubicBezTo>
                    <a:cubicBezTo>
                      <a:pt x="59" y="455"/>
                      <a:pt x="68" y="447"/>
                      <a:pt x="77" y="443"/>
                    </a:cubicBezTo>
                    <a:cubicBezTo>
                      <a:pt x="117" y="393"/>
                      <a:pt x="162" y="370"/>
                      <a:pt x="205" y="327"/>
                    </a:cubicBezTo>
                    <a:cubicBezTo>
                      <a:pt x="230" y="302"/>
                      <a:pt x="252" y="269"/>
                      <a:pt x="281" y="247"/>
                    </a:cubicBezTo>
                    <a:cubicBezTo>
                      <a:pt x="312" y="223"/>
                      <a:pt x="338" y="198"/>
                      <a:pt x="361" y="167"/>
                    </a:cubicBezTo>
                    <a:cubicBezTo>
                      <a:pt x="382" y="105"/>
                      <a:pt x="358" y="169"/>
                      <a:pt x="377" y="131"/>
                    </a:cubicBezTo>
                    <a:cubicBezTo>
                      <a:pt x="379" y="127"/>
                      <a:pt x="385" y="117"/>
                      <a:pt x="381" y="119"/>
                    </a:cubicBezTo>
                    <a:cubicBezTo>
                      <a:pt x="374" y="124"/>
                      <a:pt x="371" y="133"/>
                      <a:pt x="365" y="139"/>
                    </a:cubicBezTo>
                    <a:cubicBezTo>
                      <a:pt x="339" y="168"/>
                      <a:pt x="318" y="198"/>
                      <a:pt x="293" y="227"/>
                    </a:cubicBezTo>
                    <a:cubicBezTo>
                      <a:pt x="266" y="259"/>
                      <a:pt x="238" y="294"/>
                      <a:pt x="209" y="323"/>
                    </a:cubicBezTo>
                    <a:cubicBezTo>
                      <a:pt x="198" y="334"/>
                      <a:pt x="180" y="340"/>
                      <a:pt x="169" y="351"/>
                    </a:cubicBezTo>
                    <a:cubicBezTo>
                      <a:pt x="136" y="384"/>
                      <a:pt x="117" y="427"/>
                      <a:pt x="85" y="459"/>
                    </a:cubicBezTo>
                    <a:cubicBezTo>
                      <a:pt x="82" y="468"/>
                      <a:pt x="71" y="494"/>
                      <a:pt x="85" y="499"/>
                    </a:cubicBezTo>
                    <a:cubicBezTo>
                      <a:pt x="93" y="502"/>
                      <a:pt x="95" y="485"/>
                      <a:pt x="101" y="479"/>
                    </a:cubicBezTo>
                    <a:cubicBezTo>
                      <a:pt x="115" y="466"/>
                      <a:pt x="130" y="455"/>
                      <a:pt x="145" y="443"/>
                    </a:cubicBezTo>
                    <a:cubicBezTo>
                      <a:pt x="170" y="423"/>
                      <a:pt x="187" y="401"/>
                      <a:pt x="209" y="379"/>
                    </a:cubicBezTo>
                    <a:cubicBezTo>
                      <a:pt x="240" y="348"/>
                      <a:pt x="283" y="328"/>
                      <a:pt x="317" y="299"/>
                    </a:cubicBezTo>
                    <a:cubicBezTo>
                      <a:pt x="333" y="285"/>
                      <a:pt x="339" y="269"/>
                      <a:pt x="353" y="255"/>
                    </a:cubicBezTo>
                    <a:cubicBezTo>
                      <a:pt x="359" y="238"/>
                      <a:pt x="368" y="228"/>
                      <a:pt x="381" y="215"/>
                    </a:cubicBezTo>
                    <a:cubicBezTo>
                      <a:pt x="390" y="187"/>
                      <a:pt x="424" y="152"/>
                      <a:pt x="449" y="135"/>
                    </a:cubicBezTo>
                    <a:cubicBezTo>
                      <a:pt x="452" y="127"/>
                      <a:pt x="454" y="119"/>
                      <a:pt x="457" y="111"/>
                    </a:cubicBezTo>
                    <a:cubicBezTo>
                      <a:pt x="459" y="106"/>
                      <a:pt x="449" y="119"/>
                      <a:pt x="445" y="123"/>
                    </a:cubicBezTo>
                    <a:cubicBezTo>
                      <a:pt x="438" y="131"/>
                      <a:pt x="432" y="139"/>
                      <a:pt x="425" y="147"/>
                    </a:cubicBezTo>
                    <a:cubicBezTo>
                      <a:pt x="394" y="180"/>
                      <a:pt x="372" y="216"/>
                      <a:pt x="349" y="255"/>
                    </a:cubicBezTo>
                    <a:cubicBezTo>
                      <a:pt x="310" y="323"/>
                      <a:pt x="238" y="350"/>
                      <a:pt x="189" y="411"/>
                    </a:cubicBezTo>
                    <a:cubicBezTo>
                      <a:pt x="146" y="465"/>
                      <a:pt x="167" y="514"/>
                      <a:pt x="93" y="539"/>
                    </a:cubicBezTo>
                    <a:cubicBezTo>
                      <a:pt x="90" y="543"/>
                      <a:pt x="73" y="579"/>
                      <a:pt x="77" y="579"/>
                    </a:cubicBezTo>
                    <a:cubicBezTo>
                      <a:pt x="91" y="581"/>
                      <a:pt x="104" y="574"/>
                      <a:pt x="117" y="571"/>
                    </a:cubicBezTo>
                    <a:cubicBezTo>
                      <a:pt x="188" y="524"/>
                      <a:pt x="237" y="447"/>
                      <a:pt x="297" y="387"/>
                    </a:cubicBezTo>
                    <a:cubicBezTo>
                      <a:pt x="309" y="375"/>
                      <a:pt x="333" y="347"/>
                      <a:pt x="341" y="339"/>
                    </a:cubicBezTo>
                    <a:cubicBezTo>
                      <a:pt x="349" y="331"/>
                      <a:pt x="357" y="323"/>
                      <a:pt x="365" y="315"/>
                    </a:cubicBezTo>
                    <a:cubicBezTo>
                      <a:pt x="370" y="310"/>
                      <a:pt x="381" y="299"/>
                      <a:pt x="381" y="299"/>
                    </a:cubicBezTo>
                    <a:cubicBezTo>
                      <a:pt x="394" y="259"/>
                      <a:pt x="444" y="242"/>
                      <a:pt x="461" y="203"/>
                    </a:cubicBezTo>
                    <a:cubicBezTo>
                      <a:pt x="468" y="186"/>
                      <a:pt x="472" y="168"/>
                      <a:pt x="477" y="151"/>
                    </a:cubicBezTo>
                    <a:cubicBezTo>
                      <a:pt x="478" y="147"/>
                      <a:pt x="479" y="143"/>
                      <a:pt x="481" y="139"/>
                    </a:cubicBezTo>
                    <a:cubicBezTo>
                      <a:pt x="483" y="135"/>
                      <a:pt x="492" y="124"/>
                      <a:pt x="489" y="127"/>
                    </a:cubicBezTo>
                    <a:cubicBezTo>
                      <a:pt x="452" y="164"/>
                      <a:pt x="409" y="202"/>
                      <a:pt x="377" y="243"/>
                    </a:cubicBezTo>
                    <a:cubicBezTo>
                      <a:pt x="364" y="260"/>
                      <a:pt x="354" y="282"/>
                      <a:pt x="337" y="295"/>
                    </a:cubicBezTo>
                    <a:cubicBezTo>
                      <a:pt x="310" y="315"/>
                      <a:pt x="282" y="336"/>
                      <a:pt x="261" y="363"/>
                    </a:cubicBezTo>
                    <a:cubicBezTo>
                      <a:pt x="236" y="394"/>
                      <a:pt x="194" y="449"/>
                      <a:pt x="161" y="471"/>
                    </a:cubicBezTo>
                    <a:cubicBezTo>
                      <a:pt x="155" y="488"/>
                      <a:pt x="145" y="502"/>
                      <a:pt x="137" y="519"/>
                    </a:cubicBezTo>
                    <a:cubicBezTo>
                      <a:pt x="132" y="530"/>
                      <a:pt x="121" y="551"/>
                      <a:pt x="121" y="551"/>
                    </a:cubicBezTo>
                    <a:cubicBezTo>
                      <a:pt x="117" y="576"/>
                      <a:pt x="109" y="613"/>
                      <a:pt x="121" y="635"/>
                    </a:cubicBezTo>
                    <a:cubicBezTo>
                      <a:pt x="126" y="643"/>
                      <a:pt x="140" y="632"/>
                      <a:pt x="149" y="631"/>
                    </a:cubicBezTo>
                    <a:cubicBezTo>
                      <a:pt x="156" y="620"/>
                      <a:pt x="168" y="611"/>
                      <a:pt x="173" y="599"/>
                    </a:cubicBezTo>
                    <a:cubicBezTo>
                      <a:pt x="189" y="562"/>
                      <a:pt x="188" y="523"/>
                      <a:pt x="209" y="487"/>
                    </a:cubicBezTo>
                    <a:cubicBezTo>
                      <a:pt x="214" y="478"/>
                      <a:pt x="225" y="474"/>
                      <a:pt x="233" y="467"/>
                    </a:cubicBezTo>
                    <a:cubicBezTo>
                      <a:pt x="265" y="437"/>
                      <a:pt x="290" y="409"/>
                      <a:pt x="317" y="375"/>
                    </a:cubicBezTo>
                    <a:cubicBezTo>
                      <a:pt x="334" y="353"/>
                      <a:pt x="358" y="345"/>
                      <a:pt x="381" y="331"/>
                    </a:cubicBezTo>
                    <a:cubicBezTo>
                      <a:pt x="424" y="305"/>
                      <a:pt x="468" y="283"/>
                      <a:pt x="509" y="255"/>
                    </a:cubicBezTo>
                    <a:cubicBezTo>
                      <a:pt x="535" y="238"/>
                      <a:pt x="548" y="196"/>
                      <a:pt x="565" y="171"/>
                    </a:cubicBezTo>
                    <a:cubicBezTo>
                      <a:pt x="569" y="155"/>
                      <a:pt x="572" y="139"/>
                      <a:pt x="577" y="123"/>
                    </a:cubicBezTo>
                    <a:cubicBezTo>
                      <a:pt x="579" y="118"/>
                      <a:pt x="584" y="112"/>
                      <a:pt x="581" y="107"/>
                    </a:cubicBezTo>
                    <a:cubicBezTo>
                      <a:pt x="579" y="103"/>
                      <a:pt x="573" y="110"/>
                      <a:pt x="569" y="111"/>
                    </a:cubicBezTo>
                    <a:cubicBezTo>
                      <a:pt x="552" y="144"/>
                      <a:pt x="532" y="190"/>
                      <a:pt x="509" y="219"/>
                    </a:cubicBezTo>
                    <a:cubicBezTo>
                      <a:pt x="486" y="248"/>
                      <a:pt x="455" y="263"/>
                      <a:pt x="425" y="283"/>
                    </a:cubicBezTo>
                    <a:cubicBezTo>
                      <a:pt x="403" y="298"/>
                      <a:pt x="371" y="331"/>
                      <a:pt x="353" y="351"/>
                    </a:cubicBezTo>
                    <a:cubicBezTo>
                      <a:pt x="316" y="392"/>
                      <a:pt x="290" y="443"/>
                      <a:pt x="257" y="487"/>
                    </a:cubicBezTo>
                    <a:cubicBezTo>
                      <a:pt x="240" y="537"/>
                      <a:pt x="210" y="595"/>
                      <a:pt x="161" y="619"/>
                    </a:cubicBezTo>
                    <a:cubicBezTo>
                      <a:pt x="156" y="627"/>
                      <a:pt x="150" y="635"/>
                      <a:pt x="145" y="643"/>
                    </a:cubicBezTo>
                    <a:cubicBezTo>
                      <a:pt x="142" y="647"/>
                      <a:pt x="137" y="655"/>
                      <a:pt x="137" y="655"/>
                    </a:cubicBezTo>
                    <a:cubicBezTo>
                      <a:pt x="139" y="665"/>
                      <a:pt x="135" y="686"/>
                      <a:pt x="153" y="683"/>
                    </a:cubicBezTo>
                    <a:cubicBezTo>
                      <a:pt x="170" y="680"/>
                      <a:pt x="203" y="631"/>
                      <a:pt x="213" y="623"/>
                    </a:cubicBezTo>
                    <a:cubicBezTo>
                      <a:pt x="244" y="599"/>
                      <a:pt x="266" y="580"/>
                      <a:pt x="301" y="563"/>
                    </a:cubicBezTo>
                    <a:cubicBezTo>
                      <a:pt x="335" y="546"/>
                      <a:pt x="364" y="504"/>
                      <a:pt x="389" y="479"/>
                    </a:cubicBezTo>
                    <a:cubicBezTo>
                      <a:pt x="432" y="436"/>
                      <a:pt x="470" y="390"/>
                      <a:pt x="513" y="347"/>
                    </a:cubicBezTo>
                    <a:cubicBezTo>
                      <a:pt x="560" y="300"/>
                      <a:pt x="593" y="290"/>
                      <a:pt x="605" y="219"/>
                    </a:cubicBezTo>
                    <a:cubicBezTo>
                      <a:pt x="612" y="126"/>
                      <a:pt x="600" y="190"/>
                      <a:pt x="617" y="147"/>
                    </a:cubicBezTo>
                    <a:cubicBezTo>
                      <a:pt x="620" y="139"/>
                      <a:pt x="622" y="131"/>
                      <a:pt x="625" y="123"/>
                    </a:cubicBezTo>
                    <a:cubicBezTo>
                      <a:pt x="628" y="115"/>
                      <a:pt x="645" y="103"/>
                      <a:pt x="637" y="99"/>
                    </a:cubicBezTo>
                    <a:cubicBezTo>
                      <a:pt x="627" y="94"/>
                      <a:pt x="620" y="114"/>
                      <a:pt x="613" y="123"/>
                    </a:cubicBezTo>
                    <a:cubicBezTo>
                      <a:pt x="590" y="150"/>
                      <a:pt x="558" y="206"/>
                      <a:pt x="533" y="223"/>
                    </a:cubicBezTo>
                    <a:cubicBezTo>
                      <a:pt x="508" y="261"/>
                      <a:pt x="473" y="295"/>
                      <a:pt x="441" y="327"/>
                    </a:cubicBezTo>
                    <a:cubicBezTo>
                      <a:pt x="423" y="345"/>
                      <a:pt x="410" y="365"/>
                      <a:pt x="389" y="379"/>
                    </a:cubicBezTo>
                    <a:cubicBezTo>
                      <a:pt x="378" y="413"/>
                      <a:pt x="341" y="435"/>
                      <a:pt x="329" y="471"/>
                    </a:cubicBezTo>
                    <a:cubicBezTo>
                      <a:pt x="327" y="488"/>
                      <a:pt x="330" y="508"/>
                      <a:pt x="321" y="523"/>
                    </a:cubicBezTo>
                    <a:cubicBezTo>
                      <a:pt x="309" y="544"/>
                      <a:pt x="281" y="551"/>
                      <a:pt x="265" y="567"/>
                    </a:cubicBezTo>
                    <a:cubicBezTo>
                      <a:pt x="238" y="594"/>
                      <a:pt x="236" y="594"/>
                      <a:pt x="217" y="619"/>
                    </a:cubicBezTo>
                    <a:cubicBezTo>
                      <a:pt x="201" y="640"/>
                      <a:pt x="188" y="663"/>
                      <a:pt x="177" y="687"/>
                    </a:cubicBezTo>
                    <a:cubicBezTo>
                      <a:pt x="174" y="695"/>
                      <a:pt x="169" y="711"/>
                      <a:pt x="169" y="711"/>
                    </a:cubicBezTo>
                    <a:cubicBezTo>
                      <a:pt x="170" y="713"/>
                      <a:pt x="174" y="736"/>
                      <a:pt x="185" y="727"/>
                    </a:cubicBezTo>
                    <a:cubicBezTo>
                      <a:pt x="202" y="714"/>
                      <a:pt x="198" y="662"/>
                      <a:pt x="205" y="643"/>
                    </a:cubicBezTo>
                    <a:cubicBezTo>
                      <a:pt x="212" y="623"/>
                      <a:pt x="247" y="616"/>
                      <a:pt x="265" y="611"/>
                    </a:cubicBezTo>
                    <a:cubicBezTo>
                      <a:pt x="282" y="600"/>
                      <a:pt x="313" y="588"/>
                      <a:pt x="333" y="583"/>
                    </a:cubicBezTo>
                    <a:cubicBezTo>
                      <a:pt x="341" y="576"/>
                      <a:pt x="348" y="569"/>
                      <a:pt x="357" y="563"/>
                    </a:cubicBezTo>
                    <a:cubicBezTo>
                      <a:pt x="362" y="560"/>
                      <a:pt x="368" y="558"/>
                      <a:pt x="373" y="555"/>
                    </a:cubicBezTo>
                    <a:cubicBezTo>
                      <a:pt x="398" y="537"/>
                      <a:pt x="419" y="505"/>
                      <a:pt x="441" y="483"/>
                    </a:cubicBezTo>
                    <a:cubicBezTo>
                      <a:pt x="448" y="476"/>
                      <a:pt x="455" y="463"/>
                      <a:pt x="461" y="455"/>
                    </a:cubicBezTo>
                    <a:cubicBezTo>
                      <a:pt x="469" y="444"/>
                      <a:pt x="485" y="423"/>
                      <a:pt x="485" y="423"/>
                    </a:cubicBezTo>
                    <a:cubicBezTo>
                      <a:pt x="490" y="385"/>
                      <a:pt x="509" y="355"/>
                      <a:pt x="529" y="323"/>
                    </a:cubicBezTo>
                    <a:cubicBezTo>
                      <a:pt x="573" y="253"/>
                      <a:pt x="593" y="203"/>
                      <a:pt x="665" y="155"/>
                    </a:cubicBezTo>
                    <a:cubicBezTo>
                      <a:pt x="674" y="149"/>
                      <a:pt x="680" y="137"/>
                      <a:pt x="689" y="131"/>
                    </a:cubicBezTo>
                    <a:cubicBezTo>
                      <a:pt x="665" y="115"/>
                      <a:pt x="645" y="153"/>
                      <a:pt x="629" y="171"/>
                    </a:cubicBezTo>
                    <a:cubicBezTo>
                      <a:pt x="594" y="210"/>
                      <a:pt x="559" y="256"/>
                      <a:pt x="529" y="299"/>
                    </a:cubicBezTo>
                    <a:cubicBezTo>
                      <a:pt x="513" y="323"/>
                      <a:pt x="496" y="360"/>
                      <a:pt x="473" y="375"/>
                    </a:cubicBezTo>
                    <a:cubicBezTo>
                      <a:pt x="456" y="409"/>
                      <a:pt x="476" y="376"/>
                      <a:pt x="449" y="399"/>
                    </a:cubicBezTo>
                    <a:cubicBezTo>
                      <a:pt x="432" y="413"/>
                      <a:pt x="417" y="435"/>
                      <a:pt x="401" y="451"/>
                    </a:cubicBezTo>
                    <a:cubicBezTo>
                      <a:pt x="393" y="459"/>
                      <a:pt x="385" y="467"/>
                      <a:pt x="377" y="475"/>
                    </a:cubicBezTo>
                    <a:cubicBezTo>
                      <a:pt x="371" y="481"/>
                      <a:pt x="353" y="483"/>
                      <a:pt x="353" y="483"/>
                    </a:cubicBezTo>
                    <a:cubicBezTo>
                      <a:pt x="319" y="533"/>
                      <a:pt x="337" y="581"/>
                      <a:pt x="281" y="619"/>
                    </a:cubicBezTo>
                    <a:cubicBezTo>
                      <a:pt x="271" y="634"/>
                      <a:pt x="258" y="647"/>
                      <a:pt x="249" y="663"/>
                    </a:cubicBezTo>
                    <a:cubicBezTo>
                      <a:pt x="234" y="690"/>
                      <a:pt x="230" y="732"/>
                      <a:pt x="197" y="743"/>
                    </a:cubicBezTo>
                    <a:cubicBezTo>
                      <a:pt x="196" y="739"/>
                      <a:pt x="191" y="735"/>
                      <a:pt x="193" y="731"/>
                    </a:cubicBezTo>
                    <a:cubicBezTo>
                      <a:pt x="204" y="712"/>
                      <a:pt x="241" y="681"/>
                      <a:pt x="257" y="659"/>
                    </a:cubicBezTo>
                    <a:cubicBezTo>
                      <a:pt x="188" y="650"/>
                      <a:pt x="205" y="633"/>
                      <a:pt x="185" y="663"/>
                    </a:cubicBezTo>
                    <a:cubicBezTo>
                      <a:pt x="196" y="697"/>
                      <a:pt x="209" y="714"/>
                      <a:pt x="245" y="723"/>
                    </a:cubicBezTo>
                    <a:cubicBezTo>
                      <a:pt x="268" y="757"/>
                      <a:pt x="240" y="714"/>
                      <a:pt x="257" y="747"/>
                    </a:cubicBezTo>
                    <a:cubicBezTo>
                      <a:pt x="259" y="751"/>
                      <a:pt x="270" y="757"/>
                      <a:pt x="265" y="759"/>
                    </a:cubicBezTo>
                    <a:cubicBezTo>
                      <a:pt x="258" y="761"/>
                      <a:pt x="252" y="754"/>
                      <a:pt x="245" y="751"/>
                    </a:cubicBezTo>
                    <a:cubicBezTo>
                      <a:pt x="228" y="717"/>
                      <a:pt x="234" y="720"/>
                      <a:pt x="241" y="671"/>
                    </a:cubicBezTo>
                    <a:cubicBezTo>
                      <a:pt x="249" y="690"/>
                      <a:pt x="254" y="708"/>
                      <a:pt x="261" y="727"/>
                    </a:cubicBezTo>
                    <a:cubicBezTo>
                      <a:pt x="264" y="735"/>
                      <a:pt x="269" y="751"/>
                      <a:pt x="269" y="751"/>
                    </a:cubicBezTo>
                    <a:cubicBezTo>
                      <a:pt x="309" y="711"/>
                      <a:pt x="299" y="657"/>
                      <a:pt x="321" y="607"/>
                    </a:cubicBezTo>
                    <a:cubicBezTo>
                      <a:pt x="329" y="588"/>
                      <a:pt x="333" y="570"/>
                      <a:pt x="353" y="563"/>
                    </a:cubicBezTo>
                    <a:cubicBezTo>
                      <a:pt x="372" y="588"/>
                      <a:pt x="368" y="681"/>
                      <a:pt x="353" y="635"/>
                    </a:cubicBezTo>
                    <a:cubicBezTo>
                      <a:pt x="359" y="593"/>
                      <a:pt x="361" y="547"/>
                      <a:pt x="385" y="511"/>
                    </a:cubicBezTo>
                    <a:cubicBezTo>
                      <a:pt x="383" y="531"/>
                      <a:pt x="377" y="551"/>
                      <a:pt x="377" y="571"/>
                    </a:cubicBezTo>
                    <a:cubicBezTo>
                      <a:pt x="377" y="574"/>
                      <a:pt x="379" y="566"/>
                      <a:pt x="381" y="563"/>
                    </a:cubicBezTo>
                    <a:cubicBezTo>
                      <a:pt x="388" y="552"/>
                      <a:pt x="394" y="542"/>
                      <a:pt x="401" y="531"/>
                    </a:cubicBezTo>
                    <a:cubicBezTo>
                      <a:pt x="408" y="520"/>
                      <a:pt x="394" y="555"/>
                      <a:pt x="389" y="567"/>
                    </a:cubicBezTo>
                    <a:cubicBezTo>
                      <a:pt x="377" y="597"/>
                      <a:pt x="364" y="608"/>
                      <a:pt x="337" y="627"/>
                    </a:cubicBezTo>
                    <a:cubicBezTo>
                      <a:pt x="330" y="638"/>
                      <a:pt x="318" y="678"/>
                      <a:pt x="309" y="651"/>
                    </a:cubicBezTo>
                    <a:cubicBezTo>
                      <a:pt x="312" y="646"/>
                      <a:pt x="311" y="633"/>
                      <a:pt x="317" y="635"/>
                    </a:cubicBezTo>
                    <a:cubicBezTo>
                      <a:pt x="323" y="637"/>
                      <a:pt x="321" y="648"/>
                      <a:pt x="321" y="655"/>
                    </a:cubicBezTo>
                    <a:cubicBezTo>
                      <a:pt x="321" y="777"/>
                      <a:pt x="325" y="750"/>
                      <a:pt x="313" y="811"/>
                    </a:cubicBezTo>
                    <a:cubicBezTo>
                      <a:pt x="316" y="770"/>
                      <a:pt x="319" y="732"/>
                      <a:pt x="309" y="691"/>
                    </a:cubicBezTo>
                    <a:cubicBezTo>
                      <a:pt x="288" y="755"/>
                      <a:pt x="284" y="864"/>
                      <a:pt x="349" y="907"/>
                    </a:cubicBezTo>
                    <a:cubicBezTo>
                      <a:pt x="376" y="880"/>
                      <a:pt x="385" y="843"/>
                      <a:pt x="397" y="807"/>
                    </a:cubicBezTo>
                    <a:cubicBezTo>
                      <a:pt x="399" y="802"/>
                      <a:pt x="392" y="815"/>
                      <a:pt x="389" y="819"/>
                    </a:cubicBezTo>
                    <a:cubicBezTo>
                      <a:pt x="382" y="741"/>
                      <a:pt x="382" y="776"/>
                      <a:pt x="369" y="815"/>
                    </a:cubicBezTo>
                    <a:cubicBezTo>
                      <a:pt x="370" y="819"/>
                      <a:pt x="369" y="829"/>
                      <a:pt x="373" y="827"/>
                    </a:cubicBezTo>
                    <a:cubicBezTo>
                      <a:pt x="385" y="821"/>
                      <a:pt x="399" y="757"/>
                      <a:pt x="401" y="751"/>
                    </a:cubicBezTo>
                    <a:cubicBezTo>
                      <a:pt x="404" y="768"/>
                      <a:pt x="408" y="786"/>
                      <a:pt x="409" y="803"/>
                    </a:cubicBezTo>
                    <a:cubicBezTo>
                      <a:pt x="417" y="897"/>
                      <a:pt x="398" y="924"/>
                      <a:pt x="425" y="871"/>
                    </a:cubicBezTo>
                    <a:cubicBezTo>
                      <a:pt x="431" y="829"/>
                      <a:pt x="436" y="787"/>
                      <a:pt x="449" y="747"/>
                    </a:cubicBezTo>
                    <a:cubicBezTo>
                      <a:pt x="440" y="875"/>
                      <a:pt x="449" y="758"/>
                      <a:pt x="449" y="667"/>
                    </a:cubicBezTo>
                    <a:cubicBezTo>
                      <a:pt x="449" y="647"/>
                      <a:pt x="448" y="707"/>
                      <a:pt x="445" y="727"/>
                    </a:cubicBezTo>
                    <a:cubicBezTo>
                      <a:pt x="442" y="746"/>
                      <a:pt x="438" y="764"/>
                      <a:pt x="433" y="783"/>
                    </a:cubicBezTo>
                    <a:cubicBezTo>
                      <a:pt x="431" y="791"/>
                      <a:pt x="417" y="810"/>
                      <a:pt x="425" y="807"/>
                    </a:cubicBezTo>
                    <a:cubicBezTo>
                      <a:pt x="433" y="804"/>
                      <a:pt x="448" y="774"/>
                      <a:pt x="453" y="763"/>
                    </a:cubicBezTo>
                    <a:cubicBezTo>
                      <a:pt x="450" y="818"/>
                      <a:pt x="427" y="896"/>
                      <a:pt x="437" y="951"/>
                    </a:cubicBezTo>
                    <a:cubicBezTo>
                      <a:pt x="438" y="955"/>
                      <a:pt x="446" y="944"/>
                      <a:pt x="461" y="923"/>
                    </a:cubicBezTo>
                    <a:cubicBezTo>
                      <a:pt x="463" y="929"/>
                      <a:pt x="469" y="965"/>
                      <a:pt x="469" y="919"/>
                    </a:cubicBezTo>
                    <a:cubicBezTo>
                      <a:pt x="469" y="911"/>
                      <a:pt x="466" y="903"/>
                      <a:pt x="465" y="895"/>
                    </a:cubicBezTo>
                    <a:cubicBezTo>
                      <a:pt x="443" y="928"/>
                      <a:pt x="449" y="927"/>
                      <a:pt x="453" y="895"/>
                    </a:cubicBezTo>
                    <a:cubicBezTo>
                      <a:pt x="456" y="874"/>
                      <a:pt x="458" y="852"/>
                      <a:pt x="461" y="831"/>
                    </a:cubicBezTo>
                    <a:cubicBezTo>
                      <a:pt x="462" y="802"/>
                      <a:pt x="463" y="772"/>
                      <a:pt x="465" y="743"/>
                    </a:cubicBezTo>
                    <a:cubicBezTo>
                      <a:pt x="467" y="695"/>
                      <a:pt x="494" y="556"/>
                      <a:pt x="473" y="599"/>
                    </a:cubicBezTo>
                    <a:cubicBezTo>
                      <a:pt x="468" y="610"/>
                      <a:pt x="457" y="631"/>
                      <a:pt x="457" y="631"/>
                    </a:cubicBezTo>
                    <a:cubicBezTo>
                      <a:pt x="456" y="612"/>
                      <a:pt x="457" y="557"/>
                      <a:pt x="453" y="575"/>
                    </a:cubicBezTo>
                    <a:cubicBezTo>
                      <a:pt x="446" y="605"/>
                      <a:pt x="451" y="636"/>
                      <a:pt x="449" y="667"/>
                    </a:cubicBezTo>
                    <a:cubicBezTo>
                      <a:pt x="448" y="679"/>
                      <a:pt x="451" y="695"/>
                      <a:pt x="441" y="703"/>
                    </a:cubicBezTo>
                    <a:cubicBezTo>
                      <a:pt x="437" y="706"/>
                      <a:pt x="430" y="706"/>
                      <a:pt x="425" y="707"/>
                    </a:cubicBezTo>
                    <a:cubicBezTo>
                      <a:pt x="424" y="699"/>
                      <a:pt x="429" y="683"/>
                      <a:pt x="421" y="683"/>
                    </a:cubicBezTo>
                    <a:cubicBezTo>
                      <a:pt x="411" y="683"/>
                      <a:pt x="406" y="698"/>
                      <a:pt x="401" y="707"/>
                    </a:cubicBezTo>
                    <a:cubicBezTo>
                      <a:pt x="398" y="712"/>
                      <a:pt x="393" y="727"/>
                      <a:pt x="397" y="723"/>
                    </a:cubicBezTo>
                    <a:cubicBezTo>
                      <a:pt x="402" y="718"/>
                      <a:pt x="403" y="710"/>
                      <a:pt x="405" y="703"/>
                    </a:cubicBezTo>
                    <a:cubicBezTo>
                      <a:pt x="426" y="647"/>
                      <a:pt x="426" y="585"/>
                      <a:pt x="477" y="551"/>
                    </a:cubicBezTo>
                    <a:cubicBezTo>
                      <a:pt x="480" y="568"/>
                      <a:pt x="476" y="588"/>
                      <a:pt x="485" y="603"/>
                    </a:cubicBezTo>
                    <a:cubicBezTo>
                      <a:pt x="489" y="610"/>
                      <a:pt x="495" y="590"/>
                      <a:pt x="497" y="583"/>
                    </a:cubicBezTo>
                    <a:cubicBezTo>
                      <a:pt x="503" y="565"/>
                      <a:pt x="505" y="546"/>
                      <a:pt x="509" y="527"/>
                    </a:cubicBezTo>
                    <a:cubicBezTo>
                      <a:pt x="510" y="523"/>
                      <a:pt x="514" y="511"/>
                      <a:pt x="513" y="515"/>
                    </a:cubicBezTo>
                    <a:cubicBezTo>
                      <a:pt x="502" y="580"/>
                      <a:pt x="510" y="526"/>
                      <a:pt x="497" y="571"/>
                    </a:cubicBezTo>
                    <a:cubicBezTo>
                      <a:pt x="495" y="578"/>
                      <a:pt x="486" y="591"/>
                      <a:pt x="493" y="591"/>
                    </a:cubicBezTo>
                    <a:cubicBezTo>
                      <a:pt x="500" y="591"/>
                      <a:pt x="497" y="577"/>
                      <a:pt x="501" y="571"/>
                    </a:cubicBezTo>
                    <a:cubicBezTo>
                      <a:pt x="504" y="566"/>
                      <a:pt x="509" y="563"/>
                      <a:pt x="513" y="559"/>
                    </a:cubicBezTo>
                    <a:cubicBezTo>
                      <a:pt x="523" y="593"/>
                      <a:pt x="522" y="624"/>
                      <a:pt x="513" y="659"/>
                    </a:cubicBezTo>
                    <a:cubicBezTo>
                      <a:pt x="519" y="518"/>
                      <a:pt x="523" y="577"/>
                      <a:pt x="477" y="623"/>
                    </a:cubicBezTo>
                    <a:cubicBezTo>
                      <a:pt x="494" y="534"/>
                      <a:pt x="486" y="567"/>
                      <a:pt x="497" y="523"/>
                    </a:cubicBezTo>
                    <a:cubicBezTo>
                      <a:pt x="498" y="527"/>
                      <a:pt x="501" y="531"/>
                      <a:pt x="501" y="535"/>
                    </a:cubicBezTo>
                    <a:cubicBezTo>
                      <a:pt x="501" y="542"/>
                      <a:pt x="494" y="561"/>
                      <a:pt x="497" y="555"/>
                    </a:cubicBezTo>
                    <a:cubicBezTo>
                      <a:pt x="507" y="536"/>
                      <a:pt x="513" y="515"/>
                      <a:pt x="521" y="495"/>
                    </a:cubicBezTo>
                    <a:cubicBezTo>
                      <a:pt x="524" y="474"/>
                      <a:pt x="526" y="452"/>
                      <a:pt x="529" y="431"/>
                    </a:cubicBezTo>
                    <a:cubicBezTo>
                      <a:pt x="530" y="423"/>
                      <a:pt x="531" y="415"/>
                      <a:pt x="533" y="407"/>
                    </a:cubicBezTo>
                    <a:cubicBezTo>
                      <a:pt x="534" y="403"/>
                      <a:pt x="540" y="392"/>
                      <a:pt x="537" y="395"/>
                    </a:cubicBezTo>
                    <a:cubicBezTo>
                      <a:pt x="519" y="413"/>
                      <a:pt x="516" y="440"/>
                      <a:pt x="497" y="459"/>
                    </a:cubicBezTo>
                    <a:cubicBezTo>
                      <a:pt x="494" y="462"/>
                      <a:pt x="502" y="451"/>
                      <a:pt x="505" y="447"/>
                    </a:cubicBezTo>
                    <a:cubicBezTo>
                      <a:pt x="510" y="440"/>
                      <a:pt x="516" y="434"/>
                      <a:pt x="521" y="427"/>
                    </a:cubicBezTo>
                    <a:cubicBezTo>
                      <a:pt x="535" y="378"/>
                      <a:pt x="527" y="369"/>
                      <a:pt x="569" y="355"/>
                    </a:cubicBezTo>
                    <a:cubicBezTo>
                      <a:pt x="571" y="367"/>
                      <a:pt x="580" y="427"/>
                      <a:pt x="561" y="371"/>
                    </a:cubicBezTo>
                    <a:cubicBezTo>
                      <a:pt x="562" y="367"/>
                      <a:pt x="567" y="355"/>
                      <a:pt x="565" y="359"/>
                    </a:cubicBezTo>
                    <a:cubicBezTo>
                      <a:pt x="554" y="387"/>
                      <a:pt x="543" y="413"/>
                      <a:pt x="521" y="435"/>
                    </a:cubicBezTo>
                    <a:cubicBezTo>
                      <a:pt x="518" y="438"/>
                      <a:pt x="526" y="427"/>
                      <a:pt x="529" y="423"/>
                    </a:cubicBezTo>
                    <a:cubicBezTo>
                      <a:pt x="535" y="415"/>
                      <a:pt x="544" y="408"/>
                      <a:pt x="549" y="399"/>
                    </a:cubicBezTo>
                    <a:cubicBezTo>
                      <a:pt x="570" y="360"/>
                      <a:pt x="564" y="337"/>
                      <a:pt x="605" y="323"/>
                    </a:cubicBezTo>
                    <a:cubicBezTo>
                      <a:pt x="612" y="343"/>
                      <a:pt x="611" y="329"/>
                      <a:pt x="597" y="351"/>
                    </a:cubicBezTo>
                    <a:cubicBezTo>
                      <a:pt x="594" y="356"/>
                      <a:pt x="586" y="372"/>
                      <a:pt x="589" y="367"/>
                    </a:cubicBezTo>
                    <a:cubicBezTo>
                      <a:pt x="604" y="345"/>
                      <a:pt x="614" y="326"/>
                      <a:pt x="633" y="307"/>
                    </a:cubicBezTo>
                    <a:cubicBezTo>
                      <a:pt x="625" y="327"/>
                      <a:pt x="619" y="340"/>
                      <a:pt x="609" y="359"/>
                    </a:cubicBezTo>
                    <a:cubicBezTo>
                      <a:pt x="607" y="363"/>
                      <a:pt x="598" y="374"/>
                      <a:pt x="601" y="371"/>
                    </a:cubicBezTo>
                    <a:cubicBezTo>
                      <a:pt x="621" y="351"/>
                      <a:pt x="631" y="328"/>
                      <a:pt x="653" y="311"/>
                    </a:cubicBezTo>
                    <a:cubicBezTo>
                      <a:pt x="660" y="352"/>
                      <a:pt x="662" y="329"/>
                      <a:pt x="625" y="375"/>
                    </a:cubicBezTo>
                    <a:cubicBezTo>
                      <a:pt x="620" y="381"/>
                      <a:pt x="609" y="399"/>
                      <a:pt x="609" y="391"/>
                    </a:cubicBezTo>
                    <a:cubicBezTo>
                      <a:pt x="609" y="351"/>
                      <a:pt x="690" y="288"/>
                      <a:pt x="729" y="275"/>
                    </a:cubicBezTo>
                    <a:cubicBezTo>
                      <a:pt x="736" y="308"/>
                      <a:pt x="716" y="332"/>
                      <a:pt x="693" y="355"/>
                    </a:cubicBezTo>
                    <a:cubicBezTo>
                      <a:pt x="694" y="348"/>
                      <a:pt x="696" y="342"/>
                      <a:pt x="697" y="335"/>
                    </a:cubicBezTo>
                    <a:cubicBezTo>
                      <a:pt x="700" y="316"/>
                      <a:pt x="702" y="298"/>
                      <a:pt x="705" y="279"/>
                    </a:cubicBezTo>
                    <a:cubicBezTo>
                      <a:pt x="727" y="158"/>
                      <a:pt x="705" y="263"/>
                      <a:pt x="693" y="295"/>
                    </a:cubicBezTo>
                    <a:cubicBezTo>
                      <a:pt x="665" y="365"/>
                      <a:pt x="681" y="341"/>
                      <a:pt x="625" y="387"/>
                    </a:cubicBezTo>
                    <a:cubicBezTo>
                      <a:pt x="618" y="393"/>
                      <a:pt x="641" y="376"/>
                      <a:pt x="649" y="371"/>
                    </a:cubicBezTo>
                    <a:cubicBezTo>
                      <a:pt x="662" y="364"/>
                      <a:pt x="671" y="362"/>
                      <a:pt x="685" y="359"/>
                    </a:cubicBezTo>
                    <a:cubicBezTo>
                      <a:pt x="682" y="371"/>
                      <a:pt x="682" y="384"/>
                      <a:pt x="677" y="395"/>
                    </a:cubicBezTo>
                    <a:cubicBezTo>
                      <a:pt x="674" y="402"/>
                      <a:pt x="664" y="418"/>
                      <a:pt x="661" y="411"/>
                    </a:cubicBezTo>
                    <a:cubicBezTo>
                      <a:pt x="657" y="403"/>
                      <a:pt x="667" y="394"/>
                      <a:pt x="673" y="387"/>
                    </a:cubicBezTo>
                    <a:cubicBezTo>
                      <a:pt x="687" y="370"/>
                      <a:pt x="707" y="357"/>
                      <a:pt x="721" y="339"/>
                    </a:cubicBezTo>
                    <a:cubicBezTo>
                      <a:pt x="726" y="332"/>
                      <a:pt x="731" y="313"/>
                      <a:pt x="737" y="319"/>
                    </a:cubicBezTo>
                    <a:cubicBezTo>
                      <a:pt x="743" y="325"/>
                      <a:pt x="725" y="343"/>
                      <a:pt x="725" y="343"/>
                    </a:cubicBezTo>
                    <a:cubicBezTo>
                      <a:pt x="753" y="245"/>
                      <a:pt x="724" y="319"/>
                      <a:pt x="761" y="263"/>
                    </a:cubicBezTo>
                    <a:cubicBezTo>
                      <a:pt x="766" y="256"/>
                      <a:pt x="768" y="246"/>
                      <a:pt x="773" y="239"/>
                    </a:cubicBezTo>
                    <a:cubicBezTo>
                      <a:pt x="776" y="234"/>
                      <a:pt x="790" y="224"/>
                      <a:pt x="785" y="227"/>
                    </a:cubicBezTo>
                    <a:cubicBezTo>
                      <a:pt x="760" y="244"/>
                      <a:pt x="746" y="261"/>
                      <a:pt x="717" y="271"/>
                    </a:cubicBezTo>
                    <a:cubicBezTo>
                      <a:pt x="719" y="255"/>
                      <a:pt x="721" y="239"/>
                      <a:pt x="725" y="223"/>
                    </a:cubicBezTo>
                    <a:cubicBezTo>
                      <a:pt x="726" y="219"/>
                      <a:pt x="732" y="214"/>
                      <a:pt x="729" y="211"/>
                    </a:cubicBezTo>
                    <a:cubicBezTo>
                      <a:pt x="726" y="208"/>
                      <a:pt x="721" y="214"/>
                      <a:pt x="717" y="215"/>
                    </a:cubicBezTo>
                    <a:cubicBezTo>
                      <a:pt x="685" y="240"/>
                      <a:pt x="648" y="249"/>
                      <a:pt x="617" y="275"/>
                    </a:cubicBezTo>
                    <a:cubicBezTo>
                      <a:pt x="627" y="236"/>
                      <a:pt x="640" y="208"/>
                      <a:pt x="669" y="179"/>
                    </a:cubicBezTo>
                    <a:cubicBezTo>
                      <a:pt x="680" y="196"/>
                      <a:pt x="676" y="203"/>
                      <a:pt x="665" y="219"/>
                    </a:cubicBezTo>
                    <a:cubicBezTo>
                      <a:pt x="673" y="186"/>
                      <a:pt x="684" y="166"/>
                      <a:pt x="661" y="135"/>
                    </a:cubicBezTo>
                    <a:cubicBezTo>
                      <a:pt x="678" y="132"/>
                      <a:pt x="704" y="142"/>
                      <a:pt x="713" y="127"/>
                    </a:cubicBezTo>
                    <a:cubicBezTo>
                      <a:pt x="717" y="120"/>
                      <a:pt x="700" y="116"/>
                      <a:pt x="693" y="111"/>
                    </a:cubicBezTo>
                    <a:cubicBezTo>
                      <a:pt x="689" y="109"/>
                      <a:pt x="678" y="104"/>
                      <a:pt x="681" y="107"/>
                    </a:cubicBezTo>
                    <a:cubicBezTo>
                      <a:pt x="693" y="119"/>
                      <a:pt x="726" y="118"/>
                      <a:pt x="737" y="119"/>
                    </a:cubicBezTo>
                    <a:cubicBezTo>
                      <a:pt x="760" y="127"/>
                      <a:pt x="769" y="143"/>
                      <a:pt x="785" y="159"/>
                    </a:cubicBezTo>
                    <a:cubicBezTo>
                      <a:pt x="660" y="206"/>
                      <a:pt x="451" y="197"/>
                      <a:pt x="313" y="207"/>
                    </a:cubicBezTo>
                    <a:cubicBezTo>
                      <a:pt x="266" y="204"/>
                      <a:pt x="252" y="200"/>
                      <a:pt x="213" y="187"/>
                    </a:cubicBezTo>
                    <a:cubicBezTo>
                      <a:pt x="196" y="174"/>
                      <a:pt x="188" y="163"/>
                      <a:pt x="181" y="143"/>
                    </a:cubicBezTo>
                    <a:cubicBezTo>
                      <a:pt x="195" y="108"/>
                      <a:pt x="204" y="119"/>
                      <a:pt x="245" y="123"/>
                    </a:cubicBezTo>
                    <a:cubicBezTo>
                      <a:pt x="199" y="159"/>
                      <a:pt x="178" y="166"/>
                      <a:pt x="117" y="171"/>
                    </a:cubicBezTo>
                    <a:cubicBezTo>
                      <a:pt x="99" y="175"/>
                      <a:pt x="86" y="181"/>
                      <a:pt x="69" y="187"/>
                    </a:cubicBezTo>
                    <a:cubicBezTo>
                      <a:pt x="52" y="204"/>
                      <a:pt x="33" y="226"/>
                      <a:pt x="13" y="239"/>
                    </a:cubicBezTo>
                    <a:cubicBezTo>
                      <a:pt x="11" y="244"/>
                      <a:pt x="5" y="263"/>
                      <a:pt x="5" y="267"/>
                    </a:cubicBezTo>
                    <a:cubicBezTo>
                      <a:pt x="6" y="279"/>
                      <a:pt x="16" y="315"/>
                      <a:pt x="29" y="315"/>
                    </a:cubicBezTo>
                  </a:path>
                </a:pathLst>
              </a:custGeom>
              <a:noFill/>
              <a:ln w="7632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grpSp>
        <p:sp>
          <p:nvSpPr>
            <p:cNvPr id="224" name=""/>
            <p:cNvSpPr/>
            <p:nvPr/>
          </p:nvSpPr>
          <p:spPr>
            <a:xfrm>
              <a:off x="3206880" y="3038400"/>
              <a:ext cx="653760" cy="123840"/>
            </a:xfrm>
            <a:custGeom>
              <a:avLst/>
              <a:gdLst/>
              <a:ahLst/>
              <a:rect l="l" t="t" r="r" b="b"/>
              <a:pathLst>
                <a:path w="412" h="78">
                  <a:moveTo>
                    <a:pt x="0" y="78"/>
                  </a:moveTo>
                  <a:cubicBezTo>
                    <a:pt x="24" y="74"/>
                    <a:pt x="38" y="60"/>
                    <a:pt x="60" y="54"/>
                  </a:cubicBezTo>
                  <a:cubicBezTo>
                    <a:pt x="104" y="41"/>
                    <a:pt x="151" y="28"/>
                    <a:pt x="196" y="22"/>
                  </a:cubicBezTo>
                  <a:cubicBezTo>
                    <a:pt x="235" y="9"/>
                    <a:pt x="279" y="9"/>
                    <a:pt x="320" y="6"/>
                  </a:cubicBezTo>
                  <a:cubicBezTo>
                    <a:pt x="351" y="0"/>
                    <a:pt x="380" y="6"/>
                    <a:pt x="412" y="6"/>
                  </a:cubicBezTo>
                </a:path>
              </a:pathLst>
            </a:custGeom>
            <a:noFill/>
            <a:ln w="7632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25" name=""/>
            <p:cNvSpPr/>
            <p:nvPr/>
          </p:nvSpPr>
          <p:spPr>
            <a:xfrm>
              <a:off x="3986280" y="3379680"/>
              <a:ext cx="52200" cy="41400"/>
            </a:xfrm>
            <a:custGeom>
              <a:avLst/>
              <a:gdLst/>
              <a:ahLst/>
              <a:rect l="l" t="t" r="r" b="b"/>
              <a:pathLst>
                <a:path w="33" h="26">
                  <a:moveTo>
                    <a:pt x="29" y="1"/>
                  </a:moveTo>
                  <a:cubicBezTo>
                    <a:pt x="26" y="4"/>
                    <a:pt x="20" y="11"/>
                    <a:pt x="18" y="7"/>
                  </a:cubicBezTo>
                  <a:cubicBezTo>
                    <a:pt x="17" y="5"/>
                    <a:pt x="22" y="0"/>
                    <a:pt x="20" y="1"/>
                  </a:cubicBezTo>
                  <a:cubicBezTo>
                    <a:pt x="16" y="2"/>
                    <a:pt x="9" y="10"/>
                    <a:pt x="9" y="10"/>
                  </a:cubicBezTo>
                  <a:cubicBezTo>
                    <a:pt x="0" y="26"/>
                    <a:pt x="25" y="7"/>
                    <a:pt x="33" y="4"/>
                  </a:cubicBezTo>
                  <a:cubicBezTo>
                    <a:pt x="32" y="8"/>
                    <a:pt x="27" y="15"/>
                    <a:pt x="27" y="15"/>
                  </a:cubicBezTo>
                </a:path>
              </a:pathLst>
            </a:custGeom>
            <a:noFill/>
            <a:ln w="76320">
              <a:solidFill>
                <a:srgbClr val="66ff33"/>
              </a:solidFill>
              <a:round/>
            </a:ln>
          </p:spPr>
          <p:style>
            <a:lnRef idx="0"/>
            <a:fillRef idx="0"/>
            <a:effectRef idx="0"/>
            <a:fontRef idx="minor"/>
          </p:style>
          <p:txBody>
            <a:bodyPr lIns="90000" rIns="90000" tIns="-5400" bIns="-5400" anchor="t">
              <a:noAutofit/>
            </a:bodyPr>
            <a:p>
              <a:endParaRPr b="0" lang="en-US" sz="2400" spc="-1" strike="noStrike">
                <a:solidFill>
                  <a:srgbClr val="f8f8f8"/>
                </a:solidFill>
                <a:latin typeface="Times New Roman"/>
              </a:endParaRPr>
            </a:p>
          </p:txBody>
        </p:sp>
        <p:sp>
          <p:nvSpPr>
            <p:cNvPr id="226" name=""/>
            <p:cNvSpPr/>
            <p:nvPr/>
          </p:nvSpPr>
          <p:spPr>
            <a:xfrm>
              <a:off x="3860640" y="3813120"/>
              <a:ext cx="33480" cy="101520"/>
            </a:xfrm>
            <a:custGeom>
              <a:avLst/>
              <a:gdLst/>
              <a:ahLst/>
              <a:rect l="l" t="t" r="r" b="b"/>
              <a:pathLst>
                <a:path w="21" h="64">
                  <a:moveTo>
                    <a:pt x="1" y="0"/>
                  </a:moveTo>
                  <a:cubicBezTo>
                    <a:pt x="4" y="11"/>
                    <a:pt x="7" y="19"/>
                    <a:pt x="9" y="31"/>
                  </a:cubicBezTo>
                  <a:cubicBezTo>
                    <a:pt x="12" y="26"/>
                    <a:pt x="21" y="17"/>
                    <a:pt x="10" y="19"/>
                  </a:cubicBezTo>
                  <a:cubicBezTo>
                    <a:pt x="7" y="24"/>
                    <a:pt x="4" y="29"/>
                    <a:pt x="1" y="34"/>
                  </a:cubicBezTo>
                  <a:cubicBezTo>
                    <a:pt x="0" y="52"/>
                    <a:pt x="0" y="42"/>
                    <a:pt x="0" y="64"/>
                  </a:cubicBezTo>
                </a:path>
              </a:pathLst>
            </a:custGeom>
            <a:noFill/>
            <a:ln w="7632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27" name=""/>
            <p:cNvSpPr/>
            <p:nvPr/>
          </p:nvSpPr>
          <p:spPr>
            <a:xfrm>
              <a:off x="3591000" y="3913200"/>
              <a:ext cx="46080" cy="33480"/>
            </a:xfrm>
            <a:custGeom>
              <a:avLst/>
              <a:gdLst/>
              <a:ahLst/>
              <a:rect l="l" t="t" r="r" b="b"/>
              <a:pathLst>
                <a:path w="29" h="21">
                  <a:moveTo>
                    <a:pt x="29" y="0"/>
                  </a:moveTo>
                  <a:cubicBezTo>
                    <a:pt x="19" y="5"/>
                    <a:pt x="10" y="12"/>
                    <a:pt x="0" y="18"/>
                  </a:cubicBezTo>
                  <a:cubicBezTo>
                    <a:pt x="2" y="19"/>
                    <a:pt x="4" y="21"/>
                    <a:pt x="6" y="21"/>
                  </a:cubicBezTo>
                  <a:cubicBezTo>
                    <a:pt x="9" y="21"/>
                    <a:pt x="15" y="15"/>
                    <a:pt x="18" y="13"/>
                  </a:cubicBezTo>
                  <a:cubicBezTo>
                    <a:pt x="20" y="12"/>
                    <a:pt x="24" y="11"/>
                    <a:pt x="23" y="10"/>
                  </a:cubicBezTo>
                  <a:cubicBezTo>
                    <a:pt x="21" y="8"/>
                    <a:pt x="17" y="12"/>
                    <a:pt x="14" y="13"/>
                  </a:cubicBezTo>
                </a:path>
              </a:pathLst>
            </a:custGeom>
            <a:noFill/>
            <a:ln w="76320">
              <a:solidFill>
                <a:srgbClr val="66ff33"/>
              </a:solidFill>
              <a:round/>
            </a:ln>
          </p:spPr>
          <p:style>
            <a:lnRef idx="0"/>
            <a:fillRef idx="0"/>
            <a:effectRef idx="0"/>
            <a:fontRef idx="minor"/>
          </p:style>
          <p:txBody>
            <a:bodyPr lIns="90000" rIns="90000" tIns="-13320" bIns="-13320" anchor="t">
              <a:noAutofit/>
            </a:bodyPr>
            <a:p>
              <a:endParaRPr b="0" lang="en-US" sz="2400" spc="-1" strike="noStrike">
                <a:solidFill>
                  <a:srgbClr val="f8f8f8"/>
                </a:solidFill>
                <a:latin typeface="Times New Roman"/>
              </a:endParaRPr>
            </a:p>
          </p:txBody>
        </p:sp>
        <p:sp>
          <p:nvSpPr>
            <p:cNvPr id="228" name=""/>
            <p:cNvSpPr/>
            <p:nvPr/>
          </p:nvSpPr>
          <p:spPr>
            <a:xfrm>
              <a:off x="3357720" y="4219560"/>
              <a:ext cx="34920" cy="66600"/>
            </a:xfrm>
            <a:custGeom>
              <a:avLst/>
              <a:gdLst/>
              <a:ahLst/>
              <a:rect l="l" t="t" r="r" b="b"/>
              <a:pathLst>
                <a:path w="22" h="42">
                  <a:moveTo>
                    <a:pt x="0" y="0"/>
                  </a:moveTo>
                  <a:cubicBezTo>
                    <a:pt x="1" y="2"/>
                    <a:pt x="4" y="13"/>
                    <a:pt x="5" y="14"/>
                  </a:cubicBezTo>
                  <a:cubicBezTo>
                    <a:pt x="7" y="17"/>
                    <a:pt x="14" y="21"/>
                    <a:pt x="14" y="21"/>
                  </a:cubicBezTo>
                  <a:cubicBezTo>
                    <a:pt x="19" y="32"/>
                    <a:pt x="15" y="22"/>
                    <a:pt x="18" y="35"/>
                  </a:cubicBezTo>
                  <a:cubicBezTo>
                    <a:pt x="18" y="37"/>
                    <a:pt x="22" y="42"/>
                    <a:pt x="20" y="42"/>
                  </a:cubicBezTo>
                  <a:cubicBezTo>
                    <a:pt x="19" y="42"/>
                    <a:pt x="8" y="22"/>
                    <a:pt x="0" y="17"/>
                  </a:cubicBezTo>
                  <a:cubicBezTo>
                    <a:pt x="0" y="17"/>
                    <a:pt x="2" y="20"/>
                    <a:pt x="3" y="21"/>
                  </a:cubicBezTo>
                  <a:cubicBezTo>
                    <a:pt x="9" y="27"/>
                    <a:pt x="17" y="33"/>
                    <a:pt x="21" y="41"/>
                  </a:cubicBezTo>
                </a:path>
              </a:pathLst>
            </a:custGeom>
            <a:noFill/>
            <a:ln w="76320">
              <a:solidFill>
                <a:srgbClr val="66ff33"/>
              </a:solidFill>
              <a:round/>
            </a:ln>
          </p:spPr>
          <p:style>
            <a:lnRef idx="0"/>
            <a:fillRef idx="0"/>
            <a:effectRef idx="0"/>
            <a:fontRef idx="minor"/>
          </p:style>
          <p:txBody>
            <a:bodyPr lIns="90000" rIns="90000" tIns="19800" bIns="19800" anchor="t">
              <a:noAutofit/>
            </a:bodyPr>
            <a:p>
              <a:endParaRPr b="0" lang="en-US" sz="2400" spc="-1" strike="noStrike">
                <a:solidFill>
                  <a:srgbClr val="f8f8f8"/>
                </a:solidFill>
                <a:latin typeface="Times New Roman"/>
              </a:endParaRPr>
            </a:p>
          </p:txBody>
        </p:sp>
      </p:grpSp>
      <p:sp>
        <p:nvSpPr>
          <p:cNvPr id="229" name=""/>
          <p:cNvSpPr/>
          <p:nvPr/>
        </p:nvSpPr>
        <p:spPr>
          <a:xfrm>
            <a:off x="3879720" y="3244680"/>
            <a:ext cx="1486080" cy="1435320"/>
          </a:xfrm>
          <a:custGeom>
            <a:avLst/>
            <a:gdLst/>
            <a:ahLst/>
            <a:rect l="l" t="t" r="r" b="b"/>
            <a:pathLst>
              <a:path w="936" h="904">
                <a:moveTo>
                  <a:pt x="382" y="56"/>
                </a:moveTo>
                <a:cubicBezTo>
                  <a:pt x="390" y="54"/>
                  <a:pt x="398" y="52"/>
                  <a:pt x="406" y="50"/>
                </a:cubicBezTo>
                <a:cubicBezTo>
                  <a:pt x="418" y="46"/>
                  <a:pt x="442" y="38"/>
                  <a:pt x="442" y="38"/>
                </a:cubicBezTo>
                <a:cubicBezTo>
                  <a:pt x="467" y="0"/>
                  <a:pt x="439" y="7"/>
                  <a:pt x="412" y="14"/>
                </a:cubicBezTo>
                <a:cubicBezTo>
                  <a:pt x="402" y="27"/>
                  <a:pt x="386" y="74"/>
                  <a:pt x="376" y="80"/>
                </a:cubicBezTo>
                <a:cubicBezTo>
                  <a:pt x="365" y="87"/>
                  <a:pt x="352" y="88"/>
                  <a:pt x="340" y="92"/>
                </a:cubicBezTo>
                <a:cubicBezTo>
                  <a:pt x="299" y="106"/>
                  <a:pt x="316" y="99"/>
                  <a:pt x="394" y="92"/>
                </a:cubicBezTo>
                <a:cubicBezTo>
                  <a:pt x="425" y="82"/>
                  <a:pt x="428" y="75"/>
                  <a:pt x="400" y="56"/>
                </a:cubicBezTo>
                <a:cubicBezTo>
                  <a:pt x="370" y="64"/>
                  <a:pt x="317" y="79"/>
                  <a:pt x="406" y="68"/>
                </a:cubicBezTo>
                <a:cubicBezTo>
                  <a:pt x="418" y="64"/>
                  <a:pt x="430" y="60"/>
                  <a:pt x="442" y="56"/>
                </a:cubicBezTo>
                <a:cubicBezTo>
                  <a:pt x="458" y="51"/>
                  <a:pt x="490" y="44"/>
                  <a:pt x="490" y="44"/>
                </a:cubicBezTo>
                <a:cubicBezTo>
                  <a:pt x="442" y="40"/>
                  <a:pt x="414" y="35"/>
                  <a:pt x="370" y="50"/>
                </a:cubicBezTo>
                <a:cubicBezTo>
                  <a:pt x="351" y="69"/>
                  <a:pt x="342" y="85"/>
                  <a:pt x="334" y="110"/>
                </a:cubicBezTo>
                <a:cubicBezTo>
                  <a:pt x="342" y="175"/>
                  <a:pt x="342" y="162"/>
                  <a:pt x="406" y="170"/>
                </a:cubicBezTo>
                <a:cubicBezTo>
                  <a:pt x="418" y="194"/>
                  <a:pt x="428" y="217"/>
                  <a:pt x="436" y="242"/>
                </a:cubicBezTo>
                <a:cubicBezTo>
                  <a:pt x="430" y="246"/>
                  <a:pt x="425" y="254"/>
                  <a:pt x="418" y="254"/>
                </a:cubicBezTo>
                <a:cubicBezTo>
                  <a:pt x="405" y="254"/>
                  <a:pt x="382" y="242"/>
                  <a:pt x="382" y="242"/>
                </a:cubicBezTo>
                <a:cubicBezTo>
                  <a:pt x="397" y="264"/>
                  <a:pt x="411" y="270"/>
                  <a:pt x="436" y="278"/>
                </a:cubicBezTo>
                <a:cubicBezTo>
                  <a:pt x="400" y="296"/>
                  <a:pt x="363" y="309"/>
                  <a:pt x="334" y="338"/>
                </a:cubicBezTo>
                <a:cubicBezTo>
                  <a:pt x="338" y="370"/>
                  <a:pt x="348" y="402"/>
                  <a:pt x="346" y="434"/>
                </a:cubicBezTo>
                <a:cubicBezTo>
                  <a:pt x="345" y="452"/>
                  <a:pt x="292" y="428"/>
                  <a:pt x="292" y="428"/>
                </a:cubicBezTo>
                <a:cubicBezTo>
                  <a:pt x="266" y="435"/>
                  <a:pt x="235" y="437"/>
                  <a:pt x="214" y="458"/>
                </a:cubicBezTo>
                <a:cubicBezTo>
                  <a:pt x="144" y="528"/>
                  <a:pt x="223" y="472"/>
                  <a:pt x="172" y="506"/>
                </a:cubicBezTo>
                <a:cubicBezTo>
                  <a:pt x="139" y="456"/>
                  <a:pt x="167" y="394"/>
                  <a:pt x="148" y="338"/>
                </a:cubicBezTo>
                <a:cubicBezTo>
                  <a:pt x="146" y="324"/>
                  <a:pt x="150" y="308"/>
                  <a:pt x="142" y="296"/>
                </a:cubicBezTo>
                <a:cubicBezTo>
                  <a:pt x="138" y="291"/>
                  <a:pt x="128" y="298"/>
                  <a:pt x="124" y="302"/>
                </a:cubicBezTo>
                <a:cubicBezTo>
                  <a:pt x="106" y="320"/>
                  <a:pt x="90" y="362"/>
                  <a:pt x="82" y="386"/>
                </a:cubicBezTo>
                <a:cubicBezTo>
                  <a:pt x="78" y="452"/>
                  <a:pt x="80" y="502"/>
                  <a:pt x="34" y="548"/>
                </a:cubicBezTo>
                <a:cubicBezTo>
                  <a:pt x="17" y="589"/>
                  <a:pt x="0" y="603"/>
                  <a:pt x="46" y="626"/>
                </a:cubicBezTo>
                <a:cubicBezTo>
                  <a:pt x="88" y="612"/>
                  <a:pt x="142" y="605"/>
                  <a:pt x="178" y="578"/>
                </a:cubicBezTo>
                <a:cubicBezTo>
                  <a:pt x="187" y="571"/>
                  <a:pt x="193" y="561"/>
                  <a:pt x="202" y="554"/>
                </a:cubicBezTo>
                <a:cubicBezTo>
                  <a:pt x="222" y="539"/>
                  <a:pt x="248" y="538"/>
                  <a:pt x="268" y="524"/>
                </a:cubicBezTo>
                <a:cubicBezTo>
                  <a:pt x="290" y="509"/>
                  <a:pt x="302" y="497"/>
                  <a:pt x="328" y="488"/>
                </a:cubicBezTo>
                <a:cubicBezTo>
                  <a:pt x="382" y="490"/>
                  <a:pt x="436" y="487"/>
                  <a:pt x="490" y="494"/>
                </a:cubicBezTo>
                <a:cubicBezTo>
                  <a:pt x="497" y="495"/>
                  <a:pt x="508" y="508"/>
                  <a:pt x="502" y="512"/>
                </a:cubicBezTo>
                <a:cubicBezTo>
                  <a:pt x="477" y="529"/>
                  <a:pt x="489" y="519"/>
                  <a:pt x="466" y="542"/>
                </a:cubicBezTo>
                <a:cubicBezTo>
                  <a:pt x="450" y="608"/>
                  <a:pt x="457" y="676"/>
                  <a:pt x="436" y="740"/>
                </a:cubicBezTo>
                <a:cubicBezTo>
                  <a:pt x="430" y="788"/>
                  <a:pt x="397" y="883"/>
                  <a:pt x="454" y="902"/>
                </a:cubicBezTo>
                <a:cubicBezTo>
                  <a:pt x="470" y="900"/>
                  <a:pt x="488" y="904"/>
                  <a:pt x="502" y="896"/>
                </a:cubicBezTo>
                <a:cubicBezTo>
                  <a:pt x="507" y="893"/>
                  <a:pt x="501" y="882"/>
                  <a:pt x="496" y="878"/>
                </a:cubicBezTo>
                <a:cubicBezTo>
                  <a:pt x="486" y="871"/>
                  <a:pt x="460" y="866"/>
                  <a:pt x="460" y="866"/>
                </a:cubicBezTo>
                <a:cubicBezTo>
                  <a:pt x="450" y="868"/>
                  <a:pt x="427" y="862"/>
                  <a:pt x="430" y="872"/>
                </a:cubicBezTo>
                <a:cubicBezTo>
                  <a:pt x="434" y="884"/>
                  <a:pt x="466" y="884"/>
                  <a:pt x="466" y="884"/>
                </a:cubicBezTo>
                <a:cubicBezTo>
                  <a:pt x="462" y="885"/>
                  <a:pt x="422" y="899"/>
                  <a:pt x="418" y="884"/>
                </a:cubicBezTo>
                <a:cubicBezTo>
                  <a:pt x="415" y="872"/>
                  <a:pt x="425" y="860"/>
                  <a:pt x="430" y="848"/>
                </a:cubicBezTo>
                <a:cubicBezTo>
                  <a:pt x="454" y="794"/>
                  <a:pt x="483" y="724"/>
                  <a:pt x="544" y="704"/>
                </a:cubicBezTo>
                <a:cubicBezTo>
                  <a:pt x="585" y="663"/>
                  <a:pt x="627" y="630"/>
                  <a:pt x="646" y="572"/>
                </a:cubicBezTo>
                <a:cubicBezTo>
                  <a:pt x="644" y="560"/>
                  <a:pt x="647" y="546"/>
                  <a:pt x="640" y="536"/>
                </a:cubicBezTo>
                <a:cubicBezTo>
                  <a:pt x="621" y="509"/>
                  <a:pt x="578" y="506"/>
                  <a:pt x="550" y="500"/>
                </a:cubicBezTo>
                <a:cubicBezTo>
                  <a:pt x="519" y="485"/>
                  <a:pt x="494" y="473"/>
                  <a:pt x="466" y="452"/>
                </a:cubicBezTo>
                <a:cubicBezTo>
                  <a:pt x="511" y="437"/>
                  <a:pt x="449" y="437"/>
                  <a:pt x="436" y="434"/>
                </a:cubicBezTo>
                <a:cubicBezTo>
                  <a:pt x="426" y="474"/>
                  <a:pt x="446" y="493"/>
                  <a:pt x="484" y="506"/>
                </a:cubicBezTo>
                <a:cubicBezTo>
                  <a:pt x="478" y="492"/>
                  <a:pt x="472" y="478"/>
                  <a:pt x="466" y="464"/>
                </a:cubicBezTo>
                <a:cubicBezTo>
                  <a:pt x="464" y="458"/>
                  <a:pt x="455" y="450"/>
                  <a:pt x="460" y="446"/>
                </a:cubicBezTo>
                <a:cubicBezTo>
                  <a:pt x="468" y="441"/>
                  <a:pt x="504" y="463"/>
                  <a:pt x="508" y="464"/>
                </a:cubicBezTo>
                <a:cubicBezTo>
                  <a:pt x="524" y="469"/>
                  <a:pt x="556" y="476"/>
                  <a:pt x="556" y="476"/>
                </a:cubicBezTo>
                <a:cubicBezTo>
                  <a:pt x="601" y="463"/>
                  <a:pt x="605" y="465"/>
                  <a:pt x="616" y="422"/>
                </a:cubicBezTo>
                <a:cubicBezTo>
                  <a:pt x="619" y="325"/>
                  <a:pt x="559" y="170"/>
                  <a:pt x="670" y="188"/>
                </a:cubicBezTo>
                <a:cubicBezTo>
                  <a:pt x="672" y="208"/>
                  <a:pt x="668" y="230"/>
                  <a:pt x="676" y="248"/>
                </a:cubicBezTo>
                <a:cubicBezTo>
                  <a:pt x="679" y="256"/>
                  <a:pt x="694" y="249"/>
                  <a:pt x="700" y="254"/>
                </a:cubicBezTo>
                <a:cubicBezTo>
                  <a:pt x="705" y="258"/>
                  <a:pt x="703" y="266"/>
                  <a:pt x="706" y="272"/>
                </a:cubicBezTo>
                <a:cubicBezTo>
                  <a:pt x="723" y="307"/>
                  <a:pt x="745" y="347"/>
                  <a:pt x="772" y="374"/>
                </a:cubicBezTo>
                <a:cubicBezTo>
                  <a:pt x="789" y="424"/>
                  <a:pt x="829" y="464"/>
                  <a:pt x="850" y="512"/>
                </a:cubicBezTo>
                <a:cubicBezTo>
                  <a:pt x="861" y="539"/>
                  <a:pt x="860" y="571"/>
                  <a:pt x="874" y="596"/>
                </a:cubicBezTo>
                <a:cubicBezTo>
                  <a:pt x="913" y="666"/>
                  <a:pt x="887" y="598"/>
                  <a:pt x="910" y="668"/>
                </a:cubicBezTo>
                <a:cubicBezTo>
                  <a:pt x="914" y="680"/>
                  <a:pt x="922" y="704"/>
                  <a:pt x="922" y="704"/>
                </a:cubicBezTo>
                <a:cubicBezTo>
                  <a:pt x="924" y="726"/>
                  <a:pt x="925" y="748"/>
                  <a:pt x="928" y="770"/>
                </a:cubicBezTo>
                <a:cubicBezTo>
                  <a:pt x="929" y="778"/>
                  <a:pt x="936" y="786"/>
                  <a:pt x="934" y="794"/>
                </a:cubicBezTo>
                <a:cubicBezTo>
                  <a:pt x="933" y="798"/>
                  <a:pt x="926" y="794"/>
                  <a:pt x="922" y="794"/>
                </a:cubicBezTo>
              </a:path>
            </a:pathLst>
          </a:custGeom>
          <a:noFill/>
          <a:ln w="76320">
            <a:solidFill>
              <a:srgbClr val="99ff66"/>
            </a:solidFill>
            <a:roun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30" name=""/>
          <p:cNvSpPr/>
          <p:nvPr/>
        </p:nvSpPr>
        <p:spPr>
          <a:xfrm>
            <a:off x="3763800" y="3352680"/>
            <a:ext cx="1570320" cy="1465560"/>
          </a:xfrm>
          <a:custGeom>
            <a:avLst/>
            <a:gdLst/>
            <a:ahLst/>
            <a:rect l="l" t="t" r="r" b="b"/>
            <a:pathLst>
              <a:path w="989" h="923">
                <a:moveTo>
                  <a:pt x="521" y="0"/>
                </a:moveTo>
                <a:cubicBezTo>
                  <a:pt x="494" y="5"/>
                  <a:pt x="480" y="16"/>
                  <a:pt x="455" y="24"/>
                </a:cubicBezTo>
                <a:cubicBezTo>
                  <a:pt x="451" y="30"/>
                  <a:pt x="449" y="38"/>
                  <a:pt x="443" y="42"/>
                </a:cubicBezTo>
                <a:cubicBezTo>
                  <a:pt x="432" y="49"/>
                  <a:pt x="419" y="50"/>
                  <a:pt x="407" y="54"/>
                </a:cubicBezTo>
                <a:cubicBezTo>
                  <a:pt x="385" y="61"/>
                  <a:pt x="356" y="79"/>
                  <a:pt x="335" y="90"/>
                </a:cubicBezTo>
                <a:cubicBezTo>
                  <a:pt x="302" y="108"/>
                  <a:pt x="292" y="131"/>
                  <a:pt x="263" y="150"/>
                </a:cubicBezTo>
                <a:cubicBezTo>
                  <a:pt x="251" y="168"/>
                  <a:pt x="235" y="189"/>
                  <a:pt x="227" y="210"/>
                </a:cubicBezTo>
                <a:cubicBezTo>
                  <a:pt x="219" y="231"/>
                  <a:pt x="220" y="253"/>
                  <a:pt x="203" y="270"/>
                </a:cubicBezTo>
                <a:cubicBezTo>
                  <a:pt x="162" y="311"/>
                  <a:pt x="131" y="329"/>
                  <a:pt x="113" y="384"/>
                </a:cubicBezTo>
                <a:cubicBezTo>
                  <a:pt x="111" y="408"/>
                  <a:pt x="113" y="433"/>
                  <a:pt x="107" y="456"/>
                </a:cubicBezTo>
                <a:lnTo>
                  <a:pt x="83" y="492"/>
                </a:lnTo>
                <a:cubicBezTo>
                  <a:pt x="83" y="492"/>
                  <a:pt x="65" y="546"/>
                  <a:pt x="65" y="546"/>
                </a:cubicBezTo>
                <a:cubicBezTo>
                  <a:pt x="46" y="604"/>
                  <a:pt x="77" y="514"/>
                  <a:pt x="47" y="588"/>
                </a:cubicBezTo>
                <a:cubicBezTo>
                  <a:pt x="42" y="600"/>
                  <a:pt x="35" y="624"/>
                  <a:pt x="35" y="624"/>
                </a:cubicBezTo>
                <a:cubicBezTo>
                  <a:pt x="33" y="660"/>
                  <a:pt x="34" y="696"/>
                  <a:pt x="29" y="732"/>
                </a:cubicBezTo>
                <a:cubicBezTo>
                  <a:pt x="26" y="755"/>
                  <a:pt x="0" y="745"/>
                  <a:pt x="23" y="774"/>
                </a:cubicBezTo>
                <a:cubicBezTo>
                  <a:pt x="31" y="784"/>
                  <a:pt x="48" y="785"/>
                  <a:pt x="59" y="792"/>
                </a:cubicBezTo>
                <a:cubicBezTo>
                  <a:pt x="87" y="833"/>
                  <a:pt x="185" y="846"/>
                  <a:pt x="233" y="858"/>
                </a:cubicBezTo>
                <a:cubicBezTo>
                  <a:pt x="300" y="902"/>
                  <a:pt x="385" y="897"/>
                  <a:pt x="461" y="900"/>
                </a:cubicBezTo>
                <a:cubicBezTo>
                  <a:pt x="534" y="898"/>
                  <a:pt x="670" y="923"/>
                  <a:pt x="749" y="870"/>
                </a:cubicBezTo>
                <a:cubicBezTo>
                  <a:pt x="781" y="822"/>
                  <a:pt x="812" y="821"/>
                  <a:pt x="869" y="816"/>
                </a:cubicBezTo>
                <a:cubicBezTo>
                  <a:pt x="910" y="806"/>
                  <a:pt x="953" y="798"/>
                  <a:pt x="989" y="774"/>
                </a:cubicBezTo>
                <a:cubicBezTo>
                  <a:pt x="984" y="703"/>
                  <a:pt x="967" y="644"/>
                  <a:pt x="953" y="576"/>
                </a:cubicBezTo>
                <a:cubicBezTo>
                  <a:pt x="943" y="526"/>
                  <a:pt x="946" y="467"/>
                  <a:pt x="923" y="420"/>
                </a:cubicBezTo>
                <a:cubicBezTo>
                  <a:pt x="901" y="376"/>
                  <a:pt x="861" y="318"/>
                  <a:pt x="833" y="276"/>
                </a:cubicBezTo>
                <a:cubicBezTo>
                  <a:pt x="822" y="231"/>
                  <a:pt x="793" y="212"/>
                  <a:pt x="755" y="186"/>
                </a:cubicBezTo>
                <a:cubicBezTo>
                  <a:pt x="743" y="178"/>
                  <a:pt x="719" y="162"/>
                  <a:pt x="719" y="162"/>
                </a:cubicBezTo>
                <a:cubicBezTo>
                  <a:pt x="678" y="101"/>
                  <a:pt x="651" y="37"/>
                  <a:pt x="575" y="12"/>
                </a:cubicBezTo>
                <a:cubicBezTo>
                  <a:pt x="555" y="14"/>
                  <a:pt x="533" y="10"/>
                  <a:pt x="515" y="18"/>
                </a:cubicBezTo>
                <a:cubicBezTo>
                  <a:pt x="499" y="25"/>
                  <a:pt x="491" y="42"/>
                  <a:pt x="479" y="54"/>
                </a:cubicBezTo>
                <a:cubicBezTo>
                  <a:pt x="464" y="69"/>
                  <a:pt x="439" y="77"/>
                  <a:pt x="419" y="84"/>
                </a:cubicBezTo>
                <a:cubicBezTo>
                  <a:pt x="372" y="77"/>
                  <a:pt x="360" y="80"/>
                  <a:pt x="323" y="108"/>
                </a:cubicBezTo>
                <a:cubicBezTo>
                  <a:pt x="309" y="144"/>
                  <a:pt x="284" y="200"/>
                  <a:pt x="251" y="222"/>
                </a:cubicBezTo>
                <a:cubicBezTo>
                  <a:pt x="226" y="260"/>
                  <a:pt x="240" y="282"/>
                  <a:pt x="227" y="330"/>
                </a:cubicBezTo>
                <a:cubicBezTo>
                  <a:pt x="222" y="347"/>
                  <a:pt x="209" y="361"/>
                  <a:pt x="203" y="378"/>
                </a:cubicBezTo>
                <a:cubicBezTo>
                  <a:pt x="201" y="384"/>
                  <a:pt x="198" y="390"/>
                  <a:pt x="197" y="396"/>
                </a:cubicBezTo>
                <a:cubicBezTo>
                  <a:pt x="185" y="450"/>
                  <a:pt x="176" y="494"/>
                  <a:pt x="143" y="540"/>
                </a:cubicBezTo>
                <a:cubicBezTo>
                  <a:pt x="120" y="572"/>
                  <a:pt x="100" y="596"/>
                  <a:pt x="89" y="636"/>
                </a:cubicBezTo>
                <a:cubicBezTo>
                  <a:pt x="83" y="656"/>
                  <a:pt x="71" y="696"/>
                  <a:pt x="71" y="696"/>
                </a:cubicBezTo>
                <a:cubicBezTo>
                  <a:pt x="79" y="805"/>
                  <a:pt x="72" y="784"/>
                  <a:pt x="185" y="792"/>
                </a:cubicBezTo>
                <a:cubicBezTo>
                  <a:pt x="219" y="809"/>
                  <a:pt x="248" y="835"/>
                  <a:pt x="281" y="852"/>
                </a:cubicBezTo>
                <a:cubicBezTo>
                  <a:pt x="316" y="870"/>
                  <a:pt x="385" y="868"/>
                  <a:pt x="413" y="870"/>
                </a:cubicBezTo>
                <a:cubicBezTo>
                  <a:pt x="497" y="868"/>
                  <a:pt x="581" y="868"/>
                  <a:pt x="665" y="864"/>
                </a:cubicBezTo>
                <a:cubicBezTo>
                  <a:pt x="700" y="862"/>
                  <a:pt x="732" y="829"/>
                  <a:pt x="761" y="810"/>
                </a:cubicBezTo>
                <a:cubicBezTo>
                  <a:pt x="788" y="792"/>
                  <a:pt x="825" y="800"/>
                  <a:pt x="857" y="798"/>
                </a:cubicBezTo>
                <a:cubicBezTo>
                  <a:pt x="894" y="786"/>
                  <a:pt x="920" y="764"/>
                  <a:pt x="941" y="732"/>
                </a:cubicBezTo>
                <a:cubicBezTo>
                  <a:pt x="937" y="681"/>
                  <a:pt x="940" y="631"/>
                  <a:pt x="911" y="588"/>
                </a:cubicBezTo>
                <a:cubicBezTo>
                  <a:pt x="904" y="555"/>
                  <a:pt x="894" y="520"/>
                  <a:pt x="875" y="492"/>
                </a:cubicBezTo>
                <a:cubicBezTo>
                  <a:pt x="865" y="440"/>
                  <a:pt x="874" y="356"/>
                  <a:pt x="815" y="336"/>
                </a:cubicBezTo>
                <a:cubicBezTo>
                  <a:pt x="808" y="314"/>
                  <a:pt x="747" y="255"/>
                  <a:pt x="725" y="240"/>
                </a:cubicBezTo>
                <a:cubicBezTo>
                  <a:pt x="716" y="212"/>
                  <a:pt x="691" y="210"/>
                  <a:pt x="671" y="186"/>
                </a:cubicBezTo>
                <a:cubicBezTo>
                  <a:pt x="647" y="157"/>
                  <a:pt x="643" y="123"/>
                  <a:pt x="611" y="102"/>
                </a:cubicBezTo>
                <a:cubicBezTo>
                  <a:pt x="591" y="72"/>
                  <a:pt x="565" y="71"/>
                  <a:pt x="533" y="60"/>
                </a:cubicBezTo>
                <a:cubicBezTo>
                  <a:pt x="509" y="62"/>
                  <a:pt x="483" y="57"/>
                  <a:pt x="461" y="66"/>
                </a:cubicBezTo>
                <a:cubicBezTo>
                  <a:pt x="447" y="71"/>
                  <a:pt x="457" y="101"/>
                  <a:pt x="443" y="108"/>
                </a:cubicBezTo>
                <a:cubicBezTo>
                  <a:pt x="423" y="118"/>
                  <a:pt x="399" y="119"/>
                  <a:pt x="377" y="126"/>
                </a:cubicBezTo>
                <a:cubicBezTo>
                  <a:pt x="334" y="169"/>
                  <a:pt x="323" y="228"/>
                  <a:pt x="299" y="282"/>
                </a:cubicBezTo>
                <a:cubicBezTo>
                  <a:pt x="294" y="294"/>
                  <a:pt x="294" y="307"/>
                  <a:pt x="287" y="318"/>
                </a:cubicBezTo>
                <a:cubicBezTo>
                  <a:pt x="279" y="330"/>
                  <a:pt x="263" y="354"/>
                  <a:pt x="263" y="354"/>
                </a:cubicBezTo>
                <a:cubicBezTo>
                  <a:pt x="257" y="380"/>
                  <a:pt x="254" y="407"/>
                  <a:pt x="245" y="432"/>
                </a:cubicBezTo>
                <a:cubicBezTo>
                  <a:pt x="238" y="450"/>
                  <a:pt x="224" y="468"/>
                  <a:pt x="215" y="486"/>
                </a:cubicBezTo>
                <a:cubicBezTo>
                  <a:pt x="188" y="539"/>
                  <a:pt x="201" y="561"/>
                  <a:pt x="143" y="600"/>
                </a:cubicBezTo>
                <a:cubicBezTo>
                  <a:pt x="141" y="606"/>
                  <a:pt x="138" y="612"/>
                  <a:pt x="137" y="618"/>
                </a:cubicBezTo>
                <a:cubicBezTo>
                  <a:pt x="134" y="638"/>
                  <a:pt x="137" y="659"/>
                  <a:pt x="131" y="678"/>
                </a:cubicBezTo>
                <a:cubicBezTo>
                  <a:pt x="125" y="698"/>
                  <a:pt x="108" y="712"/>
                  <a:pt x="101" y="732"/>
                </a:cubicBezTo>
                <a:cubicBezTo>
                  <a:pt x="115" y="773"/>
                  <a:pt x="163" y="759"/>
                  <a:pt x="203" y="762"/>
                </a:cubicBezTo>
                <a:cubicBezTo>
                  <a:pt x="216" y="765"/>
                  <a:pt x="254" y="774"/>
                  <a:pt x="263" y="780"/>
                </a:cubicBezTo>
                <a:cubicBezTo>
                  <a:pt x="285" y="794"/>
                  <a:pt x="299" y="810"/>
                  <a:pt x="323" y="822"/>
                </a:cubicBezTo>
                <a:cubicBezTo>
                  <a:pt x="342" y="850"/>
                  <a:pt x="369" y="868"/>
                  <a:pt x="401" y="876"/>
                </a:cubicBezTo>
                <a:cubicBezTo>
                  <a:pt x="437" y="874"/>
                  <a:pt x="474" y="877"/>
                  <a:pt x="509" y="870"/>
                </a:cubicBezTo>
                <a:cubicBezTo>
                  <a:pt x="540" y="863"/>
                  <a:pt x="561" y="823"/>
                  <a:pt x="587" y="810"/>
                </a:cubicBezTo>
                <a:cubicBezTo>
                  <a:pt x="622" y="793"/>
                  <a:pt x="699" y="794"/>
                  <a:pt x="731" y="792"/>
                </a:cubicBezTo>
                <a:cubicBezTo>
                  <a:pt x="743" y="788"/>
                  <a:pt x="756" y="787"/>
                  <a:pt x="767" y="780"/>
                </a:cubicBezTo>
                <a:cubicBezTo>
                  <a:pt x="773" y="776"/>
                  <a:pt x="779" y="771"/>
                  <a:pt x="785" y="768"/>
                </a:cubicBezTo>
                <a:cubicBezTo>
                  <a:pt x="813" y="754"/>
                  <a:pt x="842" y="756"/>
                  <a:pt x="869" y="738"/>
                </a:cubicBezTo>
                <a:cubicBezTo>
                  <a:pt x="896" y="684"/>
                  <a:pt x="887" y="707"/>
                  <a:pt x="899" y="672"/>
                </a:cubicBezTo>
                <a:cubicBezTo>
                  <a:pt x="892" y="599"/>
                  <a:pt x="871" y="544"/>
                  <a:pt x="839" y="480"/>
                </a:cubicBezTo>
                <a:cubicBezTo>
                  <a:pt x="836" y="452"/>
                  <a:pt x="840" y="421"/>
                  <a:pt x="827" y="396"/>
                </a:cubicBezTo>
                <a:cubicBezTo>
                  <a:pt x="815" y="371"/>
                  <a:pt x="781" y="359"/>
                  <a:pt x="761" y="342"/>
                </a:cubicBezTo>
                <a:cubicBezTo>
                  <a:pt x="735" y="319"/>
                  <a:pt x="691" y="282"/>
                  <a:pt x="671" y="252"/>
                </a:cubicBezTo>
                <a:cubicBezTo>
                  <a:pt x="660" y="236"/>
                  <a:pt x="657" y="228"/>
                  <a:pt x="641" y="216"/>
                </a:cubicBezTo>
                <a:cubicBezTo>
                  <a:pt x="616" y="196"/>
                  <a:pt x="594" y="191"/>
                  <a:pt x="569" y="174"/>
                </a:cubicBezTo>
                <a:cubicBezTo>
                  <a:pt x="547" y="141"/>
                  <a:pt x="545" y="132"/>
                  <a:pt x="509" y="120"/>
                </a:cubicBezTo>
                <a:cubicBezTo>
                  <a:pt x="499" y="122"/>
                  <a:pt x="488" y="121"/>
                  <a:pt x="479" y="126"/>
                </a:cubicBezTo>
                <a:cubicBezTo>
                  <a:pt x="450" y="142"/>
                  <a:pt x="453" y="173"/>
                  <a:pt x="431" y="192"/>
                </a:cubicBezTo>
                <a:cubicBezTo>
                  <a:pt x="420" y="201"/>
                  <a:pt x="407" y="208"/>
                  <a:pt x="395" y="216"/>
                </a:cubicBezTo>
                <a:cubicBezTo>
                  <a:pt x="389" y="220"/>
                  <a:pt x="377" y="228"/>
                  <a:pt x="377" y="228"/>
                </a:cubicBezTo>
                <a:cubicBezTo>
                  <a:pt x="367" y="242"/>
                  <a:pt x="355" y="255"/>
                  <a:pt x="347" y="270"/>
                </a:cubicBezTo>
                <a:cubicBezTo>
                  <a:pt x="341" y="281"/>
                  <a:pt x="335" y="306"/>
                  <a:pt x="335" y="306"/>
                </a:cubicBezTo>
                <a:cubicBezTo>
                  <a:pt x="332" y="336"/>
                  <a:pt x="342" y="372"/>
                  <a:pt x="323" y="396"/>
                </a:cubicBezTo>
                <a:cubicBezTo>
                  <a:pt x="308" y="415"/>
                  <a:pt x="286" y="427"/>
                  <a:pt x="269" y="444"/>
                </a:cubicBezTo>
                <a:cubicBezTo>
                  <a:pt x="263" y="450"/>
                  <a:pt x="251" y="462"/>
                  <a:pt x="251" y="462"/>
                </a:cubicBezTo>
                <a:cubicBezTo>
                  <a:pt x="239" y="521"/>
                  <a:pt x="235" y="574"/>
                  <a:pt x="191" y="618"/>
                </a:cubicBezTo>
                <a:cubicBezTo>
                  <a:pt x="184" y="638"/>
                  <a:pt x="182" y="659"/>
                  <a:pt x="173" y="678"/>
                </a:cubicBezTo>
                <a:cubicBezTo>
                  <a:pt x="167" y="691"/>
                  <a:pt x="149" y="714"/>
                  <a:pt x="149" y="714"/>
                </a:cubicBezTo>
                <a:cubicBezTo>
                  <a:pt x="157" y="748"/>
                  <a:pt x="165" y="746"/>
                  <a:pt x="197" y="738"/>
                </a:cubicBezTo>
                <a:cubicBezTo>
                  <a:pt x="262" y="747"/>
                  <a:pt x="296" y="779"/>
                  <a:pt x="353" y="798"/>
                </a:cubicBezTo>
                <a:cubicBezTo>
                  <a:pt x="377" y="822"/>
                  <a:pt x="394" y="850"/>
                  <a:pt x="425" y="858"/>
                </a:cubicBezTo>
                <a:cubicBezTo>
                  <a:pt x="501" y="853"/>
                  <a:pt x="527" y="864"/>
                  <a:pt x="575" y="816"/>
                </a:cubicBezTo>
                <a:cubicBezTo>
                  <a:pt x="585" y="787"/>
                  <a:pt x="573" y="773"/>
                  <a:pt x="605" y="762"/>
                </a:cubicBezTo>
                <a:cubicBezTo>
                  <a:pt x="672" y="772"/>
                  <a:pt x="725" y="779"/>
                  <a:pt x="791" y="762"/>
                </a:cubicBezTo>
                <a:cubicBezTo>
                  <a:pt x="797" y="754"/>
                  <a:pt x="805" y="747"/>
                  <a:pt x="809" y="738"/>
                </a:cubicBezTo>
                <a:cubicBezTo>
                  <a:pt x="815" y="723"/>
                  <a:pt x="821" y="690"/>
                  <a:pt x="821" y="690"/>
                </a:cubicBezTo>
                <a:cubicBezTo>
                  <a:pt x="826" y="623"/>
                  <a:pt x="846" y="545"/>
                  <a:pt x="821" y="480"/>
                </a:cubicBezTo>
                <a:cubicBezTo>
                  <a:pt x="800" y="424"/>
                  <a:pt x="784" y="431"/>
                  <a:pt x="749" y="396"/>
                </a:cubicBezTo>
                <a:cubicBezTo>
                  <a:pt x="728" y="375"/>
                  <a:pt x="719" y="361"/>
                  <a:pt x="695" y="348"/>
                </a:cubicBezTo>
                <a:cubicBezTo>
                  <a:pt x="695" y="348"/>
                  <a:pt x="640" y="323"/>
                  <a:pt x="629" y="312"/>
                </a:cubicBezTo>
                <a:cubicBezTo>
                  <a:pt x="593" y="276"/>
                  <a:pt x="561" y="245"/>
                  <a:pt x="515" y="222"/>
                </a:cubicBezTo>
                <a:cubicBezTo>
                  <a:pt x="500" y="177"/>
                  <a:pt x="474" y="215"/>
                  <a:pt x="455" y="234"/>
                </a:cubicBezTo>
                <a:cubicBezTo>
                  <a:pt x="451" y="246"/>
                  <a:pt x="449" y="259"/>
                  <a:pt x="443" y="270"/>
                </a:cubicBezTo>
                <a:cubicBezTo>
                  <a:pt x="439" y="278"/>
                  <a:pt x="434" y="286"/>
                  <a:pt x="431" y="294"/>
                </a:cubicBezTo>
                <a:cubicBezTo>
                  <a:pt x="414" y="339"/>
                  <a:pt x="413" y="390"/>
                  <a:pt x="377" y="426"/>
                </a:cubicBezTo>
                <a:cubicBezTo>
                  <a:pt x="359" y="444"/>
                  <a:pt x="341" y="462"/>
                  <a:pt x="323" y="480"/>
                </a:cubicBezTo>
                <a:cubicBezTo>
                  <a:pt x="313" y="490"/>
                  <a:pt x="307" y="504"/>
                  <a:pt x="299" y="516"/>
                </a:cubicBezTo>
                <a:cubicBezTo>
                  <a:pt x="295" y="522"/>
                  <a:pt x="287" y="534"/>
                  <a:pt x="287" y="534"/>
                </a:cubicBezTo>
                <a:cubicBezTo>
                  <a:pt x="278" y="568"/>
                  <a:pt x="270" y="587"/>
                  <a:pt x="245" y="612"/>
                </a:cubicBezTo>
                <a:cubicBezTo>
                  <a:pt x="238" y="632"/>
                  <a:pt x="215" y="666"/>
                  <a:pt x="215" y="666"/>
                </a:cubicBezTo>
                <a:cubicBezTo>
                  <a:pt x="205" y="724"/>
                  <a:pt x="218" y="707"/>
                  <a:pt x="281" y="714"/>
                </a:cubicBezTo>
                <a:cubicBezTo>
                  <a:pt x="293" y="718"/>
                  <a:pt x="305" y="722"/>
                  <a:pt x="317" y="726"/>
                </a:cubicBezTo>
                <a:cubicBezTo>
                  <a:pt x="323" y="728"/>
                  <a:pt x="335" y="732"/>
                  <a:pt x="335" y="732"/>
                </a:cubicBezTo>
                <a:cubicBezTo>
                  <a:pt x="341" y="740"/>
                  <a:pt x="360" y="768"/>
                  <a:pt x="371" y="774"/>
                </a:cubicBezTo>
                <a:cubicBezTo>
                  <a:pt x="382" y="780"/>
                  <a:pt x="407" y="786"/>
                  <a:pt x="407" y="786"/>
                </a:cubicBezTo>
                <a:cubicBezTo>
                  <a:pt x="441" y="784"/>
                  <a:pt x="475" y="784"/>
                  <a:pt x="509" y="780"/>
                </a:cubicBezTo>
                <a:cubicBezTo>
                  <a:pt x="525" y="778"/>
                  <a:pt x="557" y="768"/>
                  <a:pt x="557" y="768"/>
                </a:cubicBezTo>
                <a:cubicBezTo>
                  <a:pt x="608" y="734"/>
                  <a:pt x="553" y="766"/>
                  <a:pt x="683" y="750"/>
                </a:cubicBezTo>
                <a:cubicBezTo>
                  <a:pt x="696" y="748"/>
                  <a:pt x="707" y="742"/>
                  <a:pt x="719" y="738"/>
                </a:cubicBezTo>
                <a:cubicBezTo>
                  <a:pt x="725" y="736"/>
                  <a:pt x="737" y="732"/>
                  <a:pt x="737" y="732"/>
                </a:cubicBezTo>
                <a:cubicBezTo>
                  <a:pt x="747" y="702"/>
                  <a:pt x="765" y="679"/>
                  <a:pt x="773" y="648"/>
                </a:cubicBezTo>
                <a:cubicBezTo>
                  <a:pt x="771" y="594"/>
                  <a:pt x="771" y="540"/>
                  <a:pt x="767" y="486"/>
                </a:cubicBezTo>
                <a:cubicBezTo>
                  <a:pt x="766" y="470"/>
                  <a:pt x="744" y="433"/>
                  <a:pt x="731" y="426"/>
                </a:cubicBezTo>
                <a:cubicBezTo>
                  <a:pt x="652" y="381"/>
                  <a:pt x="756" y="469"/>
                  <a:pt x="665" y="408"/>
                </a:cubicBezTo>
                <a:cubicBezTo>
                  <a:pt x="640" y="391"/>
                  <a:pt x="653" y="399"/>
                  <a:pt x="623" y="384"/>
                </a:cubicBezTo>
                <a:cubicBezTo>
                  <a:pt x="596" y="344"/>
                  <a:pt x="549" y="315"/>
                  <a:pt x="503" y="300"/>
                </a:cubicBezTo>
                <a:cubicBezTo>
                  <a:pt x="463" y="340"/>
                  <a:pt x="456" y="388"/>
                  <a:pt x="431" y="438"/>
                </a:cubicBezTo>
                <a:cubicBezTo>
                  <a:pt x="413" y="475"/>
                  <a:pt x="379" y="499"/>
                  <a:pt x="359" y="534"/>
                </a:cubicBezTo>
                <a:cubicBezTo>
                  <a:pt x="335" y="575"/>
                  <a:pt x="333" y="603"/>
                  <a:pt x="293" y="630"/>
                </a:cubicBezTo>
                <a:cubicBezTo>
                  <a:pt x="285" y="647"/>
                  <a:pt x="261" y="682"/>
                  <a:pt x="281" y="702"/>
                </a:cubicBezTo>
                <a:cubicBezTo>
                  <a:pt x="296" y="717"/>
                  <a:pt x="323" y="713"/>
                  <a:pt x="341" y="726"/>
                </a:cubicBezTo>
                <a:cubicBezTo>
                  <a:pt x="362" y="741"/>
                  <a:pt x="387" y="784"/>
                  <a:pt x="407" y="798"/>
                </a:cubicBezTo>
                <a:cubicBezTo>
                  <a:pt x="418" y="805"/>
                  <a:pt x="431" y="806"/>
                  <a:pt x="443" y="810"/>
                </a:cubicBezTo>
                <a:cubicBezTo>
                  <a:pt x="449" y="812"/>
                  <a:pt x="461" y="816"/>
                  <a:pt x="461" y="816"/>
                </a:cubicBezTo>
                <a:cubicBezTo>
                  <a:pt x="471" y="755"/>
                  <a:pt x="469" y="736"/>
                  <a:pt x="533" y="720"/>
                </a:cubicBezTo>
                <a:cubicBezTo>
                  <a:pt x="577" y="727"/>
                  <a:pt x="602" y="732"/>
                  <a:pt x="647" y="726"/>
                </a:cubicBezTo>
                <a:cubicBezTo>
                  <a:pt x="670" y="703"/>
                  <a:pt x="696" y="689"/>
                  <a:pt x="719" y="666"/>
                </a:cubicBezTo>
                <a:cubicBezTo>
                  <a:pt x="728" y="640"/>
                  <a:pt x="736" y="615"/>
                  <a:pt x="743" y="588"/>
                </a:cubicBezTo>
                <a:cubicBezTo>
                  <a:pt x="738" y="546"/>
                  <a:pt x="733" y="507"/>
                  <a:pt x="689" y="492"/>
                </a:cubicBezTo>
                <a:cubicBezTo>
                  <a:pt x="642" y="445"/>
                  <a:pt x="702" y="501"/>
                  <a:pt x="647" y="462"/>
                </a:cubicBezTo>
                <a:cubicBezTo>
                  <a:pt x="629" y="449"/>
                  <a:pt x="612" y="425"/>
                  <a:pt x="593" y="414"/>
                </a:cubicBezTo>
                <a:cubicBezTo>
                  <a:pt x="582" y="408"/>
                  <a:pt x="557" y="402"/>
                  <a:pt x="557" y="402"/>
                </a:cubicBezTo>
                <a:cubicBezTo>
                  <a:pt x="547" y="404"/>
                  <a:pt x="535" y="402"/>
                  <a:pt x="527" y="408"/>
                </a:cubicBezTo>
                <a:cubicBezTo>
                  <a:pt x="520" y="413"/>
                  <a:pt x="520" y="424"/>
                  <a:pt x="515" y="432"/>
                </a:cubicBezTo>
                <a:cubicBezTo>
                  <a:pt x="501" y="454"/>
                  <a:pt x="485" y="474"/>
                  <a:pt x="467" y="492"/>
                </a:cubicBezTo>
                <a:cubicBezTo>
                  <a:pt x="450" y="543"/>
                  <a:pt x="407" y="560"/>
                  <a:pt x="365" y="588"/>
                </a:cubicBezTo>
                <a:cubicBezTo>
                  <a:pt x="346" y="617"/>
                  <a:pt x="322" y="671"/>
                  <a:pt x="353" y="702"/>
                </a:cubicBezTo>
                <a:cubicBezTo>
                  <a:pt x="371" y="720"/>
                  <a:pt x="405" y="706"/>
                  <a:pt x="431" y="708"/>
                </a:cubicBezTo>
                <a:cubicBezTo>
                  <a:pt x="445" y="715"/>
                  <a:pt x="457" y="730"/>
                  <a:pt x="473" y="732"/>
                </a:cubicBezTo>
                <a:cubicBezTo>
                  <a:pt x="537" y="739"/>
                  <a:pt x="596" y="679"/>
                  <a:pt x="653" y="660"/>
                </a:cubicBezTo>
                <a:cubicBezTo>
                  <a:pt x="667" y="617"/>
                  <a:pt x="658" y="635"/>
                  <a:pt x="677" y="606"/>
                </a:cubicBezTo>
                <a:cubicBezTo>
                  <a:pt x="675" y="588"/>
                  <a:pt x="675" y="570"/>
                  <a:pt x="671" y="552"/>
                </a:cubicBezTo>
                <a:cubicBezTo>
                  <a:pt x="665" y="529"/>
                  <a:pt x="612" y="469"/>
                  <a:pt x="593" y="456"/>
                </a:cubicBezTo>
                <a:cubicBezTo>
                  <a:pt x="561" y="467"/>
                  <a:pt x="580" y="458"/>
                  <a:pt x="539" y="486"/>
                </a:cubicBezTo>
                <a:cubicBezTo>
                  <a:pt x="533" y="490"/>
                  <a:pt x="521" y="498"/>
                  <a:pt x="521" y="498"/>
                </a:cubicBezTo>
                <a:cubicBezTo>
                  <a:pt x="508" y="538"/>
                  <a:pt x="455" y="564"/>
                  <a:pt x="425" y="594"/>
                </a:cubicBezTo>
                <a:cubicBezTo>
                  <a:pt x="410" y="639"/>
                  <a:pt x="432" y="585"/>
                  <a:pt x="401" y="624"/>
                </a:cubicBezTo>
                <a:cubicBezTo>
                  <a:pt x="390" y="638"/>
                  <a:pt x="383" y="667"/>
                  <a:pt x="377" y="684"/>
                </a:cubicBezTo>
                <a:cubicBezTo>
                  <a:pt x="403" y="701"/>
                  <a:pt x="418" y="695"/>
                  <a:pt x="443" y="678"/>
                </a:cubicBezTo>
                <a:cubicBezTo>
                  <a:pt x="467" y="680"/>
                  <a:pt x="491" y="680"/>
                  <a:pt x="515" y="684"/>
                </a:cubicBezTo>
                <a:cubicBezTo>
                  <a:pt x="527" y="686"/>
                  <a:pt x="551" y="696"/>
                  <a:pt x="551" y="696"/>
                </a:cubicBezTo>
                <a:cubicBezTo>
                  <a:pt x="599" y="676"/>
                  <a:pt x="598" y="675"/>
                  <a:pt x="611" y="630"/>
                </a:cubicBezTo>
                <a:cubicBezTo>
                  <a:pt x="615" y="618"/>
                  <a:pt x="619" y="606"/>
                  <a:pt x="623" y="594"/>
                </a:cubicBezTo>
                <a:cubicBezTo>
                  <a:pt x="625" y="588"/>
                  <a:pt x="629" y="576"/>
                  <a:pt x="629" y="576"/>
                </a:cubicBezTo>
                <a:cubicBezTo>
                  <a:pt x="616" y="537"/>
                  <a:pt x="626" y="548"/>
                  <a:pt x="551" y="570"/>
                </a:cubicBezTo>
                <a:cubicBezTo>
                  <a:pt x="513" y="581"/>
                  <a:pt x="479" y="612"/>
                  <a:pt x="443" y="630"/>
                </a:cubicBezTo>
                <a:cubicBezTo>
                  <a:pt x="415" y="672"/>
                  <a:pt x="470" y="651"/>
                  <a:pt x="497" y="648"/>
                </a:cubicBezTo>
                <a:cubicBezTo>
                  <a:pt x="537" y="622"/>
                  <a:pt x="527" y="637"/>
                  <a:pt x="539" y="612"/>
                </a:cubicBezTo>
              </a:path>
            </a:pathLst>
          </a:custGeom>
          <a:noFill/>
          <a:ln w="76320">
            <a:solidFill>
              <a:srgbClr val="99ff66"/>
            </a:solidFill>
            <a:roun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31" name=""/>
          <p:cNvSpPr/>
          <p:nvPr/>
        </p:nvSpPr>
        <p:spPr>
          <a:xfrm>
            <a:off x="3781440" y="3324240"/>
            <a:ext cx="1535040" cy="1485720"/>
          </a:xfrm>
          <a:custGeom>
            <a:avLst/>
            <a:gdLst/>
            <a:ahLst/>
            <a:rect l="l" t="t" r="r" b="b"/>
            <a:pathLst>
              <a:path w="967" h="936">
                <a:moveTo>
                  <a:pt x="0" y="714"/>
                </a:moveTo>
                <a:cubicBezTo>
                  <a:pt x="74" y="739"/>
                  <a:pt x="50" y="838"/>
                  <a:pt x="108" y="876"/>
                </a:cubicBezTo>
                <a:cubicBezTo>
                  <a:pt x="106" y="850"/>
                  <a:pt x="105" y="824"/>
                  <a:pt x="102" y="798"/>
                </a:cubicBezTo>
                <a:cubicBezTo>
                  <a:pt x="98" y="760"/>
                  <a:pt x="81" y="727"/>
                  <a:pt x="72" y="690"/>
                </a:cubicBezTo>
                <a:cubicBezTo>
                  <a:pt x="66" y="668"/>
                  <a:pt x="68" y="642"/>
                  <a:pt x="54" y="624"/>
                </a:cubicBezTo>
                <a:cubicBezTo>
                  <a:pt x="46" y="613"/>
                  <a:pt x="30" y="610"/>
                  <a:pt x="18" y="606"/>
                </a:cubicBezTo>
                <a:cubicBezTo>
                  <a:pt x="40" y="628"/>
                  <a:pt x="46" y="656"/>
                  <a:pt x="60" y="684"/>
                </a:cubicBezTo>
                <a:cubicBezTo>
                  <a:pt x="71" y="747"/>
                  <a:pt x="107" y="857"/>
                  <a:pt x="162" y="894"/>
                </a:cubicBezTo>
                <a:cubicBezTo>
                  <a:pt x="174" y="835"/>
                  <a:pt x="153" y="757"/>
                  <a:pt x="126" y="702"/>
                </a:cubicBezTo>
                <a:cubicBezTo>
                  <a:pt x="118" y="642"/>
                  <a:pt x="149" y="522"/>
                  <a:pt x="78" y="498"/>
                </a:cubicBezTo>
                <a:cubicBezTo>
                  <a:pt x="86" y="532"/>
                  <a:pt x="114" y="563"/>
                  <a:pt x="132" y="594"/>
                </a:cubicBezTo>
                <a:cubicBezTo>
                  <a:pt x="140" y="626"/>
                  <a:pt x="161" y="648"/>
                  <a:pt x="174" y="678"/>
                </a:cubicBezTo>
                <a:cubicBezTo>
                  <a:pt x="185" y="703"/>
                  <a:pt x="192" y="731"/>
                  <a:pt x="204" y="756"/>
                </a:cubicBezTo>
                <a:cubicBezTo>
                  <a:pt x="215" y="779"/>
                  <a:pt x="237" y="795"/>
                  <a:pt x="252" y="816"/>
                </a:cubicBezTo>
                <a:cubicBezTo>
                  <a:pt x="274" y="847"/>
                  <a:pt x="289" y="879"/>
                  <a:pt x="306" y="912"/>
                </a:cubicBezTo>
                <a:cubicBezTo>
                  <a:pt x="299" y="853"/>
                  <a:pt x="296" y="776"/>
                  <a:pt x="258" y="726"/>
                </a:cubicBezTo>
                <a:cubicBezTo>
                  <a:pt x="246" y="689"/>
                  <a:pt x="226" y="656"/>
                  <a:pt x="216" y="618"/>
                </a:cubicBezTo>
                <a:cubicBezTo>
                  <a:pt x="206" y="578"/>
                  <a:pt x="199" y="538"/>
                  <a:pt x="192" y="498"/>
                </a:cubicBezTo>
                <a:cubicBezTo>
                  <a:pt x="184" y="452"/>
                  <a:pt x="176" y="401"/>
                  <a:pt x="126" y="384"/>
                </a:cubicBezTo>
                <a:cubicBezTo>
                  <a:pt x="106" y="444"/>
                  <a:pt x="155" y="519"/>
                  <a:pt x="186" y="570"/>
                </a:cubicBezTo>
                <a:cubicBezTo>
                  <a:pt x="194" y="602"/>
                  <a:pt x="207" y="620"/>
                  <a:pt x="222" y="648"/>
                </a:cubicBezTo>
                <a:cubicBezTo>
                  <a:pt x="243" y="685"/>
                  <a:pt x="258" y="726"/>
                  <a:pt x="282" y="762"/>
                </a:cubicBezTo>
                <a:cubicBezTo>
                  <a:pt x="293" y="779"/>
                  <a:pt x="304" y="796"/>
                  <a:pt x="318" y="810"/>
                </a:cubicBezTo>
                <a:cubicBezTo>
                  <a:pt x="324" y="816"/>
                  <a:pt x="331" y="821"/>
                  <a:pt x="336" y="828"/>
                </a:cubicBezTo>
                <a:cubicBezTo>
                  <a:pt x="362" y="864"/>
                  <a:pt x="373" y="903"/>
                  <a:pt x="408" y="930"/>
                </a:cubicBezTo>
                <a:cubicBezTo>
                  <a:pt x="388" y="869"/>
                  <a:pt x="369" y="809"/>
                  <a:pt x="342" y="750"/>
                </a:cubicBezTo>
                <a:cubicBezTo>
                  <a:pt x="309" y="679"/>
                  <a:pt x="271" y="611"/>
                  <a:pt x="252" y="534"/>
                </a:cubicBezTo>
                <a:cubicBezTo>
                  <a:pt x="250" y="480"/>
                  <a:pt x="251" y="426"/>
                  <a:pt x="246" y="372"/>
                </a:cubicBezTo>
                <a:cubicBezTo>
                  <a:pt x="243" y="345"/>
                  <a:pt x="191" y="336"/>
                  <a:pt x="174" y="330"/>
                </a:cubicBezTo>
                <a:cubicBezTo>
                  <a:pt x="168" y="328"/>
                  <a:pt x="156" y="324"/>
                  <a:pt x="156" y="324"/>
                </a:cubicBezTo>
                <a:cubicBezTo>
                  <a:pt x="183" y="379"/>
                  <a:pt x="218" y="429"/>
                  <a:pt x="252" y="480"/>
                </a:cubicBezTo>
                <a:cubicBezTo>
                  <a:pt x="272" y="510"/>
                  <a:pt x="280" y="554"/>
                  <a:pt x="294" y="588"/>
                </a:cubicBezTo>
                <a:cubicBezTo>
                  <a:pt x="307" y="619"/>
                  <a:pt x="322" y="648"/>
                  <a:pt x="336" y="678"/>
                </a:cubicBezTo>
                <a:cubicBezTo>
                  <a:pt x="341" y="690"/>
                  <a:pt x="341" y="703"/>
                  <a:pt x="348" y="714"/>
                </a:cubicBezTo>
                <a:cubicBezTo>
                  <a:pt x="379" y="760"/>
                  <a:pt x="422" y="806"/>
                  <a:pt x="462" y="846"/>
                </a:cubicBezTo>
                <a:cubicBezTo>
                  <a:pt x="469" y="868"/>
                  <a:pt x="484" y="877"/>
                  <a:pt x="492" y="900"/>
                </a:cubicBezTo>
                <a:cubicBezTo>
                  <a:pt x="496" y="912"/>
                  <a:pt x="504" y="936"/>
                  <a:pt x="504" y="936"/>
                </a:cubicBezTo>
                <a:cubicBezTo>
                  <a:pt x="495" y="875"/>
                  <a:pt x="479" y="822"/>
                  <a:pt x="450" y="768"/>
                </a:cubicBezTo>
                <a:cubicBezTo>
                  <a:pt x="439" y="747"/>
                  <a:pt x="426" y="728"/>
                  <a:pt x="414" y="708"/>
                </a:cubicBezTo>
                <a:cubicBezTo>
                  <a:pt x="408" y="698"/>
                  <a:pt x="396" y="678"/>
                  <a:pt x="396" y="678"/>
                </a:cubicBezTo>
                <a:cubicBezTo>
                  <a:pt x="381" y="620"/>
                  <a:pt x="340" y="582"/>
                  <a:pt x="318" y="528"/>
                </a:cubicBezTo>
                <a:cubicBezTo>
                  <a:pt x="301" y="486"/>
                  <a:pt x="293" y="439"/>
                  <a:pt x="282" y="396"/>
                </a:cubicBezTo>
                <a:cubicBezTo>
                  <a:pt x="278" y="379"/>
                  <a:pt x="264" y="365"/>
                  <a:pt x="258" y="348"/>
                </a:cubicBezTo>
                <a:cubicBezTo>
                  <a:pt x="246" y="315"/>
                  <a:pt x="242" y="282"/>
                  <a:pt x="222" y="252"/>
                </a:cubicBezTo>
                <a:cubicBezTo>
                  <a:pt x="230" y="303"/>
                  <a:pt x="257" y="340"/>
                  <a:pt x="282" y="384"/>
                </a:cubicBezTo>
                <a:cubicBezTo>
                  <a:pt x="293" y="403"/>
                  <a:pt x="304" y="423"/>
                  <a:pt x="312" y="444"/>
                </a:cubicBezTo>
                <a:cubicBezTo>
                  <a:pt x="316" y="454"/>
                  <a:pt x="319" y="465"/>
                  <a:pt x="324" y="474"/>
                </a:cubicBezTo>
                <a:cubicBezTo>
                  <a:pt x="362" y="544"/>
                  <a:pt x="420" y="599"/>
                  <a:pt x="462" y="666"/>
                </a:cubicBezTo>
                <a:cubicBezTo>
                  <a:pt x="487" y="706"/>
                  <a:pt x="516" y="741"/>
                  <a:pt x="540" y="780"/>
                </a:cubicBezTo>
                <a:cubicBezTo>
                  <a:pt x="547" y="792"/>
                  <a:pt x="559" y="802"/>
                  <a:pt x="564" y="816"/>
                </a:cubicBezTo>
                <a:cubicBezTo>
                  <a:pt x="566" y="822"/>
                  <a:pt x="574" y="838"/>
                  <a:pt x="570" y="834"/>
                </a:cubicBezTo>
                <a:cubicBezTo>
                  <a:pt x="518" y="782"/>
                  <a:pt x="493" y="702"/>
                  <a:pt x="468" y="636"/>
                </a:cubicBezTo>
                <a:cubicBezTo>
                  <a:pt x="453" y="597"/>
                  <a:pt x="431" y="560"/>
                  <a:pt x="414" y="522"/>
                </a:cubicBezTo>
                <a:cubicBezTo>
                  <a:pt x="394" y="476"/>
                  <a:pt x="409" y="490"/>
                  <a:pt x="390" y="438"/>
                </a:cubicBezTo>
                <a:cubicBezTo>
                  <a:pt x="388" y="431"/>
                  <a:pt x="381" y="427"/>
                  <a:pt x="378" y="420"/>
                </a:cubicBezTo>
                <a:cubicBezTo>
                  <a:pt x="373" y="408"/>
                  <a:pt x="370" y="396"/>
                  <a:pt x="366" y="384"/>
                </a:cubicBezTo>
                <a:cubicBezTo>
                  <a:pt x="347" y="326"/>
                  <a:pt x="337" y="214"/>
                  <a:pt x="270" y="192"/>
                </a:cubicBezTo>
                <a:cubicBezTo>
                  <a:pt x="255" y="237"/>
                  <a:pt x="295" y="310"/>
                  <a:pt x="312" y="354"/>
                </a:cubicBezTo>
                <a:cubicBezTo>
                  <a:pt x="332" y="403"/>
                  <a:pt x="342" y="459"/>
                  <a:pt x="372" y="504"/>
                </a:cubicBezTo>
                <a:cubicBezTo>
                  <a:pt x="409" y="560"/>
                  <a:pt x="445" y="619"/>
                  <a:pt x="486" y="672"/>
                </a:cubicBezTo>
                <a:cubicBezTo>
                  <a:pt x="493" y="681"/>
                  <a:pt x="503" y="687"/>
                  <a:pt x="510" y="696"/>
                </a:cubicBezTo>
                <a:cubicBezTo>
                  <a:pt x="519" y="707"/>
                  <a:pt x="526" y="720"/>
                  <a:pt x="534" y="732"/>
                </a:cubicBezTo>
                <a:cubicBezTo>
                  <a:pt x="543" y="746"/>
                  <a:pt x="560" y="754"/>
                  <a:pt x="570" y="768"/>
                </a:cubicBezTo>
                <a:cubicBezTo>
                  <a:pt x="591" y="796"/>
                  <a:pt x="611" y="821"/>
                  <a:pt x="636" y="846"/>
                </a:cubicBezTo>
                <a:cubicBezTo>
                  <a:pt x="643" y="853"/>
                  <a:pt x="653" y="857"/>
                  <a:pt x="660" y="864"/>
                </a:cubicBezTo>
                <a:cubicBezTo>
                  <a:pt x="670" y="875"/>
                  <a:pt x="684" y="900"/>
                  <a:pt x="684" y="900"/>
                </a:cubicBezTo>
                <a:cubicBezTo>
                  <a:pt x="671" y="807"/>
                  <a:pt x="622" y="770"/>
                  <a:pt x="582" y="690"/>
                </a:cubicBezTo>
                <a:cubicBezTo>
                  <a:pt x="542" y="610"/>
                  <a:pt x="503" y="530"/>
                  <a:pt x="474" y="444"/>
                </a:cubicBezTo>
                <a:cubicBezTo>
                  <a:pt x="467" y="395"/>
                  <a:pt x="454" y="306"/>
                  <a:pt x="426" y="264"/>
                </a:cubicBezTo>
                <a:cubicBezTo>
                  <a:pt x="412" y="208"/>
                  <a:pt x="376" y="179"/>
                  <a:pt x="324" y="162"/>
                </a:cubicBezTo>
                <a:cubicBezTo>
                  <a:pt x="322" y="150"/>
                  <a:pt x="318" y="114"/>
                  <a:pt x="318" y="126"/>
                </a:cubicBezTo>
                <a:cubicBezTo>
                  <a:pt x="318" y="222"/>
                  <a:pt x="386" y="298"/>
                  <a:pt x="444" y="366"/>
                </a:cubicBezTo>
                <a:cubicBezTo>
                  <a:pt x="461" y="386"/>
                  <a:pt x="473" y="407"/>
                  <a:pt x="492" y="426"/>
                </a:cubicBezTo>
                <a:cubicBezTo>
                  <a:pt x="504" y="456"/>
                  <a:pt x="515" y="478"/>
                  <a:pt x="534" y="504"/>
                </a:cubicBezTo>
                <a:cubicBezTo>
                  <a:pt x="548" y="559"/>
                  <a:pt x="579" y="611"/>
                  <a:pt x="594" y="666"/>
                </a:cubicBezTo>
                <a:cubicBezTo>
                  <a:pt x="606" y="709"/>
                  <a:pt x="611" y="754"/>
                  <a:pt x="636" y="792"/>
                </a:cubicBezTo>
                <a:cubicBezTo>
                  <a:pt x="646" y="833"/>
                  <a:pt x="691" y="880"/>
                  <a:pt x="732" y="894"/>
                </a:cubicBezTo>
                <a:cubicBezTo>
                  <a:pt x="730" y="872"/>
                  <a:pt x="732" y="849"/>
                  <a:pt x="726" y="828"/>
                </a:cubicBezTo>
                <a:cubicBezTo>
                  <a:pt x="715" y="787"/>
                  <a:pt x="674" y="729"/>
                  <a:pt x="654" y="690"/>
                </a:cubicBezTo>
                <a:cubicBezTo>
                  <a:pt x="636" y="653"/>
                  <a:pt x="629" y="610"/>
                  <a:pt x="606" y="576"/>
                </a:cubicBezTo>
                <a:cubicBezTo>
                  <a:pt x="589" y="510"/>
                  <a:pt x="584" y="430"/>
                  <a:pt x="546" y="372"/>
                </a:cubicBezTo>
                <a:cubicBezTo>
                  <a:pt x="535" y="328"/>
                  <a:pt x="499" y="295"/>
                  <a:pt x="462" y="270"/>
                </a:cubicBezTo>
                <a:cubicBezTo>
                  <a:pt x="451" y="237"/>
                  <a:pt x="437" y="207"/>
                  <a:pt x="426" y="174"/>
                </a:cubicBezTo>
                <a:cubicBezTo>
                  <a:pt x="414" y="139"/>
                  <a:pt x="424" y="109"/>
                  <a:pt x="384" y="96"/>
                </a:cubicBezTo>
                <a:cubicBezTo>
                  <a:pt x="350" y="46"/>
                  <a:pt x="368" y="116"/>
                  <a:pt x="372" y="126"/>
                </a:cubicBezTo>
                <a:cubicBezTo>
                  <a:pt x="385" y="156"/>
                  <a:pt x="414" y="178"/>
                  <a:pt x="432" y="204"/>
                </a:cubicBezTo>
                <a:cubicBezTo>
                  <a:pt x="443" y="219"/>
                  <a:pt x="451" y="248"/>
                  <a:pt x="456" y="264"/>
                </a:cubicBezTo>
                <a:cubicBezTo>
                  <a:pt x="465" y="290"/>
                  <a:pt x="488" y="308"/>
                  <a:pt x="504" y="330"/>
                </a:cubicBezTo>
                <a:cubicBezTo>
                  <a:pt x="539" y="376"/>
                  <a:pt x="559" y="433"/>
                  <a:pt x="594" y="480"/>
                </a:cubicBezTo>
                <a:cubicBezTo>
                  <a:pt x="617" y="548"/>
                  <a:pt x="670" y="585"/>
                  <a:pt x="708" y="642"/>
                </a:cubicBezTo>
                <a:cubicBezTo>
                  <a:pt x="714" y="720"/>
                  <a:pt x="723" y="803"/>
                  <a:pt x="768" y="870"/>
                </a:cubicBezTo>
                <a:cubicBezTo>
                  <a:pt x="775" y="897"/>
                  <a:pt x="777" y="909"/>
                  <a:pt x="804" y="918"/>
                </a:cubicBezTo>
                <a:cubicBezTo>
                  <a:pt x="827" y="849"/>
                  <a:pt x="790" y="780"/>
                  <a:pt x="750" y="726"/>
                </a:cubicBezTo>
                <a:cubicBezTo>
                  <a:pt x="739" y="693"/>
                  <a:pt x="719" y="663"/>
                  <a:pt x="708" y="630"/>
                </a:cubicBezTo>
                <a:cubicBezTo>
                  <a:pt x="687" y="568"/>
                  <a:pt x="689" y="496"/>
                  <a:pt x="660" y="438"/>
                </a:cubicBezTo>
                <a:cubicBezTo>
                  <a:pt x="641" y="342"/>
                  <a:pt x="576" y="254"/>
                  <a:pt x="522" y="174"/>
                </a:cubicBezTo>
                <a:cubicBezTo>
                  <a:pt x="513" y="160"/>
                  <a:pt x="498" y="150"/>
                  <a:pt x="486" y="138"/>
                </a:cubicBezTo>
                <a:cubicBezTo>
                  <a:pt x="466" y="118"/>
                  <a:pt x="463" y="100"/>
                  <a:pt x="450" y="78"/>
                </a:cubicBezTo>
                <a:cubicBezTo>
                  <a:pt x="441" y="63"/>
                  <a:pt x="425" y="46"/>
                  <a:pt x="432" y="42"/>
                </a:cubicBezTo>
                <a:cubicBezTo>
                  <a:pt x="438" y="39"/>
                  <a:pt x="445" y="49"/>
                  <a:pt x="450" y="54"/>
                </a:cubicBezTo>
                <a:cubicBezTo>
                  <a:pt x="490" y="98"/>
                  <a:pt x="508" y="150"/>
                  <a:pt x="540" y="198"/>
                </a:cubicBezTo>
                <a:cubicBezTo>
                  <a:pt x="553" y="252"/>
                  <a:pt x="566" y="307"/>
                  <a:pt x="582" y="360"/>
                </a:cubicBezTo>
                <a:cubicBezTo>
                  <a:pt x="591" y="390"/>
                  <a:pt x="608" y="414"/>
                  <a:pt x="618" y="444"/>
                </a:cubicBezTo>
                <a:cubicBezTo>
                  <a:pt x="623" y="458"/>
                  <a:pt x="634" y="468"/>
                  <a:pt x="642" y="480"/>
                </a:cubicBezTo>
                <a:cubicBezTo>
                  <a:pt x="646" y="485"/>
                  <a:pt x="644" y="493"/>
                  <a:pt x="648" y="498"/>
                </a:cubicBezTo>
                <a:cubicBezTo>
                  <a:pt x="681" y="545"/>
                  <a:pt x="730" y="590"/>
                  <a:pt x="756" y="642"/>
                </a:cubicBezTo>
                <a:cubicBezTo>
                  <a:pt x="779" y="688"/>
                  <a:pt x="790" y="739"/>
                  <a:pt x="810" y="786"/>
                </a:cubicBezTo>
                <a:cubicBezTo>
                  <a:pt x="824" y="818"/>
                  <a:pt x="841" y="850"/>
                  <a:pt x="852" y="882"/>
                </a:cubicBezTo>
                <a:cubicBezTo>
                  <a:pt x="848" y="836"/>
                  <a:pt x="845" y="790"/>
                  <a:pt x="840" y="744"/>
                </a:cubicBezTo>
                <a:cubicBezTo>
                  <a:pt x="835" y="700"/>
                  <a:pt x="831" y="655"/>
                  <a:pt x="822" y="612"/>
                </a:cubicBezTo>
                <a:cubicBezTo>
                  <a:pt x="805" y="535"/>
                  <a:pt x="806" y="449"/>
                  <a:pt x="762" y="384"/>
                </a:cubicBezTo>
                <a:cubicBezTo>
                  <a:pt x="729" y="334"/>
                  <a:pt x="707" y="279"/>
                  <a:pt x="678" y="228"/>
                </a:cubicBezTo>
                <a:cubicBezTo>
                  <a:pt x="669" y="212"/>
                  <a:pt x="652" y="202"/>
                  <a:pt x="642" y="186"/>
                </a:cubicBezTo>
                <a:cubicBezTo>
                  <a:pt x="617" y="146"/>
                  <a:pt x="581" y="103"/>
                  <a:pt x="540" y="78"/>
                </a:cubicBezTo>
                <a:cubicBezTo>
                  <a:pt x="526" y="56"/>
                  <a:pt x="507" y="39"/>
                  <a:pt x="492" y="18"/>
                </a:cubicBezTo>
                <a:cubicBezTo>
                  <a:pt x="488" y="12"/>
                  <a:pt x="487" y="0"/>
                  <a:pt x="480" y="0"/>
                </a:cubicBezTo>
                <a:cubicBezTo>
                  <a:pt x="474" y="0"/>
                  <a:pt x="483" y="12"/>
                  <a:pt x="486" y="18"/>
                </a:cubicBezTo>
                <a:cubicBezTo>
                  <a:pt x="509" y="61"/>
                  <a:pt x="541" y="115"/>
                  <a:pt x="576" y="150"/>
                </a:cubicBezTo>
                <a:cubicBezTo>
                  <a:pt x="588" y="198"/>
                  <a:pt x="617" y="232"/>
                  <a:pt x="636" y="276"/>
                </a:cubicBezTo>
                <a:cubicBezTo>
                  <a:pt x="668" y="350"/>
                  <a:pt x="694" y="421"/>
                  <a:pt x="732" y="492"/>
                </a:cubicBezTo>
                <a:cubicBezTo>
                  <a:pt x="751" y="527"/>
                  <a:pt x="759" y="555"/>
                  <a:pt x="786" y="582"/>
                </a:cubicBezTo>
                <a:cubicBezTo>
                  <a:pt x="793" y="604"/>
                  <a:pt x="805" y="628"/>
                  <a:pt x="816" y="648"/>
                </a:cubicBezTo>
                <a:cubicBezTo>
                  <a:pt x="823" y="661"/>
                  <a:pt x="835" y="670"/>
                  <a:pt x="840" y="684"/>
                </a:cubicBezTo>
                <a:cubicBezTo>
                  <a:pt x="856" y="731"/>
                  <a:pt x="881" y="786"/>
                  <a:pt x="906" y="828"/>
                </a:cubicBezTo>
                <a:cubicBezTo>
                  <a:pt x="924" y="774"/>
                  <a:pt x="902" y="711"/>
                  <a:pt x="882" y="660"/>
                </a:cubicBezTo>
                <a:cubicBezTo>
                  <a:pt x="848" y="576"/>
                  <a:pt x="824" y="489"/>
                  <a:pt x="798" y="402"/>
                </a:cubicBezTo>
                <a:cubicBezTo>
                  <a:pt x="777" y="332"/>
                  <a:pt x="769" y="273"/>
                  <a:pt x="720" y="216"/>
                </a:cubicBezTo>
                <a:cubicBezTo>
                  <a:pt x="713" y="208"/>
                  <a:pt x="709" y="199"/>
                  <a:pt x="702" y="192"/>
                </a:cubicBezTo>
                <a:cubicBezTo>
                  <a:pt x="695" y="185"/>
                  <a:pt x="685" y="181"/>
                  <a:pt x="678" y="174"/>
                </a:cubicBezTo>
                <a:cubicBezTo>
                  <a:pt x="654" y="147"/>
                  <a:pt x="627" y="100"/>
                  <a:pt x="606" y="72"/>
                </a:cubicBezTo>
                <a:cubicBezTo>
                  <a:pt x="593" y="55"/>
                  <a:pt x="570" y="48"/>
                  <a:pt x="552" y="36"/>
                </a:cubicBezTo>
                <a:cubicBezTo>
                  <a:pt x="540" y="28"/>
                  <a:pt x="516" y="12"/>
                  <a:pt x="516" y="12"/>
                </a:cubicBezTo>
                <a:cubicBezTo>
                  <a:pt x="540" y="47"/>
                  <a:pt x="572" y="76"/>
                  <a:pt x="600" y="108"/>
                </a:cubicBezTo>
                <a:cubicBezTo>
                  <a:pt x="626" y="138"/>
                  <a:pt x="639" y="176"/>
                  <a:pt x="672" y="198"/>
                </a:cubicBezTo>
                <a:cubicBezTo>
                  <a:pt x="689" y="232"/>
                  <a:pt x="709" y="264"/>
                  <a:pt x="732" y="294"/>
                </a:cubicBezTo>
                <a:cubicBezTo>
                  <a:pt x="746" y="349"/>
                  <a:pt x="813" y="426"/>
                  <a:pt x="858" y="462"/>
                </a:cubicBezTo>
                <a:cubicBezTo>
                  <a:pt x="878" y="522"/>
                  <a:pt x="917" y="578"/>
                  <a:pt x="942" y="636"/>
                </a:cubicBezTo>
                <a:cubicBezTo>
                  <a:pt x="952" y="658"/>
                  <a:pt x="955" y="684"/>
                  <a:pt x="960" y="708"/>
                </a:cubicBezTo>
                <a:cubicBezTo>
                  <a:pt x="963" y="720"/>
                  <a:pt x="967" y="756"/>
                  <a:pt x="966" y="744"/>
                </a:cubicBezTo>
                <a:cubicBezTo>
                  <a:pt x="963" y="706"/>
                  <a:pt x="957" y="635"/>
                  <a:pt x="948" y="588"/>
                </a:cubicBezTo>
                <a:cubicBezTo>
                  <a:pt x="943" y="564"/>
                  <a:pt x="930" y="551"/>
                  <a:pt x="924" y="528"/>
                </a:cubicBezTo>
                <a:cubicBezTo>
                  <a:pt x="895" y="422"/>
                  <a:pt x="838" y="313"/>
                  <a:pt x="768" y="228"/>
                </a:cubicBezTo>
                <a:cubicBezTo>
                  <a:pt x="768" y="228"/>
                  <a:pt x="723" y="183"/>
                  <a:pt x="714" y="174"/>
                </a:cubicBezTo>
                <a:cubicBezTo>
                  <a:pt x="675" y="135"/>
                  <a:pt x="646" y="88"/>
                  <a:pt x="606" y="48"/>
                </a:cubicBezTo>
                <a:cubicBezTo>
                  <a:pt x="582" y="24"/>
                  <a:pt x="588" y="48"/>
                  <a:pt x="552" y="24"/>
                </a:cubicBezTo>
                <a:cubicBezTo>
                  <a:pt x="546" y="20"/>
                  <a:pt x="534" y="12"/>
                  <a:pt x="534" y="12"/>
                </a:cubicBezTo>
              </a:path>
            </a:pathLst>
          </a:custGeom>
          <a:noFill/>
          <a:ln w="76320">
            <a:solidFill>
              <a:srgbClr val="99ff66"/>
            </a:solidFill>
            <a:roun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32" name=""/>
          <p:cNvSpPr/>
          <p:nvPr/>
        </p:nvSpPr>
        <p:spPr>
          <a:xfrm>
            <a:off x="3772080" y="3333600"/>
            <a:ext cx="1641240" cy="1457640"/>
          </a:xfrm>
          <a:custGeom>
            <a:avLst/>
            <a:gdLst/>
            <a:ahLst/>
            <a:rect l="l" t="t" r="r" b="b"/>
            <a:pathLst>
              <a:path w="1034" h="918">
                <a:moveTo>
                  <a:pt x="480" y="0"/>
                </a:moveTo>
                <a:cubicBezTo>
                  <a:pt x="482" y="10"/>
                  <a:pt x="488" y="20"/>
                  <a:pt x="486" y="30"/>
                </a:cubicBezTo>
                <a:cubicBezTo>
                  <a:pt x="484" y="40"/>
                  <a:pt x="474" y="46"/>
                  <a:pt x="468" y="54"/>
                </a:cubicBezTo>
                <a:cubicBezTo>
                  <a:pt x="452" y="79"/>
                  <a:pt x="393" y="174"/>
                  <a:pt x="372" y="186"/>
                </a:cubicBezTo>
                <a:cubicBezTo>
                  <a:pt x="365" y="190"/>
                  <a:pt x="356" y="189"/>
                  <a:pt x="348" y="192"/>
                </a:cubicBezTo>
                <a:cubicBezTo>
                  <a:pt x="318" y="203"/>
                  <a:pt x="328" y="204"/>
                  <a:pt x="300" y="222"/>
                </a:cubicBezTo>
                <a:cubicBezTo>
                  <a:pt x="292" y="227"/>
                  <a:pt x="284" y="230"/>
                  <a:pt x="276" y="234"/>
                </a:cubicBezTo>
                <a:cubicBezTo>
                  <a:pt x="270" y="238"/>
                  <a:pt x="251" y="245"/>
                  <a:pt x="258" y="246"/>
                </a:cubicBezTo>
                <a:cubicBezTo>
                  <a:pt x="278" y="249"/>
                  <a:pt x="298" y="242"/>
                  <a:pt x="318" y="240"/>
                </a:cubicBezTo>
                <a:cubicBezTo>
                  <a:pt x="341" y="232"/>
                  <a:pt x="367" y="221"/>
                  <a:pt x="384" y="204"/>
                </a:cubicBezTo>
                <a:cubicBezTo>
                  <a:pt x="391" y="197"/>
                  <a:pt x="394" y="186"/>
                  <a:pt x="402" y="180"/>
                </a:cubicBezTo>
                <a:cubicBezTo>
                  <a:pt x="424" y="163"/>
                  <a:pt x="457" y="155"/>
                  <a:pt x="480" y="138"/>
                </a:cubicBezTo>
                <a:cubicBezTo>
                  <a:pt x="518" y="111"/>
                  <a:pt x="549" y="75"/>
                  <a:pt x="594" y="60"/>
                </a:cubicBezTo>
                <a:cubicBezTo>
                  <a:pt x="547" y="95"/>
                  <a:pt x="498" y="128"/>
                  <a:pt x="444" y="150"/>
                </a:cubicBezTo>
                <a:cubicBezTo>
                  <a:pt x="409" y="185"/>
                  <a:pt x="358" y="199"/>
                  <a:pt x="318" y="228"/>
                </a:cubicBezTo>
                <a:cubicBezTo>
                  <a:pt x="311" y="233"/>
                  <a:pt x="307" y="241"/>
                  <a:pt x="300" y="246"/>
                </a:cubicBezTo>
                <a:cubicBezTo>
                  <a:pt x="265" y="269"/>
                  <a:pt x="220" y="286"/>
                  <a:pt x="186" y="312"/>
                </a:cubicBezTo>
                <a:cubicBezTo>
                  <a:pt x="177" y="319"/>
                  <a:pt x="171" y="329"/>
                  <a:pt x="162" y="336"/>
                </a:cubicBezTo>
                <a:cubicBezTo>
                  <a:pt x="157" y="341"/>
                  <a:pt x="150" y="344"/>
                  <a:pt x="144" y="348"/>
                </a:cubicBezTo>
                <a:cubicBezTo>
                  <a:pt x="122" y="414"/>
                  <a:pt x="157" y="314"/>
                  <a:pt x="126" y="384"/>
                </a:cubicBezTo>
                <a:cubicBezTo>
                  <a:pt x="121" y="396"/>
                  <a:pt x="102" y="424"/>
                  <a:pt x="114" y="420"/>
                </a:cubicBezTo>
                <a:cubicBezTo>
                  <a:pt x="243" y="372"/>
                  <a:pt x="388" y="358"/>
                  <a:pt x="522" y="324"/>
                </a:cubicBezTo>
                <a:cubicBezTo>
                  <a:pt x="565" y="292"/>
                  <a:pt x="600" y="263"/>
                  <a:pt x="636" y="222"/>
                </a:cubicBezTo>
                <a:cubicBezTo>
                  <a:pt x="649" y="207"/>
                  <a:pt x="658" y="204"/>
                  <a:pt x="666" y="186"/>
                </a:cubicBezTo>
                <a:cubicBezTo>
                  <a:pt x="671" y="174"/>
                  <a:pt x="678" y="150"/>
                  <a:pt x="678" y="150"/>
                </a:cubicBezTo>
                <a:cubicBezTo>
                  <a:pt x="669" y="124"/>
                  <a:pt x="674" y="117"/>
                  <a:pt x="630" y="144"/>
                </a:cubicBezTo>
                <a:cubicBezTo>
                  <a:pt x="485" y="233"/>
                  <a:pt x="649" y="174"/>
                  <a:pt x="480" y="222"/>
                </a:cubicBezTo>
                <a:cubicBezTo>
                  <a:pt x="420" y="262"/>
                  <a:pt x="353" y="306"/>
                  <a:pt x="282" y="324"/>
                </a:cubicBezTo>
                <a:cubicBezTo>
                  <a:pt x="216" y="363"/>
                  <a:pt x="146" y="392"/>
                  <a:pt x="84" y="438"/>
                </a:cubicBezTo>
                <a:cubicBezTo>
                  <a:pt x="67" y="488"/>
                  <a:pt x="72" y="490"/>
                  <a:pt x="120" y="498"/>
                </a:cubicBezTo>
                <a:cubicBezTo>
                  <a:pt x="204" y="477"/>
                  <a:pt x="283" y="430"/>
                  <a:pt x="366" y="402"/>
                </a:cubicBezTo>
                <a:cubicBezTo>
                  <a:pt x="393" y="393"/>
                  <a:pt x="411" y="379"/>
                  <a:pt x="438" y="372"/>
                </a:cubicBezTo>
                <a:cubicBezTo>
                  <a:pt x="458" y="360"/>
                  <a:pt x="476" y="345"/>
                  <a:pt x="498" y="336"/>
                </a:cubicBezTo>
                <a:cubicBezTo>
                  <a:pt x="514" y="330"/>
                  <a:pt x="531" y="326"/>
                  <a:pt x="546" y="318"/>
                </a:cubicBezTo>
                <a:cubicBezTo>
                  <a:pt x="574" y="303"/>
                  <a:pt x="594" y="280"/>
                  <a:pt x="624" y="270"/>
                </a:cubicBezTo>
                <a:cubicBezTo>
                  <a:pt x="662" y="242"/>
                  <a:pt x="633" y="260"/>
                  <a:pt x="678" y="240"/>
                </a:cubicBezTo>
                <a:cubicBezTo>
                  <a:pt x="686" y="236"/>
                  <a:pt x="694" y="231"/>
                  <a:pt x="702" y="228"/>
                </a:cubicBezTo>
                <a:cubicBezTo>
                  <a:pt x="710" y="225"/>
                  <a:pt x="734" y="219"/>
                  <a:pt x="726" y="222"/>
                </a:cubicBezTo>
                <a:cubicBezTo>
                  <a:pt x="607" y="267"/>
                  <a:pt x="480" y="290"/>
                  <a:pt x="354" y="306"/>
                </a:cubicBezTo>
                <a:cubicBezTo>
                  <a:pt x="290" y="327"/>
                  <a:pt x="233" y="362"/>
                  <a:pt x="168" y="378"/>
                </a:cubicBezTo>
                <a:cubicBezTo>
                  <a:pt x="141" y="396"/>
                  <a:pt x="103" y="409"/>
                  <a:pt x="84" y="438"/>
                </a:cubicBezTo>
                <a:cubicBezTo>
                  <a:pt x="70" y="461"/>
                  <a:pt x="64" y="489"/>
                  <a:pt x="48" y="510"/>
                </a:cubicBezTo>
                <a:cubicBezTo>
                  <a:pt x="46" y="513"/>
                  <a:pt x="21" y="545"/>
                  <a:pt x="18" y="552"/>
                </a:cubicBezTo>
                <a:cubicBezTo>
                  <a:pt x="13" y="564"/>
                  <a:pt x="6" y="588"/>
                  <a:pt x="6" y="588"/>
                </a:cubicBezTo>
                <a:cubicBezTo>
                  <a:pt x="30" y="624"/>
                  <a:pt x="17" y="616"/>
                  <a:pt x="90" y="594"/>
                </a:cubicBezTo>
                <a:cubicBezTo>
                  <a:pt x="131" y="582"/>
                  <a:pt x="174" y="538"/>
                  <a:pt x="210" y="516"/>
                </a:cubicBezTo>
                <a:cubicBezTo>
                  <a:pt x="236" y="500"/>
                  <a:pt x="315" y="494"/>
                  <a:pt x="330" y="492"/>
                </a:cubicBezTo>
                <a:cubicBezTo>
                  <a:pt x="365" y="480"/>
                  <a:pt x="395" y="468"/>
                  <a:pt x="432" y="462"/>
                </a:cubicBezTo>
                <a:cubicBezTo>
                  <a:pt x="467" y="436"/>
                  <a:pt x="504" y="422"/>
                  <a:pt x="546" y="414"/>
                </a:cubicBezTo>
                <a:cubicBezTo>
                  <a:pt x="575" y="395"/>
                  <a:pt x="609" y="372"/>
                  <a:pt x="642" y="360"/>
                </a:cubicBezTo>
                <a:cubicBezTo>
                  <a:pt x="652" y="356"/>
                  <a:pt x="674" y="354"/>
                  <a:pt x="684" y="348"/>
                </a:cubicBezTo>
                <a:cubicBezTo>
                  <a:pt x="697" y="341"/>
                  <a:pt x="707" y="330"/>
                  <a:pt x="720" y="324"/>
                </a:cubicBezTo>
                <a:cubicBezTo>
                  <a:pt x="744" y="312"/>
                  <a:pt x="778" y="303"/>
                  <a:pt x="804" y="294"/>
                </a:cubicBezTo>
                <a:cubicBezTo>
                  <a:pt x="810" y="292"/>
                  <a:pt x="822" y="288"/>
                  <a:pt x="822" y="288"/>
                </a:cubicBezTo>
                <a:cubicBezTo>
                  <a:pt x="828" y="290"/>
                  <a:pt x="843" y="288"/>
                  <a:pt x="840" y="294"/>
                </a:cubicBezTo>
                <a:cubicBezTo>
                  <a:pt x="836" y="301"/>
                  <a:pt x="824" y="297"/>
                  <a:pt x="816" y="300"/>
                </a:cubicBezTo>
                <a:cubicBezTo>
                  <a:pt x="794" y="307"/>
                  <a:pt x="772" y="315"/>
                  <a:pt x="750" y="324"/>
                </a:cubicBezTo>
                <a:cubicBezTo>
                  <a:pt x="697" y="346"/>
                  <a:pt x="638" y="379"/>
                  <a:pt x="582" y="390"/>
                </a:cubicBezTo>
                <a:cubicBezTo>
                  <a:pt x="486" y="454"/>
                  <a:pt x="383" y="512"/>
                  <a:pt x="270" y="540"/>
                </a:cubicBezTo>
                <a:cubicBezTo>
                  <a:pt x="246" y="556"/>
                  <a:pt x="220" y="561"/>
                  <a:pt x="192" y="570"/>
                </a:cubicBezTo>
                <a:cubicBezTo>
                  <a:pt x="185" y="572"/>
                  <a:pt x="180" y="579"/>
                  <a:pt x="174" y="582"/>
                </a:cubicBezTo>
                <a:cubicBezTo>
                  <a:pt x="108" y="615"/>
                  <a:pt x="53" y="649"/>
                  <a:pt x="0" y="702"/>
                </a:cubicBezTo>
                <a:cubicBezTo>
                  <a:pt x="90" y="732"/>
                  <a:pt x="170" y="649"/>
                  <a:pt x="252" y="624"/>
                </a:cubicBezTo>
                <a:cubicBezTo>
                  <a:pt x="338" y="598"/>
                  <a:pt x="429" y="592"/>
                  <a:pt x="516" y="570"/>
                </a:cubicBezTo>
                <a:cubicBezTo>
                  <a:pt x="581" y="554"/>
                  <a:pt x="638" y="521"/>
                  <a:pt x="696" y="492"/>
                </a:cubicBezTo>
                <a:cubicBezTo>
                  <a:pt x="772" y="454"/>
                  <a:pt x="839" y="421"/>
                  <a:pt x="888" y="348"/>
                </a:cubicBezTo>
                <a:cubicBezTo>
                  <a:pt x="859" y="338"/>
                  <a:pt x="833" y="347"/>
                  <a:pt x="804" y="354"/>
                </a:cubicBezTo>
                <a:cubicBezTo>
                  <a:pt x="780" y="370"/>
                  <a:pt x="751" y="376"/>
                  <a:pt x="726" y="390"/>
                </a:cubicBezTo>
                <a:cubicBezTo>
                  <a:pt x="633" y="442"/>
                  <a:pt x="539" y="500"/>
                  <a:pt x="438" y="534"/>
                </a:cubicBezTo>
                <a:cubicBezTo>
                  <a:pt x="388" y="551"/>
                  <a:pt x="347" y="586"/>
                  <a:pt x="300" y="606"/>
                </a:cubicBezTo>
                <a:cubicBezTo>
                  <a:pt x="282" y="614"/>
                  <a:pt x="265" y="625"/>
                  <a:pt x="246" y="630"/>
                </a:cubicBezTo>
                <a:cubicBezTo>
                  <a:pt x="244" y="631"/>
                  <a:pt x="194" y="642"/>
                  <a:pt x="180" y="648"/>
                </a:cubicBezTo>
                <a:cubicBezTo>
                  <a:pt x="106" y="682"/>
                  <a:pt x="156" y="664"/>
                  <a:pt x="114" y="678"/>
                </a:cubicBezTo>
                <a:cubicBezTo>
                  <a:pt x="106" y="684"/>
                  <a:pt x="99" y="691"/>
                  <a:pt x="90" y="696"/>
                </a:cubicBezTo>
                <a:cubicBezTo>
                  <a:pt x="85" y="699"/>
                  <a:pt x="77" y="698"/>
                  <a:pt x="72" y="702"/>
                </a:cubicBezTo>
                <a:cubicBezTo>
                  <a:pt x="59" y="711"/>
                  <a:pt x="49" y="723"/>
                  <a:pt x="36" y="732"/>
                </a:cubicBezTo>
                <a:cubicBezTo>
                  <a:pt x="28" y="757"/>
                  <a:pt x="27" y="771"/>
                  <a:pt x="54" y="780"/>
                </a:cubicBezTo>
                <a:cubicBezTo>
                  <a:pt x="104" y="772"/>
                  <a:pt x="111" y="749"/>
                  <a:pt x="156" y="738"/>
                </a:cubicBezTo>
                <a:cubicBezTo>
                  <a:pt x="186" y="718"/>
                  <a:pt x="205" y="705"/>
                  <a:pt x="240" y="696"/>
                </a:cubicBezTo>
                <a:cubicBezTo>
                  <a:pt x="303" y="654"/>
                  <a:pt x="382" y="643"/>
                  <a:pt x="450" y="612"/>
                </a:cubicBezTo>
                <a:cubicBezTo>
                  <a:pt x="511" y="584"/>
                  <a:pt x="572" y="567"/>
                  <a:pt x="636" y="546"/>
                </a:cubicBezTo>
                <a:cubicBezTo>
                  <a:pt x="669" y="535"/>
                  <a:pt x="698" y="519"/>
                  <a:pt x="732" y="510"/>
                </a:cubicBezTo>
                <a:cubicBezTo>
                  <a:pt x="758" y="493"/>
                  <a:pt x="798" y="476"/>
                  <a:pt x="828" y="468"/>
                </a:cubicBezTo>
                <a:cubicBezTo>
                  <a:pt x="857" y="449"/>
                  <a:pt x="845" y="454"/>
                  <a:pt x="894" y="444"/>
                </a:cubicBezTo>
                <a:cubicBezTo>
                  <a:pt x="904" y="442"/>
                  <a:pt x="934" y="436"/>
                  <a:pt x="924" y="438"/>
                </a:cubicBezTo>
                <a:cubicBezTo>
                  <a:pt x="811" y="466"/>
                  <a:pt x="697" y="484"/>
                  <a:pt x="582" y="498"/>
                </a:cubicBezTo>
                <a:cubicBezTo>
                  <a:pt x="521" y="518"/>
                  <a:pt x="466" y="550"/>
                  <a:pt x="408" y="576"/>
                </a:cubicBezTo>
                <a:cubicBezTo>
                  <a:pt x="332" y="610"/>
                  <a:pt x="269" y="637"/>
                  <a:pt x="222" y="708"/>
                </a:cubicBezTo>
                <a:cubicBezTo>
                  <a:pt x="203" y="736"/>
                  <a:pt x="185" y="779"/>
                  <a:pt x="156" y="798"/>
                </a:cubicBezTo>
                <a:cubicBezTo>
                  <a:pt x="145" y="805"/>
                  <a:pt x="132" y="811"/>
                  <a:pt x="120" y="816"/>
                </a:cubicBezTo>
                <a:cubicBezTo>
                  <a:pt x="108" y="821"/>
                  <a:pt x="84" y="828"/>
                  <a:pt x="84" y="828"/>
                </a:cubicBezTo>
                <a:cubicBezTo>
                  <a:pt x="184" y="848"/>
                  <a:pt x="256" y="779"/>
                  <a:pt x="348" y="756"/>
                </a:cubicBezTo>
                <a:cubicBezTo>
                  <a:pt x="379" y="733"/>
                  <a:pt x="413" y="711"/>
                  <a:pt x="450" y="702"/>
                </a:cubicBezTo>
                <a:cubicBezTo>
                  <a:pt x="516" y="658"/>
                  <a:pt x="415" y="723"/>
                  <a:pt x="492" y="684"/>
                </a:cubicBezTo>
                <a:cubicBezTo>
                  <a:pt x="505" y="678"/>
                  <a:pt x="514" y="665"/>
                  <a:pt x="528" y="660"/>
                </a:cubicBezTo>
                <a:cubicBezTo>
                  <a:pt x="540" y="656"/>
                  <a:pt x="553" y="655"/>
                  <a:pt x="564" y="648"/>
                </a:cubicBezTo>
                <a:cubicBezTo>
                  <a:pt x="650" y="591"/>
                  <a:pt x="738" y="557"/>
                  <a:pt x="840" y="540"/>
                </a:cubicBezTo>
                <a:cubicBezTo>
                  <a:pt x="861" y="526"/>
                  <a:pt x="882" y="519"/>
                  <a:pt x="906" y="510"/>
                </a:cubicBezTo>
                <a:cubicBezTo>
                  <a:pt x="912" y="508"/>
                  <a:pt x="924" y="498"/>
                  <a:pt x="924" y="504"/>
                </a:cubicBezTo>
                <a:cubicBezTo>
                  <a:pt x="924" y="511"/>
                  <a:pt x="913" y="514"/>
                  <a:pt x="906" y="516"/>
                </a:cubicBezTo>
                <a:cubicBezTo>
                  <a:pt x="875" y="528"/>
                  <a:pt x="842" y="537"/>
                  <a:pt x="810" y="546"/>
                </a:cubicBezTo>
                <a:cubicBezTo>
                  <a:pt x="684" y="582"/>
                  <a:pt x="554" y="615"/>
                  <a:pt x="426" y="642"/>
                </a:cubicBezTo>
                <a:cubicBezTo>
                  <a:pt x="411" y="650"/>
                  <a:pt x="393" y="652"/>
                  <a:pt x="378" y="660"/>
                </a:cubicBezTo>
                <a:cubicBezTo>
                  <a:pt x="345" y="677"/>
                  <a:pt x="318" y="696"/>
                  <a:pt x="282" y="708"/>
                </a:cubicBezTo>
                <a:cubicBezTo>
                  <a:pt x="246" y="735"/>
                  <a:pt x="232" y="731"/>
                  <a:pt x="216" y="780"/>
                </a:cubicBezTo>
                <a:cubicBezTo>
                  <a:pt x="218" y="804"/>
                  <a:pt x="208" y="833"/>
                  <a:pt x="222" y="852"/>
                </a:cubicBezTo>
                <a:cubicBezTo>
                  <a:pt x="228" y="861"/>
                  <a:pt x="294" y="836"/>
                  <a:pt x="300" y="834"/>
                </a:cubicBezTo>
                <a:cubicBezTo>
                  <a:pt x="373" y="812"/>
                  <a:pt x="440" y="777"/>
                  <a:pt x="516" y="762"/>
                </a:cubicBezTo>
                <a:cubicBezTo>
                  <a:pt x="555" y="742"/>
                  <a:pt x="595" y="724"/>
                  <a:pt x="636" y="708"/>
                </a:cubicBezTo>
                <a:cubicBezTo>
                  <a:pt x="659" y="685"/>
                  <a:pt x="684" y="657"/>
                  <a:pt x="714" y="642"/>
                </a:cubicBezTo>
                <a:cubicBezTo>
                  <a:pt x="789" y="605"/>
                  <a:pt x="881" y="602"/>
                  <a:pt x="960" y="576"/>
                </a:cubicBezTo>
                <a:cubicBezTo>
                  <a:pt x="974" y="571"/>
                  <a:pt x="937" y="593"/>
                  <a:pt x="924" y="600"/>
                </a:cubicBezTo>
                <a:cubicBezTo>
                  <a:pt x="901" y="612"/>
                  <a:pt x="889" y="613"/>
                  <a:pt x="864" y="618"/>
                </a:cubicBezTo>
                <a:cubicBezTo>
                  <a:pt x="833" y="634"/>
                  <a:pt x="797" y="634"/>
                  <a:pt x="768" y="654"/>
                </a:cubicBezTo>
                <a:cubicBezTo>
                  <a:pt x="734" y="677"/>
                  <a:pt x="705" y="707"/>
                  <a:pt x="666" y="720"/>
                </a:cubicBezTo>
                <a:cubicBezTo>
                  <a:pt x="611" y="764"/>
                  <a:pt x="552" y="776"/>
                  <a:pt x="486" y="798"/>
                </a:cubicBezTo>
                <a:cubicBezTo>
                  <a:pt x="459" y="807"/>
                  <a:pt x="435" y="819"/>
                  <a:pt x="408" y="828"/>
                </a:cubicBezTo>
                <a:cubicBezTo>
                  <a:pt x="392" y="844"/>
                  <a:pt x="370" y="854"/>
                  <a:pt x="354" y="870"/>
                </a:cubicBezTo>
                <a:cubicBezTo>
                  <a:pt x="342" y="882"/>
                  <a:pt x="318" y="906"/>
                  <a:pt x="318" y="906"/>
                </a:cubicBezTo>
                <a:cubicBezTo>
                  <a:pt x="324" y="910"/>
                  <a:pt x="329" y="918"/>
                  <a:pt x="336" y="918"/>
                </a:cubicBezTo>
                <a:cubicBezTo>
                  <a:pt x="361" y="918"/>
                  <a:pt x="419" y="885"/>
                  <a:pt x="444" y="876"/>
                </a:cubicBezTo>
                <a:cubicBezTo>
                  <a:pt x="476" y="865"/>
                  <a:pt x="509" y="864"/>
                  <a:pt x="540" y="852"/>
                </a:cubicBezTo>
                <a:cubicBezTo>
                  <a:pt x="593" y="832"/>
                  <a:pt x="648" y="816"/>
                  <a:pt x="702" y="798"/>
                </a:cubicBezTo>
                <a:cubicBezTo>
                  <a:pt x="775" y="744"/>
                  <a:pt x="907" y="648"/>
                  <a:pt x="1002" y="648"/>
                </a:cubicBezTo>
                <a:cubicBezTo>
                  <a:pt x="1008" y="648"/>
                  <a:pt x="990" y="651"/>
                  <a:pt x="984" y="654"/>
                </a:cubicBezTo>
                <a:cubicBezTo>
                  <a:pt x="974" y="659"/>
                  <a:pt x="964" y="667"/>
                  <a:pt x="954" y="672"/>
                </a:cubicBezTo>
                <a:cubicBezTo>
                  <a:pt x="865" y="719"/>
                  <a:pt x="899" y="704"/>
                  <a:pt x="798" y="726"/>
                </a:cubicBezTo>
                <a:cubicBezTo>
                  <a:pt x="732" y="759"/>
                  <a:pt x="668" y="793"/>
                  <a:pt x="606" y="834"/>
                </a:cubicBezTo>
                <a:cubicBezTo>
                  <a:pt x="618" y="870"/>
                  <a:pt x="614" y="838"/>
                  <a:pt x="576" y="876"/>
                </a:cubicBezTo>
                <a:cubicBezTo>
                  <a:pt x="570" y="882"/>
                  <a:pt x="565" y="889"/>
                  <a:pt x="558" y="894"/>
                </a:cubicBezTo>
                <a:cubicBezTo>
                  <a:pt x="553" y="898"/>
                  <a:pt x="534" y="901"/>
                  <a:pt x="540" y="900"/>
                </a:cubicBezTo>
                <a:cubicBezTo>
                  <a:pt x="612" y="890"/>
                  <a:pt x="678" y="877"/>
                  <a:pt x="750" y="870"/>
                </a:cubicBezTo>
                <a:cubicBezTo>
                  <a:pt x="816" y="848"/>
                  <a:pt x="872" y="825"/>
                  <a:pt x="930" y="786"/>
                </a:cubicBezTo>
                <a:cubicBezTo>
                  <a:pt x="944" y="765"/>
                  <a:pt x="962" y="757"/>
                  <a:pt x="978" y="738"/>
                </a:cubicBezTo>
                <a:cubicBezTo>
                  <a:pt x="983" y="732"/>
                  <a:pt x="996" y="724"/>
                  <a:pt x="990" y="720"/>
                </a:cubicBezTo>
                <a:cubicBezTo>
                  <a:pt x="982" y="714"/>
                  <a:pt x="970" y="723"/>
                  <a:pt x="960" y="726"/>
                </a:cubicBezTo>
                <a:cubicBezTo>
                  <a:pt x="935" y="734"/>
                  <a:pt x="913" y="748"/>
                  <a:pt x="888" y="756"/>
                </a:cubicBezTo>
                <a:cubicBezTo>
                  <a:pt x="858" y="778"/>
                  <a:pt x="837" y="807"/>
                  <a:pt x="810" y="834"/>
                </a:cubicBezTo>
                <a:cubicBezTo>
                  <a:pt x="800" y="844"/>
                  <a:pt x="774" y="858"/>
                  <a:pt x="774" y="858"/>
                </a:cubicBezTo>
                <a:cubicBezTo>
                  <a:pt x="738" y="912"/>
                  <a:pt x="849" y="883"/>
                  <a:pt x="864" y="882"/>
                </a:cubicBezTo>
                <a:cubicBezTo>
                  <a:pt x="895" y="867"/>
                  <a:pt x="930" y="862"/>
                  <a:pt x="960" y="846"/>
                </a:cubicBezTo>
                <a:cubicBezTo>
                  <a:pt x="973" y="839"/>
                  <a:pt x="996" y="822"/>
                  <a:pt x="996" y="822"/>
                </a:cubicBezTo>
                <a:cubicBezTo>
                  <a:pt x="1012" y="798"/>
                  <a:pt x="1034" y="732"/>
                  <a:pt x="984" y="732"/>
                </a:cubicBezTo>
              </a:path>
            </a:pathLst>
          </a:custGeom>
          <a:noFill/>
          <a:ln w="57240">
            <a:solidFill>
              <a:srgbClr val="99ff66"/>
            </a:solidFill>
            <a:roun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33" name=""/>
          <p:cNvSpPr/>
          <p:nvPr/>
        </p:nvSpPr>
        <p:spPr>
          <a:xfrm>
            <a:off x="914400" y="380880"/>
            <a:ext cx="7315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vantGarde"/>
              </a:rPr>
              <a:t>ACCELERATING THE PACE </a:t>
            </a:r>
            <a:endParaRPr b="0" lang="en-US" sz="32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vantGarde"/>
              </a:rPr>
              <a:t>TOWARDS QUALITY</a:t>
            </a:r>
            <a:endParaRPr b="0" lang="en-US" sz="3200" spc="-1" strike="noStrike">
              <a:solidFill>
                <a:srgbClr val="f8f8f8"/>
              </a:solidFill>
              <a:latin typeface="Times New Roman"/>
            </a:endParaRPr>
          </a:p>
        </p:txBody>
      </p:sp>
      <p:sp>
        <p:nvSpPr>
          <p:cNvPr id="234" name=""/>
          <p:cNvSpPr/>
          <p:nvPr/>
        </p:nvSpPr>
        <p:spPr>
          <a:xfrm flipV="1">
            <a:off x="2133720" y="3009240"/>
            <a:ext cx="3273480" cy="3273480"/>
          </a:xfrm>
          <a:prstGeom prst="ellipse">
            <a:avLst/>
          </a:prstGeom>
          <a:noFill/>
          <a:ln w="7632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35" name=""/>
          <p:cNvSpPr/>
          <p:nvPr/>
        </p:nvSpPr>
        <p:spPr>
          <a:xfrm flipV="1">
            <a:off x="3735360" y="3009240"/>
            <a:ext cx="3273480" cy="3273480"/>
          </a:xfrm>
          <a:prstGeom prst="ellipse">
            <a:avLst/>
          </a:prstGeom>
          <a:noFill/>
          <a:ln w="7632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36" name=""/>
          <p:cNvSpPr/>
          <p:nvPr/>
        </p:nvSpPr>
        <p:spPr>
          <a:xfrm flipV="1">
            <a:off x="2933640" y="1560960"/>
            <a:ext cx="3273480" cy="3273480"/>
          </a:xfrm>
          <a:prstGeom prst="ellipse">
            <a:avLst/>
          </a:prstGeom>
          <a:noFill/>
          <a:ln w="7632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37" name=""/>
          <p:cNvSpPr/>
          <p:nvPr/>
        </p:nvSpPr>
        <p:spPr>
          <a:xfrm>
            <a:off x="3505320" y="236232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vantGarde"/>
              </a:rPr>
              <a:t>Priorities</a:t>
            </a:r>
            <a:endParaRPr b="0" lang="en-US" sz="2400" spc="-1" strike="noStrike">
              <a:solidFill>
                <a:srgbClr val="f8f8f8"/>
              </a:solidFill>
              <a:latin typeface="Times New Roman"/>
            </a:endParaRPr>
          </a:p>
        </p:txBody>
      </p:sp>
      <p:sp>
        <p:nvSpPr>
          <p:cNvPr id="238" name=""/>
          <p:cNvSpPr/>
          <p:nvPr/>
        </p:nvSpPr>
        <p:spPr>
          <a:xfrm>
            <a:off x="4952880" y="472428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vantGarde"/>
              </a:rPr>
              <a:t>Pupils</a:t>
            </a:r>
            <a:endParaRPr b="0" lang="en-US" sz="2400" spc="-1" strike="noStrike">
              <a:solidFill>
                <a:srgbClr val="f8f8f8"/>
              </a:solidFill>
              <a:latin typeface="Times New Roman"/>
            </a:endParaRPr>
          </a:p>
        </p:txBody>
      </p:sp>
      <p:sp>
        <p:nvSpPr>
          <p:cNvPr id="239" name=""/>
          <p:cNvSpPr/>
          <p:nvPr/>
        </p:nvSpPr>
        <p:spPr>
          <a:xfrm>
            <a:off x="1981080" y="46483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vantGarde"/>
              </a:rPr>
              <a:t>Partners</a:t>
            </a:r>
            <a:endParaRPr b="0" lang="en-US" sz="2400" spc="-1" strike="noStrike">
              <a:solidFill>
                <a:srgbClr val="f8f8f8"/>
              </a:solidFill>
              <a:latin typeface="Times New Roman"/>
            </a:endParaRPr>
          </a:p>
        </p:txBody>
      </p:sp>
      <p:sp>
        <p:nvSpPr>
          <p:cNvPr id="240" name=""/>
          <p:cNvSpPr/>
          <p:nvPr/>
        </p:nvSpPr>
        <p:spPr>
          <a:xfrm>
            <a:off x="3809880" y="3733920"/>
            <a:ext cx="1524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vantGarde"/>
              </a:rPr>
              <a:t>Improved  teaching and learning</a:t>
            </a:r>
            <a:endParaRPr b="0" lang="en-US" sz="1800" spc="-1" strike="noStrike">
              <a:solidFill>
                <a:srgbClr val="f8f8f8"/>
              </a:solidFill>
              <a:latin typeface="Times New Roman"/>
            </a:endParaRPr>
          </a:p>
        </p:txBody>
      </p:sp>
      <p:sp>
        <p:nvSpPr>
          <p:cNvPr id="241" name=""/>
          <p:cNvSpPr/>
          <p:nvPr/>
        </p:nvSpPr>
        <p:spPr>
          <a:xfrm>
            <a:off x="228600" y="1111320"/>
            <a:ext cx="1981080" cy="486324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spcBef>
                <a:spcPts val="814"/>
              </a:spcBef>
              <a:buClr>
                <a:srgbClr val="cc33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3300"/>
                </a:solidFill>
                <a:latin typeface="AvantGarde"/>
              </a:rPr>
              <a:t>It uses assessment as entry point to quality</a:t>
            </a:r>
            <a:endParaRPr b="0" lang="en-US" sz="1300" spc="-1" strike="noStrike">
              <a:solidFill>
                <a:srgbClr val="f8f8f8"/>
              </a:solidFill>
              <a:latin typeface="Times New Roman"/>
            </a:endParaRPr>
          </a:p>
          <a:p>
            <a:pPr marL="115920" indent="-115920">
              <a:lnSpc>
                <a:spcPct val="100000"/>
              </a:lnSpc>
              <a:spcBef>
                <a:spcPts val="814"/>
              </a:spcBef>
              <a:buClr>
                <a:srgbClr val="cc33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3300"/>
                </a:solidFill>
                <a:latin typeface="AvantGarde"/>
              </a:rPr>
              <a:t>Knowledge of classroom experience for teachers and pupils (all learners) as basis for improvement</a:t>
            </a:r>
            <a:endParaRPr b="0" lang="en-US" sz="1300" spc="-1" strike="noStrike">
              <a:solidFill>
                <a:srgbClr val="f8f8f8"/>
              </a:solidFill>
              <a:latin typeface="Times New Roman"/>
            </a:endParaRPr>
          </a:p>
          <a:p>
            <a:pPr marL="115920" indent="-115920">
              <a:lnSpc>
                <a:spcPct val="100000"/>
              </a:lnSpc>
              <a:spcBef>
                <a:spcPts val="814"/>
              </a:spcBef>
              <a:buClr>
                <a:srgbClr val="cc33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3300"/>
                </a:solidFill>
                <a:latin typeface="AvantGarde"/>
              </a:rPr>
              <a:t>Includes educators at all education system levels in discussions about findings</a:t>
            </a:r>
            <a:endParaRPr b="0" lang="en-US" sz="1300" spc="-1" strike="noStrike">
              <a:solidFill>
                <a:srgbClr val="f8f8f8"/>
              </a:solidFill>
              <a:latin typeface="Times New Roman"/>
            </a:endParaRPr>
          </a:p>
          <a:p>
            <a:pPr marL="115920" indent="-115920">
              <a:lnSpc>
                <a:spcPct val="100000"/>
              </a:lnSpc>
              <a:spcBef>
                <a:spcPts val="814"/>
              </a:spcBef>
              <a:buClr>
                <a:srgbClr val="cc33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3300"/>
                </a:solidFill>
                <a:latin typeface="AvantGarde"/>
              </a:rPr>
              <a:t>Involves host country educators as leaders in design and implementation of activity</a:t>
            </a:r>
            <a:endParaRPr b="0" lang="en-US" sz="1300" spc="-1" strike="noStrike">
              <a:solidFill>
                <a:srgbClr val="f8f8f8"/>
              </a:solidFill>
              <a:latin typeface="Times New Roman"/>
            </a:endParaRPr>
          </a:p>
          <a:p>
            <a:pPr marL="115920" indent="-115920">
              <a:lnSpc>
                <a:spcPct val="100000"/>
              </a:lnSpc>
              <a:spcBef>
                <a:spcPts val="814"/>
              </a:spcBef>
              <a:buClr>
                <a:srgbClr val="cc33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3300"/>
                </a:solidFill>
                <a:latin typeface="AvantGarde"/>
              </a:rPr>
              <a:t>Implements feedback cycle of research and utilization of findings to accelerate pace toward quality</a:t>
            </a:r>
            <a:endParaRPr b="0" lang="en-US" sz="1300" spc="-1" strike="noStrike">
              <a:solidFill>
                <a:srgbClr val="f8f8f8"/>
              </a:solidFill>
              <a:latin typeface="Times New Roman"/>
            </a:endParaRPr>
          </a:p>
        </p:txBody>
      </p:sp>
      <p:sp>
        <p:nvSpPr>
          <p:cNvPr id="242" name=""/>
          <p:cNvSpPr/>
          <p:nvPr/>
        </p:nvSpPr>
        <p:spPr>
          <a:xfrm>
            <a:off x="7010280" y="946080"/>
            <a:ext cx="1905120" cy="568980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buClr>
                <a:srgbClr val="cc33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3300"/>
                </a:solidFill>
                <a:latin typeface="AvantGarde"/>
              </a:rPr>
              <a:t>Expands dialogue about education quality beyond education sector to parents, private business in civil society</a:t>
            </a:r>
            <a:endParaRPr b="0" lang="en-US" sz="1300" spc="-1" strike="noStrike">
              <a:solidFill>
                <a:srgbClr val="f8f8f8"/>
              </a:solidFill>
              <a:latin typeface="Times New Roman"/>
            </a:endParaRPr>
          </a:p>
          <a:p>
            <a:pPr marL="115920" indent="-115920">
              <a:lnSpc>
                <a:spcPct val="100000"/>
              </a:lnSpc>
              <a:buClr>
                <a:srgbClr val="cc33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8f8f8"/>
              </a:solidFill>
              <a:latin typeface="Times New Roman"/>
            </a:endParaRPr>
          </a:p>
          <a:p>
            <a:pPr marL="115920" indent="-115920">
              <a:lnSpc>
                <a:spcPct val="100000"/>
              </a:lnSpc>
              <a:buClr>
                <a:srgbClr val="cc33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3300"/>
                </a:solidFill>
                <a:latin typeface="AvantGarde"/>
              </a:rPr>
              <a:t>Everyone has to give and to receive</a:t>
            </a:r>
            <a:endParaRPr b="0" lang="en-US" sz="1300" spc="-1" strike="noStrike">
              <a:solidFill>
                <a:srgbClr val="f8f8f8"/>
              </a:solidFill>
              <a:latin typeface="Times New Roman"/>
            </a:endParaRPr>
          </a:p>
          <a:p>
            <a:pPr marL="115920" indent="-115920">
              <a:lnSpc>
                <a:spcPct val="100000"/>
              </a:lnSpc>
              <a:spcBef>
                <a:spcPts val="814"/>
              </a:spcBef>
              <a:buClr>
                <a:srgbClr val="cc33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3300"/>
                </a:solidFill>
                <a:latin typeface="AvantGarde"/>
              </a:rPr>
              <a:t>Presents study of results in usable and readable formats</a:t>
            </a:r>
            <a:endParaRPr b="0" lang="en-US" sz="1300" spc="-1" strike="noStrike">
              <a:solidFill>
                <a:srgbClr val="f8f8f8"/>
              </a:solidFill>
              <a:latin typeface="Times New Roman"/>
            </a:endParaRPr>
          </a:p>
          <a:p>
            <a:pPr marL="115920" indent="-115920">
              <a:lnSpc>
                <a:spcPct val="100000"/>
              </a:lnSpc>
              <a:spcBef>
                <a:spcPts val="814"/>
              </a:spcBef>
              <a:buClr>
                <a:srgbClr val="cc33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3300"/>
                </a:solidFill>
                <a:latin typeface="AvantGarde"/>
              </a:rPr>
              <a:t>Strengthens skills, knowledge and experience of all participants</a:t>
            </a:r>
            <a:endParaRPr b="0" lang="en-US" sz="1300" spc="-1" strike="noStrike">
              <a:solidFill>
                <a:srgbClr val="f8f8f8"/>
              </a:solidFill>
              <a:latin typeface="Times New Roman"/>
            </a:endParaRPr>
          </a:p>
          <a:p>
            <a:pPr marL="115920" indent="-115920">
              <a:lnSpc>
                <a:spcPct val="100000"/>
              </a:lnSpc>
              <a:spcBef>
                <a:spcPts val="814"/>
              </a:spcBef>
              <a:buClr>
                <a:srgbClr val="cc33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3300"/>
                </a:solidFill>
                <a:latin typeface="AvantGarde"/>
              </a:rPr>
              <a:t>Focuses activity on issues of national education reform</a:t>
            </a:r>
            <a:endParaRPr b="0" lang="en-US" sz="1300" spc="-1" strike="noStrike">
              <a:solidFill>
                <a:srgbClr val="f8f8f8"/>
              </a:solidFill>
              <a:latin typeface="Times New Roman"/>
            </a:endParaRPr>
          </a:p>
          <a:p>
            <a:pPr marL="115920" indent="-115920">
              <a:lnSpc>
                <a:spcPct val="100000"/>
              </a:lnSpc>
              <a:spcBef>
                <a:spcPts val="814"/>
              </a:spcBef>
              <a:buClr>
                <a:srgbClr val="cc33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3300"/>
                </a:solidFill>
                <a:latin typeface="AvantGarde"/>
              </a:rPr>
              <a:t>Views education quality as a path not a destination</a:t>
            </a:r>
            <a:endParaRPr b="0" lang="en-US" sz="1300" spc="-1" strike="noStrike">
              <a:solidFill>
                <a:srgbClr val="f8f8f8"/>
              </a:solidFill>
              <a:latin typeface="Times New Roman"/>
            </a:endParaRPr>
          </a:p>
          <a:p>
            <a:pPr marL="115920" indent="-115920">
              <a:lnSpc>
                <a:spcPct val="100000"/>
              </a:lnSpc>
              <a:spcBef>
                <a:spcPts val="814"/>
              </a:spcBef>
              <a:buClr>
                <a:srgbClr val="cc33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3300"/>
                </a:solidFill>
                <a:latin typeface="AvantGarde"/>
              </a:rPr>
              <a:t>Has after-project life</a:t>
            </a:r>
            <a:endParaRPr b="0" lang="en-US" sz="1300" spc="-1" strike="noStrike">
              <a:solidFill>
                <a:srgbClr val="f8f8f8"/>
              </a:solidFill>
              <a:latin typeface="Times New Roman"/>
            </a:endParaRPr>
          </a:p>
          <a:p>
            <a:pPr marL="115920" indent="-115920">
              <a:lnSpc>
                <a:spcPct val="100000"/>
              </a:lnSpc>
              <a:spcBef>
                <a:spcPts val="814"/>
              </a:spcBef>
              <a:buClr>
                <a:srgbClr val="cc3300"/>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3300"/>
                </a:solidFill>
                <a:latin typeface="AvantGarde"/>
              </a:rPr>
              <a:t>Synergy</a:t>
            </a:r>
            <a:endParaRPr b="0" lang="en-US" sz="13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20:31:59Z</dcterms:created>
  <dc:creator>jschubert</dc:creator>
  <dc:description/>
  <dc:language>en-US</dc:language>
  <cp:lastModifiedBy>h.boukary</cp:lastModifiedBy>
  <dcterms:modified xsi:type="dcterms:W3CDTF">2003-12-04T11:03:27Z</dcterms:modified>
  <cp:revision>20</cp:revision>
  <dc:subject/>
  <dc:title>PowerPoint Presentation</dc:title>
</cp:coreProperties>
</file>