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4D4-4A76-411E-B059-92BDBA5D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E5F-A6B5-4B88-8C44-F127B640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2CA-EACD-4EE2-B014-0E31663C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3B4-953B-4B56-98A6-0AC383F5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ECC6-D357-40F1-AD06-D18BCF39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A4ED-255A-439B-8866-A61F018E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D261-03E6-458F-A3D4-A170C2DE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37F-7B9E-4383-9757-8ADADE69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0FE5-95A9-47A3-9AAC-323116E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C02B-36EA-4B97-A115-D027C311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BC3E-9EF1-4CB1-BCF7-00EE2C2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E0C-EA75-4578-BD76-E9F6541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F0F6-9F9C-4B17-B3E0-605BC8CF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7E2A-D085-49FC-8597-ED40D684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4337-079F-4251-89BC-C0DBC87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340B-7715-4D48-A341-5127F8AF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19B-D4E3-498A-B989-FF135F48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19F-9B30-4ACD-AB92-283E7D3F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6D9-A53D-4D54-A83A-CAC7826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856-9BBB-4B0F-8075-14D1B11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984-3904-4F11-80FE-742DE01D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31A-A172-4ED4-86E7-3C1AEC15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5D2-B9CE-4D7A-84C2-3931E9E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DBE-F673-471C-9AD4-95955DD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7D85-2999-4CB2-9F37-7298BF9A6006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39CF-0BC9-4ABC-83C3-FE27C9E67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2DDE-5A39-4E0F-A938-90DD12473DED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3257-6D6E-46B1-96BD-DE9ECF5E9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mplementation matters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loring their critical role in transforming policies and investments into resul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brahima Bah-Lalya &amp; Richard S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orted by USAID/Africa Bureau, Education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046-4C1C-47B0-A616-5912A8360A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8 Propositions …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sider cost recovery approaches: They are difficult to implement, especially in situations of pover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larify role definitions among partners: This is especially necessary for decentralization to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1BB-59F2-4D6C-9563-50F1BB9F9B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can be done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xamine assumptions about the efficacy of policies that are disconnected from implement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developing institutional &amp; individual capac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participative approaches to institutional development, focusing on functional analysis of education ministries &amp; the roles &amp; capacities of all the impleme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C59-1282-4898-B545-70F6A7048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arting poi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is (or becomes) as implementation d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problems account for the major reason well-conceived policies &amp; investments don’t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nnect” between policy and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tion of the inherent chaos &amp; complexity in education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414-55CE-4A49-9D55-B7F69A3C8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 is this phenomenon so ignored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matters don’t lend easily themselves to quantification, the preferred approach of econom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is complex: Many details, many actors, various levels,complex procedures, rules &amp; regula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bout information flows through the system, and how they are used,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bout action. It is dynamic, not st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depends on capacities &amp;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09C-7F54-40FC-80C8-F4060883B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bjective of our stu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periodic 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view</a:t>
            </a:r>
            <a:r>
              <a:rPr b="0" i="1" lang="en-GB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ports and inter-agency background pap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udy analyzes 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atterns of achievements and challen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lated to implementing education sector polic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cluding the problems linked to insufficient absorptive capa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DDA-0DE8-40DF-8D62-655E811EA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mplementation review reports from 11 countri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overnment / inter-agency reviews and program documents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enin, Ethiopia, Ghana, Guinea, Kenya, Malawi, Mali, Nigeria, Tanzania, Uganda, and Zambi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566-07B8-4D56-B9FE-8D7DB11B3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e found tha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blems often rise from implementing education policies in situations of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32763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ce re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olicymak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dequate capacities to manage complex situation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targ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801-8AFB-40C1-8BCB-2681281DFC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n other words,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ound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between the policymaking processes &amp; the realities of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ly, this is happening between centralized authoritie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sometimes with their external partner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and the many actors in the field (parents, teachers, learners…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F8A-F572-4475-A305-84206539C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positions to pave the way for a renewed approach to policymaking and implementation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during implementation: build responsiveness &amp; adaptability into polic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t basic assumptions: e.g., stability of the environment &amp; that decisions made in one will be implemented in anoth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 gaps between policymaking and implement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66B-5BF3-4C0B-9D95-9B01450BC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 Proposition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hink the concept of policy.  What may be appropriate for policy formulation may be a source of difficulty for implement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ve for clarity on roles &amp; functions; confusion reduces capacities for implement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ze greater participation of all stakeholders. Their ownership is necessa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plementation matt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0B9-FD11-4A1B-BA0F-6FC7E5AAB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20:32:33Z</dcterms:created>
  <dc:creator>Richard Sack</dc:creator>
  <dc:description/>
  <dc:language>en-US</dc:language>
  <cp:lastModifiedBy>h.boukary</cp:lastModifiedBy>
  <dcterms:modified xsi:type="dcterms:W3CDTF">2003-12-03T09:37:54Z</dcterms:modified>
  <cp:revision>32</cp:revision>
  <dc:subject/>
  <dc:title>Implementation matters: Exploring their critical role in transforming policies and investments into results</dc:title>
</cp:coreProperties>
</file>