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872-59B1-431C-B41C-30E5FF04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B523-A434-4C06-BB4D-81EB5B82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A675-E638-4D20-AE6B-293B0101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F3DA-0F6B-41C2-BA5C-9FE8FEEF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17E0-DA09-4B8C-AD3B-1616ECCF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D020-0A94-4B78-8702-763E0907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69AC-B3FC-4046-AD51-E5689AE3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A627-F9B2-4928-98FA-845FC1B3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5507-0F0F-4703-AB6E-4BB3EC63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9F81-D869-4291-8C58-276463F8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B803-F291-468F-B06C-CAB041E6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123-3C72-4F3B-B8A2-35CE4DBC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3B87-5A1F-4D25-96E5-F5016259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A597-003B-4884-8522-FA6031E3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91EF-2FC7-431E-83C7-0AA901C6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197D-60C1-4EB1-960D-1A858BC5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3636-FD15-4857-B7BC-9855660F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1CC-6724-4FA1-A106-4EB7F8F1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3B5-4B66-4D73-AC7F-1DE97286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6D46-98F8-4851-8DE0-75D187B1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1BD-B526-4917-AB94-C7E2218F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E49-105B-4401-84C5-FD4A14FE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7DB-7D01-41FE-8538-12173A86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600-B507-4887-B4F9-774065A2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askerville Old Face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askerville Old Face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7788-3CFB-46E8-BD50-A0CCA3BF0452}" type="datetime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42CB-2F3F-4362-A78A-80F4DCD4DB8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askerville Old Face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Baskerville Old Face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CDDB-A1E9-43FF-8D60-F9A7F66B5681}" type="datetime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C05F-01F0-432F-A907-812C8F1079A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1868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LEMENTING REFORMS IN SCHOOLS AND CLASSROO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3581280"/>
            <a:ext cx="7620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Case study on the impact of Primary Education Reform Programme (PERP) on the Quality of Basic Education in Uga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y Joseph Eil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rincipal Education Pla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Uga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 to PERP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P in Uganda was launched in 1992, aimed at reversing the decline in basic education provision and revitalize it for socio economic recove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on three pivotal concer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ansion of access to quality learning opportun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ing school level management 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ngthening planning, policy analysis and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ganda Case stud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8F24-E32F-4569-AD6C-935BD51499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search method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848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ve use of policy documents and implementation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al and external assessment of various aspects of the reform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ganda Case stud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678C-C190-45CA-B5D3-18C54618166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ain finding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toration of the previously degenerate professional and socio economic status of primary school teac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all upgrading of untrained teac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more even spatial distribution of qualified primary school teachers throughout the coun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ion of specially trained and inducted cadre of teacher educa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grading of managerial skills among education manag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munity responsiveness and change of attitudes towards educational endeavors and initiat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eater pupil participation, higher enrolment ratios, reduction in gender disparities and increased cohort survival r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roved quality of PTCs’ facilities, accessories &amp; equi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rement in supply of cheaper and locally adapted instructional materi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re inclusive &amp; demand driven curricula developed for primary schools and PT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ised national examination system to become more of a teaching – learning t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engthened capacity of the Ministry of education and sports person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ganda Case stud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B9C-B7B3-4C70-A5D7-22420F5176A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Main Less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) The need to have clear conceptualization of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bjectives and priorities  of the intended educational refor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reation and strengthening of appropriate institutional struc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uilding managerial capacities for the process implementation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2) The need for political will and commitment to realise the refor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3) Community based support for successful implemen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4) Creation of new partnerships with redefined rol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5) Establishment of mechanisms for accountability, transparency, decentralisation and particip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6) Reform is costly and therefore there is need to address the issue of fund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7) Effective coordination of donor-ai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8) There is however a need for further reflection on sustainability of reforms on a long-term and concrete quality outco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ganda Case stud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FB8-4459-47B8-9E80-1D76A98D8C1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spread pov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astating effect of HIV/AIDS on the productive segment of the soc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dequate, inefficient and inequitable financial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ing wars and confli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blem of social exclus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pid population growth rates and persistent gender dispar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ganda Case stud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D35-2DA7-492C-B8F5-37F7F9F8A9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.boukary</cp:lastModifiedBy>
  <dcterms:modified xsi:type="dcterms:W3CDTF">2003-12-03T09:27:40Z</dcterms:modified>
  <cp:revision>9</cp:revision>
  <dc:subject/>
  <dc:title>PowerPoint Presentation</dc:title>
</cp:coreProperties>
</file>