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11DD-8945-493E-9D5C-E5A0AF83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5CC2-23ED-4880-868B-3E74C7C8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2645-5FBE-42DF-944E-0B594A26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96DD-2235-4068-882E-DEA5A318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AF10-6829-45DF-BAF7-CADEC677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E3C9-9FB8-4A10-B582-1FACE6D0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AE7D-DD44-4F8D-B08B-C152505D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AA06-EB23-44EC-8485-0B2EA68C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432E-E446-4CFA-838E-51FAA88D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4A18-06D4-4213-9DAD-56253C30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EE07-93D2-4ADC-B5C4-FCAF3980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3D1C-0BE5-4958-819E-61F857BB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84A4-886B-4E87-9906-F606E90337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Challenge of Lear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2362320"/>
            <a:ext cx="70102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mproving the Quality of Basic Educatio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 Sub-Saharan Afr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502920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omment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Averspoor@worldbank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dembele.martial@uqam.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.sedel@iiep.unesco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40798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ynthesis of Experience and Knowl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indings: Challenges Ahead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 countries provide an equitable opportunity to learn to poor and rural children, in particular the gir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ernative learning systems remain marginalized, underfunded and often not equivalent in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 schools have the inputs necessary for effective instruction, thus limiting the scope for improvements in classroom process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s in instructional practice rarely move beyond the pilot st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ncially sustainable large scale ECD programs are r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pacity building strategies usually have a narrow focus on skil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es piliers de l’amélioration de la qualité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réer les occasions d’apprend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méliorer les pratiques pédagogiqu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Gérer le défi de l’équi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ccroître l’autonomie et la flexibilité des éco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avoriser l’appui des communauté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nstaurer un cadre financier réalis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éagir au VIH/sida et aux situations de confl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752480"/>
            <a:ext cx="761976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. Créer les occasions d’apprend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Encourager le soutien familial et la maturité scola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Garantir la disponibilité des intrants et des fournitures essenti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3581280"/>
            <a:ext cx="8458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Exempl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grammes d’alphabétisation des adultes au Burkina Faso et en Oug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grammes communautaires de DPE en Guinée Bissau et en Maurita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ants de qualité fondamentale au Bén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nds de développement scolaire (FDS) au Sénég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3581280"/>
            <a:ext cx="8534520" cy="289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2. Améliorer les pratiques pédagogiqu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dopter un programme scolaire pertin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Former des enseignants compét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ider les chefs d’établissement à devenir des leaders pédagog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ettre l’accent sur l’éducation de la petite enf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26708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Exempl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ducation bilingue au Burkina Faso, au Mali et en Zamb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éformes de la formation des enseignants en Guinée, en Namibie et en Oug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mation des chefs d’établissement au Keny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grammes de lecture soutenus par l’USAID en Guiné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343400"/>
            <a:ext cx="8610480" cy="2209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Gérer le défi de l’équité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3818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ffffff"/>
                </a:solidFill>
                <a:latin typeface="Times New Roman"/>
              </a:rPr>
              <a:t>Garantir des chances équitables d’apprentissage pour les enfants pauvres, notamment dans les zones rur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ffffff"/>
                </a:solidFill>
                <a:latin typeface="Times New Roman"/>
              </a:rPr>
              <a:t>Résoudre le problème de l’égalité entre les sex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ffffff"/>
                </a:solidFill>
                <a:latin typeface="Times New Roman"/>
              </a:rPr>
              <a:t>Reconnaître l’importance de la diversité et de la flexibilité dans la conception et l’off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ffffff"/>
                </a:solidFill>
                <a:latin typeface="Times New Roman"/>
              </a:rPr>
              <a:t>Adopter un nouveau paradigme : apporter l’éducation aux élèv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657600"/>
            <a:ext cx="807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Exempl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ducation des nomades au Nige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grammes non formels au Burkina Fa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us-traitance à des prestataires non gouvernementaux et communautaires au Sénégal : l’approche « faire-faire 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’école primaire de filles de l’African Inland Church (AIC) à Kajiado au Kenya (FEA/FAW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3733920"/>
            <a:ext cx="8153280" cy="2971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4. Accroître l’autonomie et la flexibilité des éco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éconcentrer l’autorité aux bureaux régionaux et de distri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’orienter vers une gestion autonome des éc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ider les chefs d’établissement à devenir des agents de chan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econnaître l’importance du pilotage, de la supervision et de l’app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38098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Exempl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Contrats passés avec les écoles à Madagasc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Dotations forfaitaires aux écoles en Ouganda et en Tanza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Petites subventions aux écoles en Guin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Suivi des performances professionnelles au Sénég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Expériences du PASEC, du SACMEQ, du MLA et du SISED pour renforcer les capacités de pilotage quantitatif de la performance des systè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657600"/>
            <a:ext cx="792468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5. Favoriser l’appui des communauté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ffffff"/>
                </a:solidFill>
                <a:latin typeface="Times New Roman"/>
              </a:rPr>
              <a:t>Reconnaître l’importance des interactions entre parents, communautés et écoles pour faire naître la qualité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ffffff"/>
                </a:solidFill>
                <a:latin typeface="Times New Roman"/>
              </a:rPr>
              <a:t>Favoriser une implication plus systématique des communauté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ffffff"/>
                </a:solidFill>
                <a:latin typeface="Times New Roman"/>
              </a:rPr>
              <a:t>Inciter les communautés à devenir partenaires du développement scolai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657600"/>
            <a:ext cx="8102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xempl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Écoles communautaires au Mali, au Sénégal et en Zamb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ui communautaire aux programmes alternatifs au Burkina Faso et au Nige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mplication des communautés pour l’amélioration des écoles publiques en Guinée et en Tanzanie (Fonds communautaire d’éducation) et appui du projet IEQ à la participation communautaire en Oug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3733920"/>
            <a:ext cx="8229600" cy="2971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6. Instaurer un cadre financier réalist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5345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imes New Roman"/>
              </a:rPr>
              <a:t>Investir dans les intrants réputés avoir un réel impact sur les résultats d’apprentissa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imes New Roman"/>
              </a:rPr>
              <a:t>Consacrer 10 à 15 USD par enfant pour les dépenses hors salair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imes New Roman"/>
              </a:rPr>
              <a:t>Gérer soigneusement la masse salari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imes New Roman"/>
              </a:rPr>
              <a:t>Réduire le niveau aléatoire de ressources allouées par élève aux différentes éco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imes New Roman"/>
              </a:rPr>
              <a:t>Susciter des contributions communautaires et faire en sorte qu’aucun enfant ne soit exclu de l’école par manque de ressourc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4800600"/>
            <a:ext cx="7940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xempl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ormes du recrutement et de la formation des enseignants en Guinée et au Sénég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nds communautaire pour l’éducation en Tanza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alyse et allocation des ressources en Maurita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876920"/>
            <a:ext cx="8076960" cy="182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7. Réagir au VIH/sida et aux situations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de confli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500" spc="-1" strike="noStrike">
                <a:solidFill>
                  <a:srgbClr val="ffffff"/>
                </a:solidFill>
                <a:latin typeface="Times New Roman"/>
              </a:rPr>
              <a:t>Les campagnes d’information et la mise à disposition de médicaments ARV ont probablement infléchi les taux de de prévalence et de mortalité, moins mauvais que prévu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500" spc="-1" strike="noStrike">
                <a:solidFill>
                  <a:srgbClr val="ffffff"/>
                </a:solidFill>
                <a:latin typeface="Times New Roman"/>
              </a:rPr>
              <a:t>Il faut impérativement poursuivre et approfondir ces initiatives prometteuse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500" spc="-1" strike="noStrike">
                <a:solidFill>
                  <a:srgbClr val="ffffff"/>
                </a:solidFill>
                <a:latin typeface="Times New Roman"/>
              </a:rPr>
              <a:t>Les partenariats efficaces entre pouvoirs publics, ONG et communautés sont essentiels pour garantir une offre éducative aux orphelins et aux enfants vivant dans des zones de confli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45720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Exempl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Le groupe </a:t>
            </a:r>
            <a:r>
              <a:rPr b="0" i="1" lang="fr-FR" sz="2400" spc="-1" strike="noStrike">
                <a:solidFill>
                  <a:srgbClr val="ffff00"/>
                </a:solidFill>
                <a:latin typeface="Times New Roman"/>
              </a:rPr>
              <a:t>ad hoc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de l’ADEA sur le sida a réuni des informations sur les bonnes pratiques et les initiatives susceptibles de contribuer à la conception des interven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Intérêt des expériences post-conflit de la Sierra Leone, du Tchad et de l’Oug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480060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648320"/>
            <a:ext cx="8610480" cy="2209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omising Avenues and Blind Alley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78408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78408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Challenge of Lear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The central ques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are the options African countries can consider for improving the quality of instruction and learning achievement in basic education in a financially sustainab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Culture of Qu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Aft>
                <a:spcPts val="14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s that place learning central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Aft>
                <a:spcPts val="14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elief that failure is not an inevitable part of the education process; and that all children can learn given time and appropriate instruction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Aft>
                <a:spcPts val="14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mmitment to equitable outcomes and a readiness to vary inputs and processes to achieve the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Aft>
                <a:spcPts val="14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mprovement process that focuses, first and foremost, on the means- on the processes and the skills required to bring about quality result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Aft>
                <a:spcPts val="14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edication to universal quality learning based on diversity and flexibility in delivery mechanisms and instructional prac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914400"/>
            <a:ext cx="8763120" cy="556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Quality focused Implementation Strateg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358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cal learning and adaptation is key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ing local capacity –at the school, the community and the district level- is a condition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ine qua n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r success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gress is incremental and unev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ge is essentially a local process with the school as the unit of change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1752480"/>
            <a:ext cx="434340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vides flexible and incremental implementation  mechanis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cludes arrangement for learning from experienc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lows for the development and implementation of several innovation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cognizes and values local level experienc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iders policy development and implementation as continuou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pports iterative and mutually reinforcing process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143000"/>
            <a:ext cx="190476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1143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cognizes tha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114300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opts a strategy tha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1143000"/>
            <a:ext cx="2514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752480"/>
            <a:ext cx="3809880" cy="457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24280" y="1752480"/>
            <a:ext cx="4191120" cy="457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Quest for Quality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litical will to a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lasting national commitment to a shared vision that embraces quality and equ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lecting and sequencing priorities for implementation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i) what to do first; (ii) how to reach a meaningful number of students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pacity building strategi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t encourage the utilization of existing capacity, includes stakeholders at all levels of the systems and aims to develop a system of learning instit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road based partnerships within countri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supported by co-operation with regional and international agencies and institutions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143000"/>
            <a:ext cx="792468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Towards a Learning System: Strategic Direc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ve towards a system of learning institution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flexibility in delivery and equivalence in objec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cus on learnin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meates such a system and gives it co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mphasize continuous improvem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a sustained effort over time , not quick fixes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ly on evidence based strategi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rounded in lessons from experienc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e framework for systematic learn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national, regional and international exper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371600"/>
            <a:ext cx="8001000" cy="510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Starting Point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broad outcome oriented concept of Qualit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hasis on results, mediated by quality inputs and process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ed by the extent students achieve the knowledge, skills and behaviors specified in the national curricul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cognitive, affective an social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ctations of results vary considerably beyond the cognitive co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5562720"/>
            <a:ext cx="8382240" cy="9471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hile cognitive outcomes are the core of schooling, society, parents and students expect schools to do mo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deling the Concep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371600"/>
            <a:ext cx="2666880" cy="582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stem Contex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5638680"/>
            <a:ext cx="2819520" cy="665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munity 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3429000"/>
            <a:ext cx="1143000" cy="81612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utpu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3429000"/>
            <a:ext cx="1063440" cy="81612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pu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066680" y="16765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16765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2743200"/>
            <a:ext cx="3733560" cy="22096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3429000"/>
            <a:ext cx="1600200" cy="838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2819520"/>
            <a:ext cx="126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38862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733920" y="4952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066680" y="4266720"/>
            <a:ext cx="0" cy="1752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3429000"/>
            <a:ext cx="1524240" cy="838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ro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19810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3886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4267080"/>
            <a:ext cx="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105520" y="601992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781680" y="16765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181120" y="16765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638680" y="3733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267080" y="19807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91120" y="4952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38880" y="38862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43800" y="3429000"/>
            <a:ext cx="137160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utco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229600" y="419112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81680" y="60199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8229600" y="16765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781680" y="16765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066320" y="60199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inking about Educational Effectiveness:</a:t>
            </a: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ain Features</a:t>
            </a:r>
            <a:br>
              <a:rPr sz="36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assroom facto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time, grouping procedures, instructional strategies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e k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hool factor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leadership, emphasis on order, academic achievement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nable and rein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 factor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vision, standards, resources, relevant curriculum, incentives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dir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munity facto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nsure local relevance and own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70360" y="621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6019920"/>
            <a:ext cx="807732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sistency principle: alignment reinforces the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ry case studies (2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s of experie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idence and experiences documented by W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s of African Literature (ERNESA and ERNWAC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ground papers (15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shed liter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l pap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Challenge: Low Learning Achievement</a:t>
            </a:r>
            <a:br>
              <a:rPr sz="2800"/>
            </a:b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ercentage of correct answers on fourth-grade mathematics and reading test</a:t>
            </a:r>
            <a:br>
              <a:rPr sz="2000"/>
            </a:b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8604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50960" y="1219320"/>
          <a:ext cx="7859520" cy="518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960" y="1219320"/>
                    <a:ext cx="7859520" cy="51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914400" y="609480"/>
          <a:ext cx="739152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09480"/>
                    <a:ext cx="73915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indings: Towards  School based Management, Relevance and Learni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towards decentralization of non-personnel functions and increased school level decision making is widespr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ty involvement in school development is becoming more comprehensiv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idence on the effectiveness of bilingual education is comp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essments of student learning are increasingly comm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ral cases of successful reforms of teacher edu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forms of partnerships are emer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01:39:18Z</dcterms:created>
  <dc:creator>WB08731</dc:creator>
  <dc:description/>
  <dc:language>en-US</dc:language>
  <cp:lastModifiedBy>Min of Education</cp:lastModifiedBy>
  <dcterms:modified xsi:type="dcterms:W3CDTF">2003-12-02T15:02:30Z</dcterms:modified>
  <cp:revision>75</cp:revision>
  <dc:subject/>
  <dc:title>The Challenge of Learning</dc:title>
</cp:coreProperties>
</file>