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6B0-5123-4770-8998-EF42431B5A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Other background papers: Monitoring performance (Greaney and Kellagh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50F-F64B-4043-9977-A72E89DA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8A6-619D-4F8B-BD56-A07BF9D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6E7-167B-453D-A72A-12D529A4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013-FCE8-4F92-B1CD-0B1B4631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F592-D656-4E1D-AEC7-6DDBAB6C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CA2-DBA1-4FD6-930D-B75C331D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20C4-EA88-4BEA-BD79-EACDD1CB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B70-EEF8-463D-B32C-043E4733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5C74-DABA-4EF7-99F0-9F4659FC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53F0-659B-4099-ADE0-1C801378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511-F5ED-47DB-96AB-31EAA2A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F81-C3D2-4B8C-ADA9-9D0F8191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8E08-F160-4369-9BC4-F6BC159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4335-C556-4F1D-90B3-2DF61D48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0082-71D8-42FB-8B39-CE4D809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BCB0-91A9-40EF-A351-4CF15DDD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23AC-A1D2-4290-92BC-3352F111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EF5-7B11-4834-8AFC-DB43574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765-B1BA-4878-AC1A-94D6FA69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C87-4101-4586-AF82-3E53A849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CBA-36A4-4A0D-B988-1EFFA83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4F9-9DFF-4EE4-A9BE-A4FFAB1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0D8-1FBA-43AE-8132-53B7858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9F9-E772-4CF8-B8DA-BE47C06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A75C-F420-4CD4-94A6-1E2C95B220C4}" type="datetime">
              <a:rPr b="0" lang="fr-FR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DA53-BC31-4570-B997-5D426C80F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6B8-0F38-4399-BC4E-528D7CE5012B}" type="datetime">
              <a:rPr b="0" lang="fr-FR" sz="1400" spc="-1" strike="noStrike">
                <a:solidFill>
                  <a:srgbClr val="1c1c1c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2794-3D3F-4682-BF11-90982D0DF9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Pedagogical Renewal and Teacher Development in Sub-Saharan Africa: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A Thematic Synthes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2640" y="4419720"/>
            <a:ext cx="7010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</a:rPr>
              <a:t>Martial Dembélé &amp; Bé-Rammaj Miaro 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STRUCTURED INSTRUCTION : Features and 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ahoma"/>
              </a:rPr>
              <a:t>Central features includ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mastery learning and moving from the simple to the complex as guiding princip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directiv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explicit teaching of cont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model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guided and independent practi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1c1c1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Aims to foster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mastery of subject matt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academic achiev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acquisition of learning strateg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STRUCTURED INSTRUCTION: Some fa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Well established and thoroughly investigated practice, primarily in industrialized countr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Successful attempts to institutionali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Conclusive results in terms of learning outcom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Effectiveness well established, especially with children from disadvantaged backgroun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Apparently within the reach of ordinary teachers and suitable for large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Operational clar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THE NEED FOR PEDAGOGICAL RENEWAL IN S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Teaching is reported to be arguably the strongest determinant of student achie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Teacher effect is reported to be cumulative and res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Persistence of practices reported to be (i) ineffective and (ii) among key explanatory factors of poor student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escribed as being rigid, chalk-and-talk, teacher-centered/dominated, lecture-dri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Place students in a passive role and limit their activity in class to memorizing facts and reciting them back to the teacher; reflected in classroom assessment practices; foster lower order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THE CHALLENGE OF PEDAGOGICAL RENEWAL</a:t>
            </a:r>
            <a:r>
              <a:rPr b="0" lang="fr-CA" sz="4800" spc="-1" strike="noStrike">
                <a:solidFill>
                  <a:srgbClr val="333399"/>
                </a:solidFill>
                <a:latin typeface="Tahoma"/>
              </a:rPr>
              <a:t> (1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There is a ‘grammar’ of teaching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Teaching practices are determined by beliefs and image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that teachers begin to develop well before embracing teaching as a car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that most teacher preparation and continuous development programs are not able to challenge successfully; or do not even attempt to challenge because teacher educators or staff developers themselves hold the same beliefs and im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THE CHALLENGE OF PEDAGOGICAL RENEWAL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Tahoma"/>
              </a:rPr>
              <a:t>Significant change in teaching practice is a slow process that does not depend only on teachers and teacher educators. It implicat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changes in the practices of educational leaders who run, supervise and support schools, namely school heads, pedagogical advisors and insp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improvements in the teaching and learning environment, but which are often unaffordable on a large sca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Tahoma"/>
              </a:rPr>
              <a:t>Pedagogical renewal may be meaningless or practically impossible without curriculum renew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ENABLING CONDITIONS FOR PEDAGOGICAL RENEWAL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 vision of teaching linked with learning processes and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 teacher preparation and  continuous development program informed by this vision and by knowledge of teacher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nstructional leadership, capacity for change and autonomy at school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ffective supervision and support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ctive parental invol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High quality research, especially on teaching, learning and teacher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ENABLING CONDITIONS FOR PEDAGOGICAL RENEWAL</a:t>
            </a:r>
            <a:r>
              <a:rPr b="0" lang="fr-FR" sz="4800" spc="-1" strike="noStrike">
                <a:solidFill>
                  <a:srgbClr val="333399"/>
                </a:solidFill>
                <a:latin typeface="Tahoma"/>
              </a:rPr>
              <a:t> (2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Material resources for teaching and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Adequate remuneration of teac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Teachers’ status, motivation and working conditions (including a career 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ustained political will and commitment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333399"/>
                </a:solidFill>
                <a:latin typeface="Tahoma"/>
              </a:rPr>
              <a:t>POINTS OF CONVERGENC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school as the most critical intervention level for quality impr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School-based management as a promising approach for quality impr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primacy of the human fa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importance of process fa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complexity of chan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importance of adjusting reform to current skill level of key actors of implementation, i.e., teachers, head teachers, teacher educators and mid-level educational lea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ISSUES FOR REFLECTION AND 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ideal of open-ended pedagogy versus the harsh realities of classrooms in S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apparent resistance to direc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Learning-centeredness: A more useful focus of atten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The re-composition of the teaching force in many countries: its implications for in-service teacher education and potentially negative impact on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333399"/>
                </a:solidFill>
                <a:latin typeface="Tahoma"/>
              </a:rPr>
              <a:t>SOURC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Theme related country case studies 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Theme related background papers 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Annotated bibliograph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by ERNESA (5 countri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by ERNWACA (11 countri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Other relevant case studies and background pa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333399"/>
                </a:solidFill>
                <a:latin typeface="Tahoma"/>
              </a:rPr>
              <a:t>CASE STUDIES </a:t>
            </a:r>
            <a:r>
              <a:rPr b="0" lang="fr-CA" sz="48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1371600"/>
          <a:ext cx="8991720" cy="5254560"/>
        </p:xfrm>
        <a:graphic>
          <a:graphicData uri="http://schemas.openxmlformats.org/drawingml/2006/table">
            <a:tbl>
              <a:tblPr/>
              <a:tblGrid>
                <a:gridCol w="2367000"/>
                <a:gridCol w="6624720"/>
              </a:tblGrid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ro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pedagogical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ine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-service primary teacher education re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cher-led professional development and school impro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beri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elerated learning pr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ibi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- and in-service Basic Education Teacher Diploma programs, and teacher self-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nzib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cher resource cen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333399"/>
                </a:solidFill>
                <a:latin typeface="Tahoma"/>
              </a:rPr>
              <a:t>CASE STUDIES </a:t>
            </a:r>
            <a:r>
              <a:rPr b="0" lang="fr-CA" sz="48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281320"/>
          <a:ext cx="8246880" cy="3571920"/>
        </p:xfrm>
        <a:graphic>
          <a:graphicData uri="http://schemas.openxmlformats.org/drawingml/2006/table">
            <a:tbl>
              <a:tblPr/>
              <a:tblGrid>
                <a:gridCol w="2514600"/>
                <a:gridCol w="5732280"/>
              </a:tblGrid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i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uritiu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tance teacher upgrad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ya, Tanzania and Ugand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a Khan Foundation-supported</a:t>
                      </a:r>
                      <a:r>
                        <a:rPr b="0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ool Improvement Projec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593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333399"/>
                </a:solidFill>
                <a:latin typeface="Tahoma"/>
              </a:rPr>
              <a:t>BACKGROUND PAPERS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752480"/>
          <a:ext cx="8458200" cy="5004000"/>
        </p:xfrm>
        <a:graphic>
          <a:graphicData uri="http://schemas.openxmlformats.org/drawingml/2006/table">
            <a:tbl>
              <a:tblPr/>
              <a:tblGrid>
                <a:gridCol w="2667240"/>
                <a:gridCol w="5790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unet, J. P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ervision and pedagogical suppor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bélé, 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cher educ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uthier, C. et 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ective schools and effective teach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va, K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le and professional development of school head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ney, V. &amp;  Kellaghan, 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fr-CA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itoring perform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333399"/>
                </a:solidFill>
                <a:latin typeface="Tahoma"/>
              </a:rPr>
              <a:t>PRESENTATION OUTLIN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ahoma"/>
              </a:rPr>
              <a:t>The meaning and importance of the t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ahoma"/>
              </a:rPr>
              <a:t>The need for pedagogical renew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ahoma"/>
              </a:rPr>
              <a:t>The challenge of pedagogical renew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ahoma"/>
              </a:rPr>
              <a:t>Enabling conditions for pedagogical renew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ahoma"/>
              </a:rPr>
              <a:t>Points of convergence and issues for reflection and discu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THE MEANING AND IMPORTANCE OF THE TH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What we mean by pedagogical renew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How important is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What practices are reported to be 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Open-ended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tructured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0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OPEN-ENDED INSTRUCTION: Features and 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Central feature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hild-centeredness and moving from whole to parts as guiding princip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high interactiv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onstruction of knowledge through inquiry and disco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ooperative learn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situated cogni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ims to fos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onceptual understanding of subject matt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critical think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problem-solving skill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OPEN-ENDED INSTRUCTION: Some fa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Most current programs are in their infancy and on a small sca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Limited success in attempts to institutionalize, in both industrialized and developing countr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Mixed or inconclusive results in terms of learning outcom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Effectiveness not yet firmly establish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Apparently beyond the reach of the ordinary teach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Tahoma"/>
              </a:rPr>
              <a:t>Diverse interpretations, lack of operational clar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 of Education</cp:lastModifiedBy>
  <dcterms:modified xsi:type="dcterms:W3CDTF">2003-12-03T12:04:52Z</dcterms:modified>
  <cp:revision>473</cp:revision>
  <dc:subject/>
  <dc:title>Présentation PowerPoint</dc:title>
</cp:coreProperties>
</file>