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6984-D334-4B1E-A857-66808E2A8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iculum rev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iculum revisions, incorporating innov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ff Appraisal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Appraisal 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ation Completion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Audit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ifficult to imp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assessments of learning (test scores) and associated inputs (demographics, teacher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C813-8C57-4F20-9673-B2C52324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B6E6-8367-431B-89DA-657408CA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5A6F-E128-42DD-B0EB-FCF36D449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BA5E-29BC-4453-ADDB-8DFE5A6C0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C572-13EF-4BF0-ACE1-B7BD05C94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7721-271F-4452-97A2-4460E236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7C2D-078F-43F4-A405-48E0273C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DFE2-CF21-4A21-8B99-3376C1D8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B79C-635E-4175-B60A-B223DB36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AE00-1A5B-41E2-8983-79A7EE99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E8FC-7316-4C27-8675-5BA499D8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C821-3B29-4E01-9884-4803A3C1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AA8A-1F26-4B3E-9538-00E9D646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54BC-21C0-4607-99CC-24BA4B7C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EB992-4539-4496-973F-0618C482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D8AB-D88C-4C33-9A54-3977D220F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72B1-D01B-4095-AD1B-19C7B41C5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EF8E-E371-416F-BAD1-20575804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1DCB-A0CD-4703-8DBC-CE044E69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0233-55EA-4C10-BB37-65B993F2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CB2F-059C-4CAA-9D1B-D23282A2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BD72-1D32-4B89-8FC1-B14085B6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BE36-C117-4316-BBC1-1D738378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5842-6A07-42F1-B193-C37E3236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E14E-9BCA-4A9D-8F89-320B79CFFC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AC69-CADC-46F3-84C4-346897D866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Improving the quality of basic education in Africa: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the World Bank lear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EA Biennale, Mauritius, December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nancing qualit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rger allocations to primary 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e the burden on famil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blic funding of teachers in community scho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oled (“basket”) fu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or-wide approach to planning and financ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ersisting constrai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ing enrollments and their demand on scarce re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or management, work pract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ak incentives for better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ysfunctional creative and adaptive system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unities ill-prepared for decentral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sufficient evidence on outco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nderlying conclus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 Quality improvements depend not only on financing essential inputs but also on facilitating the process of problem-solv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ganda: Education Sector Reviews every six mont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uinea: Encouraging teachers to identify and solve their own teaching probl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nderlying conclus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Managing resources is as important as mobilizing them. Bank support needs to include concrete good management pract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rkina Fa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Gamb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h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urita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nderlying conclus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Responsibility for improving quality extends beyond the ministry of 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verty reduction strategies led by the ministry of fin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ivil service refor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government institu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cal governments and commun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2015640"/>
            <a:ext cx="82296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Improving quality is far more difficult than increasing access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research question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do changes over time in Bank practices reveal about what it has learned about improving qualit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are the trend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do project components chang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tional knowled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thodolog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viewed 58 project documents (30 countries) between 1987 and 200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nning docu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aluation docu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viewed Task Manag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documents that they referenc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ndings (trends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ool-based inputs and processes essential to qua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agement of projects and related activ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ancing and cooperation with other international agenc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terials and classroo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vatize functions of textbook production and distrib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ance learning materials with public fu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age communities in classroom constr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ach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ing teachers’ salaries in line with what government can afford and teachers will acc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ise salaries where they are too l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contract teachers when civil service expansion is too expens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-service train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unqualified teac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better balance with pre-service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urriculum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090880"/>
            <a:ext cx="8229600" cy="33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mother tongue instruction in early gra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cus on core subj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igning tests with revised curricu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nov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ool-based health and nutrition ser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rly childhood educati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der-fund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of instructional radio to deliver curricul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lanning and managing qualit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icy and budget frameworks based on outcomes, not inpu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 management systems: finance, information, textbooks, constr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nitor quality improvements (national assessment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agement at decentralized levels (district, schoo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9T13:27:41Z</dcterms:created>
  <dc:creator>Jeanne Moulton</dc:creator>
  <dc:description/>
  <dc:language>en-US</dc:language>
  <cp:lastModifiedBy>unesco unesco</cp:lastModifiedBy>
  <dcterms:modified xsi:type="dcterms:W3CDTF">2004-01-07T07:41:05Z</dcterms:modified>
  <cp:revision>6</cp:revision>
  <dc:subject/>
  <dc:title>Improving the quality of basic education in Africa:</dc:title>
</cp:coreProperties>
</file>