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CBA2-3971-4B02-AE16-C255B9FB3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us variabilité complémentaire dans la distribution des dépenses courantes hors rémunération des enseignants : manuels scolaires, formation continue des enseignants, support pédagogique aux enseignants, évaluation des élèves,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8AE-1AA5-477A-AED8-7927862B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1A4-7A6B-4310-9CBB-AAC1D6E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D91-B6DE-4D2A-BD7C-E1A4E7F8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EC1-52CA-4ED1-BB92-B5E434CD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1A5-468C-4795-A766-0DE4D29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19A-A306-431B-ADBF-18F3B3A7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0D9-722D-415F-A582-97A1E37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41E-5E07-4A44-81A0-0A99D4AB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7C2-3E45-404D-81E6-D49B78F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E21-7887-4C33-A4E9-9C5558E9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655-9712-4DF0-A312-64F1F63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712-5F56-46AC-97D8-46E611C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F45E-55FF-4292-A4CC-E7B3C00D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primary education : choice of cost-efficient in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issues need be contextu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ways to organize school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 matter but the transformation of school inputs into student outcomes matters mo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de possibilities to determine the mix of school in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tial room of manouver : Identify which mixes ar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student learning (facts, not opin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iderations (opportunity co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in the production of school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matter but the use of resources matters more : Transformation of resources into student lear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 resources from the center to individual schools at the local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 resources into student learning at the school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te resources from the center to local individual schoo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orm resources into student learning in individual sch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14400" y="1981080"/>
          <a:ext cx="73152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3152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orm resources into student learning in individual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s show that the variability in student learning depends betwe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o 5 times 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use of the resources than on the amount of resources itself and its mix across the various school inpu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issues need be contextua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nsity of constraints vary across countries of the Africa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phic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7-12 represent between 15 to 20 % of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f HIV/AIDS : From 1 to 25 % of population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ment revenues vary from 8 to 25 % of G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issues need be contextua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 choices made by countries do also vary substa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for education in recurrent Government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in recurrent budget from 8 à 3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for primary education in education recurrent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education from 35 to 65 % of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issues need be contextua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quantity-quality tradeoff, the pressure for quantity varies widely across African count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Completion Rate from 20 to 100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ways to organize schooling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de facto make quite different tradeoffs between quantity and 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ous possibilities to mix the various school inputs for a given level of per-pupil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s on how education services can be deli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ways to organize schooling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between quantity and quality differ across Afric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2962440"/>
            <a:ext cx="74674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ntries make different tradeoffs between quantity and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pupil spending varies from 6 to 35 % of PC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C = 4.8 + 5.61.EdGDP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R²= 0.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t=4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= 69.16 + 32.81.EdGDP – 3.10.U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R² = 0.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t=9.6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(t=8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eoffs between the various school inpu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Ch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on modes to deliver educational se</a:t>
            </a: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preschool or community-based struc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Standard grouping of students versus double-shifts or multigrade, with various implementation formula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Different mix between pre-service (duration ?) and in-service teacher train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School building construction with international firms, local contractors or communit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Vocational education in formal centers or in fir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Standard practices versus distance learning in higher education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23:51:36Z</dcterms:created>
  <dc:creator>WB15283</dc:creator>
  <dc:description/>
  <dc:language>en-US</dc:language>
  <cp:lastModifiedBy>WB15283</cp:lastModifiedBy>
  <dcterms:modified xsi:type="dcterms:W3CDTF">2003-12-01T15:10:20Z</dcterms:modified>
  <cp:revision>9</cp:revision>
  <dc:subject/>
  <dc:title>Qualité de l’éducation primaire : choix des facteurs coûts-efficaces</dc:title>
</cp:coreProperties>
</file>