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355-7A50-46F1-99F9-FC4EA7FE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5A5-0963-40DA-8DDA-8CFD81AA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D95-B976-4D3F-9B33-9C4E4449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7B29-8CD8-4734-BDCF-BE4EC35B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3AE0-6163-4312-B1BD-168F7794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E91B-99A4-4E55-B026-5C7455D3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096E-F7DA-42D2-82CD-A055FB10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CBCB-1781-40DD-B33D-4CE0E0AC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8150-C6B9-49BE-88B5-F8CD644B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6720-8BEA-4192-9139-A94D45FB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216F-F158-430F-8B42-2FF46958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1C3-91A2-4147-AE87-6A8A8706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7A87-71A5-4DCD-B432-B248638D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944D-2485-46F7-8E7E-D435272D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24B8-1F0D-4749-AC1C-CB77573B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2843-8733-467A-ACDE-A67593EC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FA6A-CED2-46B1-A605-830FC55A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6DD-D840-4EEA-96C1-B6681C42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588-F7A3-45A2-80B3-2D0D76CF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2CFA-CCA2-48D1-8CA6-BA7144D7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988-3245-4D24-BA33-FD9148F0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DDC-FE48-4359-BA2E-D510AD80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D6C-529C-4FD9-9972-5250494C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3AE-7B93-4802-A1C0-B4EE7C00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B6EA-FDEE-4140-90B3-E2D2C146E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84DB-FEB2-4E08-835B-033BD3F79E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quity in Learning: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Gender Dimension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rum for African Women Educationalists (FAW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esentation at the ADE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iennial Mauritiu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 – 6 December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ADEA Logo" descr=""/>
          <p:cNvPicPr/>
          <p:nvPr/>
        </p:nvPicPr>
        <p:blipFill>
          <a:blip r:embed="rId1"/>
          <a:stretch/>
        </p:blipFill>
        <p:spPr>
          <a:xfrm>
            <a:off x="7238880" y="457200"/>
            <a:ext cx="1467000" cy="1228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02444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247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chiefs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5438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242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ase 2 Speak Out “Tuseme” Empowerment programm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cess enables students to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dentify and speak out about their problem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dentify solutio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ake action to solve the problem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cess imparts skills such as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eadership skill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fe skills - decision making negotiation skill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uild self esteem and confidence, assertivenes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Impac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irls have self esteem and confident speak out and therefore participate better in cla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nowledge on addressing Reproductive Health and HIV/AIDS issu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scipline and involvement in school management eg Mgugu, Tanzania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w incidence of teenage pregnancy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ver  3 years 2001 – 2003: less than1%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proved academic performa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gagals" descr=""/>
          <p:cNvPicPr/>
          <p:nvPr/>
        </p:nvPicPr>
        <p:blipFill>
          <a:blip r:embed="rId1"/>
          <a:stretch/>
        </p:blipFill>
        <p:spPr>
          <a:xfrm>
            <a:off x="1409760" y="1951200"/>
            <a:ext cx="63244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aking action: MOEs can take action by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iewing  of education plans and policies to see if gender equity in learning has been taken into account and mainstream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troducing  policies that address quality from a gender perspective e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nder in curriculum of  teacher training Institutions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o that the teachers can gain skills in gender responsivenes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troduce Gender responsiveness management systems in school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plicating the Centres of Excellence as has been in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822960" indent="-164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amibia, The Gambi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822960" indent="-164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Kenya and Tanzani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15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38484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Taking action by replicating selected best practice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plicating the Centres of Excellence quality package interven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g Namibia, The Gambia, Kenya, Tanzani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plication of specific interven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Tuseme “Speak out process to empower both boys and girls with skills to eliminate gender constraints in education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s been already replicated in Tanzania (27 schools), Rwanda (36 schools), Kenya, Senegal, The Gambia, Namibia, Ethiopi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aking Action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vol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communitie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in supporting girls’ education by eliminating the constraints that are entrenched in negative cultural practices such as early marriage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g Reducing case of  early marriages: Kajiado, Keny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ocate additiona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resource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o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-allocate existing resources to take equity issues into accoun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nsuring equity in learning is a win-win situation, improves quality and helps governments achieve EFA goal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possible to make practical changes to ensure quality and equitable learning for all childr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AWE ready to continue to partner with government and seeks new collaborato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ducation: My futur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69" name="quality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63868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quity in Learn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quitable provision of quality basic education is essential in achieving EFA Goal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quity cannot be limited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acces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to schooling but must include equity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learning opportunitie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and equity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Gender responsivenes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is a key element for any strategy aiming to ensure equitable  quality basic educ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ontex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or learning environment leading to poor performance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g  percentage of children wh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Black"/>
              </a:rPr>
              <a:t>failed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in Tanzania leaving exam in 2000 was 71.3% for boys and 84.5% for gir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cialization that hinders girls effective participation: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overty, school girl pregnancy, low value placed on girls’ education and girls’ contribution to household labour lead to drop ou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IV/AIDS a major thre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y countries in SSA will not achieve the EFA Goal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38484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2 Case studies  of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Best practices on quality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ase 1: Creating a gender responsive learning environment leading to equitable learning 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FAWE Centres of Excell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ase 2: Empowering students (both girls and boys) to participate effectively for quality learning: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Tusem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“Speak Out” programm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20232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entre of Excellence: Creating a gender responsive teaching and learning environment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62320" y="1981080"/>
          <a:ext cx="3457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2320" y="1981080"/>
                    <a:ext cx="345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OE Package intervention include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nder responsive teachers and teaching methodolog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nder responsive management system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mpowerment of both girls and boys with skills to eliminate gender based constraints to educ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mmunity involvement to ensure equitable lear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g early marriag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mplementation of policy interventions in favour of girls’ educatio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g re-entry of teenage mothe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50724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Impact from creating a gender responsive environmen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proved academic performa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wanda  - 2 top girls in national examinations in 2002, 6 in 2003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enya  - average score in national exam improved from 66% in 2000 – 75% in 2002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negal – Pass rate for girls 47% in 2001 to 69% in 2003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anzania – pass mark 27.6% in 2002 to 54.9 in 2003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wandagirls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9436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Impac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munity ownership of the school and monitoring of girls’ participation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83% in Tz and 66% in Senegal say the school belongs to the communit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munity involvement in solving girls’ education issues eg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ajiad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proved student teacher interac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udents say that teachers support them in academic, co-curricula and social issues -- Kenya and Tz 100%, Senegal 91.4% Rwanda 91.9%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 cases of sexual harassment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14:01:37Z</dcterms:created>
  <dc:creator>LMurage</dc:creator>
  <dc:description/>
  <dc:language>en-US</dc:language>
  <cp:lastModifiedBy>LMurage</cp:lastModifiedBy>
  <dcterms:modified xsi:type="dcterms:W3CDTF">2003-11-30T14:26:54Z</dcterms:modified>
  <cp:revision>12</cp:revision>
  <dc:subject/>
  <dc:title>Equity in Learning:  The Gender Dimension</dc:title>
</cp:coreProperties>
</file>