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1A7-CB38-45AE-80E2-179A1C2B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55A-AE1C-416D-9FC8-5AB50C81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D19-AF78-4144-8D49-A5755AFC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664-8706-4612-A67B-1FF2419E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686-F03D-4A6B-BE3B-39A5343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407-D671-4C87-A2A5-EF3FA6B7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DF6-DA6C-4F22-9292-36B41B2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38F-7EEF-4A14-979F-6629B19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C5A-E9DF-4F3A-B5FE-274EC5AD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B40-A47A-4C71-A344-6A3AEC2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5D9-3CBA-4B54-B060-E399BF4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1FF-B48A-4054-A8BE-11D0D33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AE91-C5E9-4E32-99B0-40F77C423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143000"/>
            <a:ext cx="9220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-1066680"/>
            <a:ext cx="9201240" cy="12420360"/>
            <a:chOff x="0" y="-1066680"/>
            <a:chExt cx="9201240" cy="124203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0" y="-1066680"/>
              <a:ext cx="9201240" cy="124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57240" y="152280"/>
              <a:ext cx="9144000" cy="105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03200" y="5079600"/>
              <a:ext cx="24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2320" y="4510080"/>
            <a:ext cx="8919360" cy="1740960"/>
            <a:chOff x="112320" y="4510080"/>
            <a:chExt cx="8919360" cy="1740960"/>
          </a:xfrm>
        </p:grpSpPr>
        <p:sp>
          <p:nvSpPr>
            <p:cNvPr id="47" name=""/>
            <p:cNvSpPr/>
            <p:nvPr/>
          </p:nvSpPr>
          <p:spPr>
            <a:xfrm>
              <a:off x="112320" y="4510080"/>
              <a:ext cx="89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4800" spc="-1" strike="noStrike">
                  <a:solidFill>
                    <a:srgbClr val="ffffff"/>
                  </a:solidFill>
                  <a:latin typeface="Century"/>
                  <a:ea typeface="Times New Roman"/>
                </a:rPr>
                <a:t>Gender and Education for Al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84240" y="5334120"/>
              <a:ext cx="675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5400" spc="-1" strike="noStrike">
                  <a:solidFill>
                    <a:srgbClr val="ffffff"/>
                  </a:solidFill>
                  <a:latin typeface="Century"/>
                  <a:ea typeface="Times New Roman"/>
                </a:rPr>
                <a:t>The Leap to Equalit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38088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2.2b Rights to education: </a:t>
            </a:r>
            <a:br>
              <a:rPr sz="4000"/>
            </a:br>
            <a:r>
              <a:rPr b="1" lang="en-GB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Child labour and f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905120"/>
            <a:ext cx="739152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Africa has highest incidence of child labour: 41%. Reduces access to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0880" y="3016080"/>
            <a:ext cx="8077320" cy="947160"/>
            <a:chOff x="380880" y="3016080"/>
            <a:chExt cx="8077320" cy="947160"/>
          </a:xfrm>
        </p:grpSpPr>
        <p:sp>
          <p:nvSpPr>
            <p:cNvPr id="225" name=""/>
            <p:cNvSpPr/>
            <p:nvPr/>
          </p:nvSpPr>
          <p:spPr>
            <a:xfrm>
              <a:off x="1066680" y="3016080"/>
              <a:ext cx="7391520" cy="9471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Child domestic workers are mainly girls, unaccounted for in official fig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880" y="3048120"/>
              <a:ext cx="457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80880" y="4038480"/>
            <a:ext cx="8077320" cy="611280"/>
            <a:chOff x="380880" y="4038480"/>
            <a:chExt cx="8077320" cy="611280"/>
          </a:xfrm>
        </p:grpSpPr>
        <p:sp>
          <p:nvSpPr>
            <p:cNvPr id="228" name=""/>
            <p:cNvSpPr/>
            <p:nvPr/>
          </p:nvSpPr>
          <p:spPr>
            <a:xfrm>
              <a:off x="1066680" y="4129200"/>
              <a:ext cx="7391520" cy="5205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Parents are main employers of children</a:t>
              </a:r>
              <a:r>
                <a:rPr b="1" lang="fr-FR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880" y="4038480"/>
              <a:ext cx="457200" cy="609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80880" y="4844880"/>
            <a:ext cx="8077320" cy="947160"/>
            <a:chOff x="380880" y="4844880"/>
            <a:chExt cx="8077320" cy="947160"/>
          </a:xfrm>
        </p:grpSpPr>
        <p:sp>
          <p:nvSpPr>
            <p:cNvPr id="231" name=""/>
            <p:cNvSpPr/>
            <p:nvPr/>
          </p:nvSpPr>
          <p:spPr>
            <a:xfrm>
              <a:off x="1066680" y="4844880"/>
              <a:ext cx="7391520" cy="9471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Fees still charged in many countries: tuition, uniforms, books, activities</a:t>
              </a:r>
              <a:r>
                <a:rPr b="1" lang="fr-FR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4952880"/>
              <a:ext cx="457200" cy="609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00080" y="395280"/>
            <a:ext cx="89676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2.2c </a:t>
            </a:r>
            <a:r>
              <a:rPr b="1" lang="fr-FR" sz="3500" spc="-1" strike="noStrike">
                <a:solidFill>
                  <a:srgbClr val="6600cc"/>
                </a:solidFill>
                <a:latin typeface="Century"/>
                <a:ea typeface="Times New Roman"/>
              </a:rPr>
              <a:t>Rights to education:</a:t>
            </a: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r>
              <a:rPr b="1" lang="en-GB" sz="3500" spc="-1" strike="noStrike">
                <a:solidFill>
                  <a:srgbClr val="6600cc"/>
                </a:solidFill>
                <a:latin typeface="Century"/>
                <a:ea typeface="Times New Roman"/>
              </a:rPr>
              <a:t>Children in difficult circumstances</a:t>
            </a:r>
            <a:r>
              <a:rPr b="1" lang="fr-FR" sz="35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812960"/>
            <a:ext cx="84582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ff"/>
                </a:solidFill>
                <a:latin typeface="Century"/>
                <a:ea typeface="Times New Roman"/>
              </a:rPr>
              <a:t>HIV/AIDS</a:t>
            </a:r>
            <a:r>
              <a:rPr b="1" lang="fr-FR" sz="2800" spc="-1" strike="noStrike">
                <a:solidFill>
                  <a:srgbClr val="cc00ff"/>
                </a:solidFill>
                <a:latin typeface="Century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23464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"/>
                <a:ea typeface="Times New Roman"/>
              </a:rPr>
              <a:t>Almost 60% of those living with HIV/AIDS are women in 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ff"/>
                </a:solidFill>
                <a:latin typeface="Century"/>
                <a:ea typeface="Times New Roman"/>
              </a:rPr>
              <a:t>Conflict</a:t>
            </a:r>
            <a:r>
              <a:rPr b="1" lang="fr-FR" sz="2800" spc="-1" strike="noStrike">
                <a:solidFill>
                  <a:srgbClr val="cc00ff"/>
                </a:solidFill>
                <a:latin typeface="Century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341316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"/>
                <a:ea typeface="Times New Roman"/>
              </a:rPr>
              <a:t>Of 17 SSA countries where enrolments declined in the 1990s, six are affected by or recovering from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752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"/>
                <a:ea typeface="Times New Roman"/>
              </a:rPr>
              <a:t>Girls highly vulnerable to sexual violence and exploitation during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8610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"/>
                <a:ea typeface="Times New Roman"/>
              </a:rPr>
              <a:t>Majority of internal refugees are girls and w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5394240"/>
            <a:ext cx="84582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ff"/>
                </a:solidFill>
                <a:latin typeface="Century"/>
                <a:ea typeface="Times New Roman"/>
              </a:rPr>
              <a:t>Dis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6019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"/>
                <a:ea typeface="Times New Roman"/>
              </a:rPr>
              <a:t>Disabled girls at risk of exclusion and targets of hara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0080" y="-31680"/>
            <a:ext cx="8967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2.3 Rights within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Education: What happens at school?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752480"/>
            <a:ext cx="693432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Schools are not always safe havens</a:t>
            </a:r>
            <a:r>
              <a:rPr b="1" lang="fr-FR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2590920"/>
            <a:ext cx="693432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Girls required to do menial tasks</a:t>
            </a:r>
            <a:r>
              <a:rPr b="1" lang="fr-FR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3429000"/>
            <a:ext cx="693432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Teachers and prejudice</a:t>
            </a:r>
            <a:r>
              <a:rPr b="1" lang="fr-FR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4267080"/>
            <a:ext cx="693432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Sexism in textbooks</a:t>
            </a:r>
            <a:r>
              <a:rPr b="1" lang="fr-FR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5105520"/>
            <a:ext cx="693432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Lack of female role models</a:t>
            </a:r>
            <a:r>
              <a:rPr b="1" lang="fr-FR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5821200"/>
            <a:ext cx="693432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Poor school facilities and location</a:t>
            </a:r>
            <a:r>
              <a:rPr b="1" lang="fr-FR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6320" y="395280"/>
            <a:ext cx="896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2.4 Rights through Education</a:t>
            </a:r>
            <a:r>
              <a:rPr b="1" lang="fr-FR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523880"/>
            <a:ext cx="693432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Girls underrepresented in science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4419720"/>
            <a:ext cx="693432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Wage and status differentials still overwhelmingly favour m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971800"/>
            <a:ext cx="69343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"/>
                <a:ea typeface="Times New Roman"/>
              </a:rPr>
              <a:t>Job choice is strongly seg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fr-FR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What Makes Good Practice</a:t>
            </a:r>
            <a:r>
              <a:rPr b="1" i="1" lang="fr-FR" sz="54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onb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1143000" cy="1044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990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2362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fr-FR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III</a:t>
            </a:r>
            <a:r>
              <a:rPr b="1" i="1" lang="fr-FR" sz="54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00080" y="395280"/>
            <a:ext cx="896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3.1  Enabling environ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889280"/>
            <a:ext cx="8458200" cy="1007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ff"/>
                </a:solidFill>
                <a:latin typeface="Century"/>
                <a:ea typeface="Times New Roman"/>
              </a:rPr>
              <a:t>Legislative change can influence social norms</a:t>
            </a:r>
            <a:r>
              <a:rPr b="1" lang="fr-FR" sz="3000" spc="-1" strike="noStrike">
                <a:solidFill>
                  <a:srgbClr val="cc00ff"/>
                </a:solidFill>
                <a:latin typeface="Century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2743200"/>
            <a:ext cx="8458200" cy="97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Property and inheritance rights, family law reform; equal opportunities legislation</a:t>
            </a:r>
            <a:r>
              <a:rPr b="1" lang="fr-FR" sz="30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334120"/>
            <a:ext cx="8458200" cy="55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ff"/>
                </a:solidFill>
                <a:latin typeface="Century"/>
                <a:ea typeface="Times New Roman"/>
              </a:rPr>
              <a:t>Supporting and learning from N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640" y="3962520"/>
            <a:ext cx="9045720" cy="1007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ff"/>
                </a:solidFill>
                <a:latin typeface="Century"/>
                <a:ea typeface="Times New Roman"/>
              </a:rPr>
              <a:t>Recent enactment of legislation for fre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ff"/>
                </a:solidFill>
                <a:latin typeface="Century"/>
                <a:ea typeface="Times New Roman"/>
              </a:rPr>
              <a:t>compulsory education in several SSA count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76040" y="90360"/>
            <a:ext cx="8967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3.2</a:t>
            </a:r>
            <a:r>
              <a:rPr b="1" lang="en-GB" sz="3800" spc="-1" strike="noStrike">
                <a:solidFill>
                  <a:srgbClr val="ff00ff"/>
                </a:solidFill>
                <a:latin typeface="Century"/>
                <a:ea typeface="Times New Roman"/>
              </a:rPr>
              <a:t> </a:t>
            </a: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Make education free</a:t>
            </a:r>
            <a:r>
              <a:rPr b="1" lang="fr-FR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371600"/>
            <a:ext cx="8458200" cy="1373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Dramatic rise in enrolments in several African countries after free primary education introduced (Kenya, Tanzania, Uganda, Zamb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046320"/>
            <a:ext cx="84582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Fees still charged in 14  SSA countries unlikely to achieve gender parity in primary schooling in 2005 or by 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692600"/>
            <a:ext cx="845820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Major consequences for educational quality: teacher training,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8967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3.3</a:t>
            </a:r>
            <a:r>
              <a:rPr b="1" lang="en-GB" sz="3800" spc="-1" strike="noStrike">
                <a:solidFill>
                  <a:srgbClr val="ff00ff"/>
                </a:solidFill>
                <a:latin typeface="Century"/>
                <a:ea typeface="Times New Roman"/>
              </a:rPr>
              <a:t> </a:t>
            </a:r>
            <a:r>
              <a:rPr b="1" lang="en-GB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Incentives</a:t>
            </a:r>
            <a:r>
              <a:rPr b="1" lang="fr-FR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066680"/>
            <a:ext cx="845820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ff"/>
                </a:solidFill>
                <a:latin typeface="Century"/>
                <a:ea typeface="Times New Roman"/>
              </a:rPr>
              <a:t>Reduce need for child labour</a:t>
            </a:r>
            <a:r>
              <a:rPr b="1" lang="fr-FR" sz="2800" spc="-1" strike="noStrike">
                <a:solidFill>
                  <a:srgbClr val="ff00ff"/>
                </a:solidFill>
                <a:latin typeface="Century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1676520"/>
            <a:ext cx="8458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Legislation + incentives to families to cover forgone wage of the chi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3673440"/>
            <a:ext cx="845820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Scholarships and school feeding programmes have strong impact on girls’ attendance</a:t>
            </a:r>
            <a:r>
              <a:rPr b="1" lang="fr-FR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572000"/>
            <a:ext cx="845820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Re-entry policies for pregnant girls  (Botswana, Guinea, Kenya, Malawi, Zamb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5486400"/>
            <a:ext cx="845820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Innovative measures for out-of-school girls</a:t>
            </a:r>
            <a:r>
              <a:rPr b="1" lang="fr-FR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2606760"/>
            <a:ext cx="8458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Influential role of mother in spending of househol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320" y="395280"/>
            <a:ext cx="896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3.4 Create better places for learning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0368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Century"/>
                <a:ea typeface="Times New Roman"/>
              </a:rPr>
              <a:t>Recruit female teachers especially in rural and isolated schools</a:t>
            </a:r>
            <a:r>
              <a:rPr b="1" lang="fr-FR" sz="2200" spc="-1" strike="noStrike">
                <a:solidFill>
                  <a:srgbClr val="3333cc"/>
                </a:solidFill>
                <a:latin typeface="Century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97440" y="2184480"/>
            <a:ext cx="7939440" cy="4673160"/>
            <a:chOff x="397440" y="2184480"/>
            <a:chExt cx="7939440" cy="4673160"/>
          </a:xfrm>
        </p:grpSpPr>
        <p:sp>
          <p:nvSpPr>
            <p:cNvPr id="290" name=""/>
            <p:cNvSpPr/>
            <p:nvPr/>
          </p:nvSpPr>
          <p:spPr>
            <a:xfrm>
              <a:off x="397440" y="2184480"/>
              <a:ext cx="793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-Saharan Africa: percentage of female teachers and gender parity in access to school (20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1" name=""/>
            <p:cNvGraphicFramePr/>
            <p:nvPr/>
          </p:nvGraphicFramePr>
          <p:xfrm>
            <a:off x="657000" y="2406600"/>
            <a:ext cx="7620120" cy="44510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7000" y="2406600"/>
                      <a:ext cx="7620120" cy="44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3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37160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Century"/>
                <a:ea typeface="Times New Roman"/>
              </a:rPr>
              <a:t>Women hold only one-third, or less, of teaching posts in S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28600" y="471600"/>
            <a:ext cx="8967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3.5 Create better places for learning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371600"/>
            <a:ext cx="830592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Make </a:t>
            </a:r>
            <a:r>
              <a:rPr b="1" lang="en-GB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sexual and reproductive health information</a:t>
            </a: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for adolescents, particularly in context of HIV/AIDS, a subject in its own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83059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Remove gender stereotypes from </a:t>
            </a:r>
            <a:r>
              <a:rPr b="1" lang="en-GB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curricula </a:t>
            </a: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380988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Encourage girls to take </a:t>
            </a:r>
            <a:r>
              <a:rPr b="1" lang="en-GB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maths, science and technology subjects </a:t>
            </a: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(FAWE’s Centres of Excel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502920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Locate </a:t>
            </a:r>
            <a:r>
              <a:rPr b="1" lang="en-GB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schools close to home</a:t>
            </a: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and invest in adequate sanitary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2743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onb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114300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534520" cy="99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3733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fr-FR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 </a:t>
            </a:r>
            <a:r>
              <a:rPr b="1" lang="en-GB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Africa, the Report and the Gender Go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fr-FR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85360" y="640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6040" y="152280"/>
            <a:ext cx="8967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6600cc"/>
                </a:solidFill>
                <a:latin typeface="Century"/>
                <a:ea typeface="Times New Roman"/>
              </a:rPr>
              <a:t>3.6 Linking generation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8600" y="1447920"/>
            <a:ext cx="8534520" cy="1448280"/>
            <a:chOff x="228600" y="1447920"/>
            <a:chExt cx="8534520" cy="1448280"/>
          </a:xfrm>
        </p:grpSpPr>
        <p:sp>
          <p:nvSpPr>
            <p:cNvPr id="305" name=""/>
            <p:cNvSpPr/>
            <p:nvPr/>
          </p:nvSpPr>
          <p:spPr>
            <a:xfrm>
              <a:off x="1066680" y="1522440"/>
              <a:ext cx="7696440" cy="1373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Early childhood care and education has positive impact on girls’ enrolment and performance in primary school</a:t>
              </a:r>
              <a:r>
                <a:rPr b="1" lang="fr-FR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" y="14479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28600" y="3198960"/>
            <a:ext cx="8534520" cy="1039320"/>
            <a:chOff x="228600" y="3198960"/>
            <a:chExt cx="8534520" cy="1039320"/>
          </a:xfrm>
        </p:grpSpPr>
        <p:sp>
          <p:nvSpPr>
            <p:cNvPr id="308" name=""/>
            <p:cNvSpPr/>
            <p:nvPr/>
          </p:nvSpPr>
          <p:spPr>
            <a:xfrm>
              <a:off x="1066680" y="3291120"/>
              <a:ext cx="7696440" cy="947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Mother child programmes generate benefits, often at low co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" y="3198960"/>
              <a:ext cx="685800" cy="53352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4524480"/>
            <a:ext cx="8534520" cy="1465920"/>
            <a:chOff x="228600" y="4524480"/>
            <a:chExt cx="8534520" cy="1465920"/>
          </a:xfrm>
        </p:grpSpPr>
        <p:sp>
          <p:nvSpPr>
            <p:cNvPr id="312" name=""/>
            <p:cNvSpPr/>
            <p:nvPr/>
          </p:nvSpPr>
          <p:spPr>
            <a:xfrm>
              <a:off x="1066680" y="4616640"/>
              <a:ext cx="7696440" cy="1373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Literacy and women’s empowerment initiate social change and boost girls’ educational cha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4524480"/>
              <a:ext cx="685800" cy="53352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fr-FR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 </a:t>
            </a:r>
            <a:br>
              <a:rPr sz="5400"/>
            </a:br>
            <a:r>
              <a:rPr b="1" lang="fr-FR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 </a:t>
            </a:r>
            <a:r>
              <a:rPr b="1" lang="en-GB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Is the International Community Keeping Its Commitment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onb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1143000" cy="1044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990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298040" y="24382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Century"/>
                <a:ea typeface="Times New Roman"/>
              </a:rPr>
              <a:t>I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6320" y="380880"/>
            <a:ext cx="89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4.1 Aid falls short of nee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114300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Century"/>
                <a:ea typeface="Times New Roman"/>
              </a:rPr>
              <a:t>Multilateral aid fell for both education and basic education</a:t>
            </a:r>
            <a:r>
              <a:rPr b="1" lang="fr-FR" sz="2200" spc="-1" strike="noStrike">
                <a:solidFill>
                  <a:srgbClr val="3333ff"/>
                </a:solidFill>
                <a:latin typeface="Century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47780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Century"/>
                <a:ea typeface="Times New Roman"/>
              </a:rPr>
              <a:t>Total aid to basic education increased only marginally</a:t>
            </a:r>
            <a:r>
              <a:rPr b="1" lang="fr-FR" sz="2200" spc="-1" strike="noStrike">
                <a:solidFill>
                  <a:srgbClr val="3333ff"/>
                </a:solidFill>
                <a:latin typeface="Century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5562720"/>
            <a:ext cx="8077320" cy="76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"/>
                <a:ea typeface="Times New Roman"/>
              </a:rPr>
              <a:t>Annual aid to basic education needs to at least quadruple to reach around $7 billion per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2057400"/>
            <a:ext cx="8686800" cy="3200400"/>
            <a:chOff x="228600" y="2057400"/>
            <a:chExt cx="8686800" cy="3200400"/>
          </a:xfrm>
        </p:grpSpPr>
        <p:grpSp>
          <p:nvGrpSpPr>
            <p:cNvPr id="326" name=""/>
            <p:cNvGrpSpPr/>
            <p:nvPr/>
          </p:nvGrpSpPr>
          <p:grpSpPr>
            <a:xfrm>
              <a:off x="535680" y="2362320"/>
              <a:ext cx="8161200" cy="2895480"/>
              <a:chOff x="535680" y="2362320"/>
              <a:chExt cx="8161200" cy="2895480"/>
            </a:xfrm>
          </p:grpSpPr>
          <p:sp>
            <p:nvSpPr>
              <p:cNvPr id="327" name=""/>
              <p:cNvSpPr/>
              <p:nvPr/>
            </p:nvSpPr>
            <p:spPr>
              <a:xfrm>
                <a:off x="597600" y="3581280"/>
                <a:ext cx="809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Bilateral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4.39     3.68     0.57     0.57     0.87     0.87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7320" y="4038480"/>
                <a:ext cx="808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Multilateral o/w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    4.39     3.68     0.57     0.57     0.87     0.87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5680" y="4572000"/>
                <a:ext cx="810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TOTAL                 5.88     5.00     1.31     1.15     1.55     1.45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960" y="3124080"/>
                <a:ext cx="194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high     low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66480" y="3124080"/>
                <a:ext cx="194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high     low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973040" y="2743200"/>
                <a:ext cx="157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98-99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8720" y="2743200"/>
                <a:ext cx="157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00-01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39000" y="2743200"/>
                <a:ext cx="259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98-99  2000-01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1320" y="2362320"/>
                <a:ext cx="141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Edu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67480" y="2362320"/>
                <a:ext cx="21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asic Edu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440" y="5257800"/>
                <a:ext cx="754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440" y="3581280"/>
                <a:ext cx="754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5440" y="2438280"/>
                <a:ext cx="754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00240" y="2743200"/>
                <a:ext cx="34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61960" y="274320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040" y="312408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00240" y="312408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228600" y="2057400"/>
              <a:ext cx="86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lateral and multilateral assistance to education in constant 2000 US$ billions (1998-99 and 2000-0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76320" y="365040"/>
            <a:ext cx="89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4.2 The Fast-Track Initi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1600200"/>
            <a:ext cx="701028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Single multilateral initiative in favour of UPE at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2819520"/>
            <a:ext cx="701028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Ten countries endorsed for funding by March 2003; </a:t>
            </a:r>
            <a:r>
              <a:rPr b="1" lang="en-GB" sz="2800" spc="-1" strike="noStrike">
                <a:solidFill>
                  <a:srgbClr val="ff0066"/>
                </a:solidFill>
                <a:latin typeface="Century"/>
                <a:ea typeface="Times New Roman"/>
              </a:rPr>
              <a:t>10 from 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038480"/>
            <a:ext cx="701028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In first seven endorsed countries, funding gap re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5257800"/>
            <a:ext cx="701028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FTI commitments required to increase by </a:t>
            </a:r>
            <a:r>
              <a:rPr b="1" lang="en-GB" sz="2800" spc="-1" strike="noStrike">
                <a:solidFill>
                  <a:srgbClr val="ff0066"/>
                </a:solidFill>
                <a:latin typeface="Century"/>
                <a:ea typeface="Times New Roman"/>
              </a:rPr>
              <a:t>57%</a:t>
            </a:r>
            <a:r>
              <a:rPr b="1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 to close g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49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Contact Information</a:t>
            </a:r>
            <a:r>
              <a:rPr b="1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492200"/>
            <a:ext cx="7772400" cy="518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ff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FA Global Monitoring Report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UNESCO-HQ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7, place de Fonteno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F - 75352  Paris 07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Web: 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efareport.unesco.org</a:t>
            </a: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mail: efareport@unesco.or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Fax: (+33) 1 45 68 56 26/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607600" y="6400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6040" y="457200"/>
            <a:ext cx="89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1.1 Why a Report on gender?</a:t>
            </a:r>
            <a:r>
              <a:rPr b="1" lang="fr-FR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523880"/>
            <a:ext cx="853416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EFA and MDG goals on gender parity and equality at all levels of education by 2015; parity in primary and secondary b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171960"/>
            <a:ext cx="853416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Widely ratified treaties contain provisions on free primary education and gender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467240"/>
            <a:ext cx="8534160" cy="1557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An economic and social imperative: positive impact on economic growth, fertility rates, health, farm productivity, labour supply and parental decision to educate daughters and sons</a:t>
            </a:r>
            <a:r>
              <a:rPr b="1" lang="fr-FR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09040" y="640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441360"/>
            <a:ext cx="828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1.2 Parity on the road to equality</a:t>
            </a:r>
            <a:r>
              <a:rPr b="1" lang="fr-FR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400" y="1627200"/>
            <a:ext cx="13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Century"/>
                <a:ea typeface="Times New Roman"/>
              </a:rPr>
              <a:t>P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400" y="289548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Century"/>
                <a:ea typeface="Times New Roman"/>
              </a:rPr>
              <a:t>Equality</a:t>
            </a:r>
            <a:r>
              <a:rPr b="1" lang="en-GB" sz="2800" spc="-1" strike="noStrike">
                <a:solidFill>
                  <a:srgbClr val="0099ff"/>
                </a:solidFill>
                <a:latin typeface="Century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0040" y="3006720"/>
            <a:ext cx="5834880" cy="851760"/>
            <a:chOff x="140040" y="3006720"/>
            <a:chExt cx="5834880" cy="851760"/>
          </a:xfrm>
        </p:grpSpPr>
        <p:sp>
          <p:nvSpPr>
            <p:cNvPr id="66" name=""/>
            <p:cNvSpPr/>
            <p:nvPr/>
          </p:nvSpPr>
          <p:spPr>
            <a:xfrm>
              <a:off x="2108880" y="30067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requires</a:t>
              </a:r>
              <a:r>
                <a:rPr b="1" lang="en-GB" sz="2400" spc="-1" strike="noStrike">
                  <a:solidFill>
                    <a:srgbClr val="0099ff"/>
                  </a:solidFill>
                  <a:latin typeface="Century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0040" y="3398760"/>
              <a:ext cx="58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equal opportunities to attend school</a:t>
              </a:r>
              <a:r>
                <a:rPr b="1" lang="fr-FR" sz="24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19240" y="385596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equality in the learning process</a:t>
            </a:r>
            <a:r>
              <a:rPr b="1" lang="fr-FR" sz="20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680" y="431316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equality of learning outcomes</a:t>
            </a:r>
            <a:r>
              <a:rPr b="1" lang="fr-FR" sz="20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0320" y="4694400"/>
            <a:ext cx="66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equality of job opportunities and earnings</a:t>
            </a:r>
            <a:r>
              <a:rPr b="1" lang="fr-FR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2960" y="1311120"/>
            <a:ext cx="9208800" cy="1282320"/>
            <a:chOff x="12960" y="1311120"/>
            <a:chExt cx="9208800" cy="1282320"/>
          </a:xfrm>
        </p:grpSpPr>
        <p:sp>
          <p:nvSpPr>
            <p:cNvPr id="72" name=""/>
            <p:cNvSpPr/>
            <p:nvPr/>
          </p:nvSpPr>
          <p:spPr>
            <a:xfrm>
              <a:off x="12960" y="2133720"/>
              <a:ext cx="92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equal proportions of girls and boys being enrolled in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20080" y="1311120"/>
              <a:ext cx="15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requir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6760" y="54100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cc"/>
                </a:solidFill>
                <a:latin typeface="Century"/>
                <a:ea typeface="Times New Roman"/>
              </a:rPr>
              <a:t>In no country is this yet the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09040" y="640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441360"/>
            <a:ext cx="828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1.3 Where does the region stand?</a:t>
            </a:r>
            <a:r>
              <a:rPr b="1" lang="fr-FR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8520" y="3006720"/>
            <a:ext cx="1941480" cy="848880"/>
            <a:chOff x="398520" y="3006720"/>
            <a:chExt cx="1941480" cy="848880"/>
          </a:xfrm>
        </p:grpSpPr>
        <p:sp>
          <p:nvSpPr>
            <p:cNvPr id="79" name=""/>
            <p:cNvSpPr/>
            <p:nvPr/>
          </p:nvSpPr>
          <p:spPr>
            <a:xfrm>
              <a:off x="2158920" y="3006720"/>
              <a:ext cx="1810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8520" y="3398760"/>
              <a:ext cx="1810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43080" y="669960"/>
            <a:ext cx="1551960" cy="3682800"/>
            <a:chOff x="343080" y="669960"/>
            <a:chExt cx="1551960" cy="3682800"/>
          </a:xfrm>
        </p:grpSpPr>
        <p:sp>
          <p:nvSpPr>
            <p:cNvPr id="82" name=""/>
            <p:cNvSpPr/>
            <p:nvPr/>
          </p:nvSpPr>
          <p:spPr>
            <a:xfrm>
              <a:off x="343080" y="1698480"/>
              <a:ext cx="180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4320" y="669960"/>
              <a:ext cx="18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609040" y="640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79600"/>
            <a:ext cx="8077320" cy="1557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Lowest NER of all regions: only </a:t>
            </a:r>
            <a:r>
              <a:rPr b="1" lang="en-GB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58%</a:t>
            </a: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of children of official primary school age enrolled in 2000; </a:t>
            </a:r>
            <a:r>
              <a:rPr b="1" lang="en-GB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44 million</a:t>
            </a: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out of schoo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851200"/>
            <a:ext cx="8077320" cy="1191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Girls’ enrolment in primary increased in 1990s but strong gender disparities prevail: </a:t>
            </a:r>
            <a:r>
              <a:rPr b="1" lang="en-GB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under 0.76</a:t>
            </a: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in eleve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191120"/>
            <a:ext cx="80773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Region with highest repetit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800600"/>
            <a:ext cx="80773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26%</a:t>
            </a:r>
            <a:r>
              <a:rPr b="1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enrolment rate at secondar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410080"/>
            <a:ext cx="80773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ff"/>
                </a:solidFill>
                <a:latin typeface="Century"/>
                <a:ea typeface="Times New Roman"/>
              </a:rPr>
              <a:t>61%</a:t>
            </a:r>
            <a:r>
              <a:rPr b="1" lang="fr-FR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of world’s illiterates live in SS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20120" y="1371600"/>
            <a:ext cx="761760" cy="5358960"/>
            <a:chOff x="7620120" y="1371600"/>
            <a:chExt cx="761760" cy="5358960"/>
          </a:xfrm>
        </p:grpSpPr>
        <p:sp>
          <p:nvSpPr>
            <p:cNvPr id="91" name=""/>
            <p:cNvSpPr/>
            <p:nvPr/>
          </p:nvSpPr>
          <p:spPr>
            <a:xfrm>
              <a:off x="7620120" y="1904760"/>
              <a:ext cx="761760" cy="25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0120" y="3962160"/>
              <a:ext cx="761760" cy="70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0120" y="1371600"/>
              <a:ext cx="76176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 of count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0120" y="4647960"/>
              <a:ext cx="761760" cy="85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0120" y="5486040"/>
              <a:ext cx="761760" cy="10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20120" y="6476760"/>
              <a:ext cx="761760" cy="2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57200" y="1371600"/>
            <a:ext cx="1371600" cy="5122440"/>
            <a:chOff x="457200" y="1371600"/>
            <a:chExt cx="1371600" cy="5122440"/>
          </a:xfrm>
        </p:grpSpPr>
        <p:sp>
          <p:nvSpPr>
            <p:cNvPr id="98" name=""/>
            <p:cNvSpPr/>
            <p:nvPr/>
          </p:nvSpPr>
          <p:spPr>
            <a:xfrm>
              <a:off x="990720" y="5486400"/>
              <a:ext cx="838080" cy="100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risk of not achieveing the goal by 20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4400" y="4648320"/>
              <a:ext cx="914400" cy="85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kely to be achieved in 20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1905120"/>
              <a:ext cx="838080" cy="213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hieved in 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14400" y="3962520"/>
              <a:ext cx="914400" cy="70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kely to be achieved in 2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1371600"/>
              <a:ext cx="137160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-1820520" y="3649680"/>
              <a:ext cx="510696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1602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nder Parity in primary edu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28800" y="1924200"/>
            <a:ext cx="2666880" cy="2745720"/>
            <a:chOff x="1828800" y="1924200"/>
            <a:chExt cx="2666880" cy="2745720"/>
          </a:xfrm>
        </p:grpSpPr>
        <p:sp>
          <p:nvSpPr>
            <p:cNvPr id="105" name=""/>
            <p:cNvSpPr/>
            <p:nvPr/>
          </p:nvSpPr>
          <p:spPr>
            <a:xfrm>
              <a:off x="1828800" y="1924200"/>
              <a:ext cx="1828800" cy="1907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pe Verde, Rwanda</a:t>
              </a: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Times New Roman"/>
                </a:rPr>
                <a:t>,</a:t>
              </a:r>
              <a:r>
                <a:rPr b="0" lang="en-GB" sz="900" spc="-1" strike="noStrike">
                  <a:solidFill>
                    <a:srgbClr val="ccffcc"/>
                  </a:solidFill>
                  <a:latin typeface="Times New Roman"/>
                  <a:ea typeface="Times New Roman"/>
                </a:rPr>
                <a:t> 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ccffcc"/>
                  </a:solidFill>
                  <a:latin typeface="Times New Roman"/>
                  <a:ea typeface="Times New Roman"/>
                </a:rPr>
                <a:t>wanda, Slovakia, Slovenia, TFYR f Macedonia, United States</a:t>
              </a:r>
              <a:r>
                <a:rPr b="0" lang="fr-FR" sz="900" spc="-1" strike="noStrike">
                  <a:solidFill>
                    <a:srgbClr val="ccffcc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3753000"/>
              <a:ext cx="1828800" cy="231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ccffcc"/>
                  </a:solidFill>
                  <a:latin typeface="Times New Roman"/>
                  <a:ea typeface="Times New Roman"/>
                </a:rPr>
                <a:t>4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8800" y="3981600"/>
              <a:ext cx="1828800" cy="50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ccffcc"/>
                  </a:solidFill>
                  <a:latin typeface="Arial"/>
                  <a:ea typeface="Times New Roman"/>
                </a:rPr>
                <a:t>Om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3981600"/>
              <a:ext cx="838080" cy="50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ccffcc"/>
                  </a:solidFill>
                  <a:latin typeface="Arial"/>
                  <a:ea typeface="Times New Roman"/>
                </a:rPr>
                <a:t>Egypt, Iran, Mauritania, Nep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4438800"/>
              <a:ext cx="1828800" cy="231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ccffcc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57600" y="4438800"/>
              <a:ext cx="838080" cy="231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ccffcc"/>
                  </a:solidFill>
                  <a:latin typeface="Times New Roman"/>
                  <a:ea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1924200"/>
              <a:ext cx="838080" cy="1877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ccffcc"/>
                  </a:solidFill>
                  <a:latin typeface="Arial"/>
                  <a:ea typeface="Times New Roman"/>
                </a:rPr>
                <a:t>Austria, Bolivia, Jamaica, Kenya, Malawi, Portugal, Samo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3753000"/>
              <a:ext cx="838080" cy="231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ccffcc"/>
                  </a:solidFill>
                  <a:latin typeface="Times New Roman"/>
                  <a:ea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28800" y="1924200"/>
            <a:ext cx="3886200" cy="3574440"/>
            <a:chOff x="1828800" y="1924200"/>
            <a:chExt cx="3886200" cy="3574440"/>
          </a:xfrm>
        </p:grpSpPr>
        <p:sp>
          <p:nvSpPr>
            <p:cNvPr id="114" name=""/>
            <p:cNvSpPr/>
            <p:nvPr/>
          </p:nvSpPr>
          <p:spPr>
            <a:xfrm>
              <a:off x="4495680" y="3981600"/>
              <a:ext cx="1219320" cy="77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Brunei Darussalam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Gambia, </a:t>
              </a:r>
              <a:r>
                <a:rPr b="1" lang="fr-FR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Lesotho</a:t>
              </a:r>
              <a:r>
                <a:rPr b="0" lang="fr-FR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Saudi Arabia</a:t>
              </a:r>
              <a:r>
                <a:rPr b="0" lang="fr-FR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95680" y="4438800"/>
              <a:ext cx="1219320" cy="23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4667400"/>
              <a:ext cx="182880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Paraguay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4667400"/>
              <a:ext cx="8380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Times New Roman"/>
                </a:rPr>
                <a:t>Cuba</a:t>
              </a:r>
              <a:r>
                <a:rPr b="0" lang="en-GB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Sudan, Syrian Arab Republic</a:t>
              </a:r>
              <a:r>
                <a:rPr b="0" lang="fr-FR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5267520"/>
              <a:ext cx="1828800" cy="23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7600" y="5267520"/>
              <a:ext cx="838080" cy="23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5680" y="4667400"/>
              <a:ext cx="1219320" cy="779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Comoros, Congo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Ghana, Uganda</a:t>
              </a:r>
              <a:r>
                <a:rPr b="0" lang="fr-FR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5267520"/>
              <a:ext cx="1219320" cy="23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5680" y="1924200"/>
              <a:ext cx="1219320" cy="187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Belize, Botswana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Finland, Namibia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Nicaragua, Panama, Qatar, Spain, United Rep. of Tanzania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Arial"/>
                  <a:ea typeface="Arial"/>
                </a:rPr>
                <a:t>Venezuela</a:t>
              </a:r>
              <a:r>
                <a:rPr b="0" lang="fr-FR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3753000"/>
              <a:ext cx="1219320" cy="231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828800" y="1924200"/>
            <a:ext cx="5791320" cy="4589280"/>
            <a:chOff x="1828800" y="1924200"/>
            <a:chExt cx="5791320" cy="4589280"/>
          </a:xfrm>
        </p:grpSpPr>
        <p:sp>
          <p:nvSpPr>
            <p:cNvPr id="125" name=""/>
            <p:cNvSpPr/>
            <p:nvPr/>
          </p:nvSpPr>
          <p:spPr>
            <a:xfrm>
              <a:off x="5715000" y="3981240"/>
              <a:ext cx="1905120" cy="505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orocco, Senegal, Tunisi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4438440"/>
              <a:ext cx="1905120" cy="246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4667040"/>
              <a:ext cx="1905120" cy="642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lgeria, Benin, Cambodia, Chad, Lao People's Democratic Republic, Togo</a:t>
              </a:r>
              <a:r>
                <a:rPr b="0" lang="fr-FR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5000" y="5267160"/>
              <a:ext cx="1905120" cy="246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5000" y="5505120"/>
              <a:ext cx="1905120" cy="779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Burkina Faso, Côte d'Ivoire, Djibouti, Ethiopia, India, Iraq, Madagascar, </a:t>
              </a:r>
              <a:r>
                <a:rPr b="1" lang="en-GB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ongolia</a:t>
              </a:r>
              <a:r>
                <a:rPr b="0" lang="en-GB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, Mozambique, Papua New Guinea, Sainte Lucia, Turkey</a:t>
              </a:r>
              <a:r>
                <a:rPr b="0" lang="fr-FR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15000" y="6267240"/>
              <a:ext cx="1905120" cy="246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5505120"/>
              <a:ext cx="1828800" cy="779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Estonia, Kyrgyzstan , Swaziland</a:t>
              </a:r>
              <a:r>
                <a:rPr b="0" lang="fr-FR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7600" y="5505120"/>
              <a:ext cx="838080" cy="779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ierra Leone</a:t>
              </a:r>
              <a:r>
                <a:rPr b="0" lang="fr-FR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8800" y="6267240"/>
              <a:ext cx="1828800" cy="246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6267240"/>
              <a:ext cx="838080" cy="246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5680" y="5505120"/>
              <a:ext cx="1219320" cy="779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Burundi, Macao, Niger, South Africa, Thail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6267240"/>
              <a:ext cx="1219320" cy="246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15000" y="1924200"/>
              <a:ext cx="1905120" cy="1877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hrain, Bh, China, Colombia, Costa Rica, Denmark, Iceland, Ireland, Malaysia, Mauritius, Mexico, Myanmar, New Zealand, Philippines, Russian Federation, Serbia and Montenegro, Suriname, Sweden, Switzerland, Trinidad and Tobago, United Arab Emirates, United Kingdom, Vanuatu, Zimbabwe</a:t>
              </a:r>
              <a:r>
                <a:rPr b="0" lang="fr-FR" sz="9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5000" y="3752640"/>
              <a:ext cx="1905120" cy="246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32440" y="152280"/>
            <a:ext cx="3135240" cy="36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0080" y="-76320"/>
            <a:ext cx="82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cc"/>
                </a:solidFill>
                <a:latin typeface="Century"/>
                <a:ea typeface="Times New Roman"/>
              </a:rPr>
              <a:t>2.4 Chances of achiev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cc"/>
                </a:solidFill>
                <a:latin typeface="Century"/>
                <a:ea typeface="Times New Roman"/>
              </a:rPr>
              <a:t>the 2005 gender parity go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6477120"/>
            <a:ext cx="7162920" cy="246240"/>
            <a:chOff x="457200" y="6477120"/>
            <a:chExt cx="7162920" cy="246240"/>
          </a:xfrm>
        </p:grpSpPr>
        <p:sp>
          <p:nvSpPr>
            <p:cNvPr id="142" name=""/>
            <p:cNvSpPr/>
            <p:nvPr/>
          </p:nvSpPr>
          <p:spPr>
            <a:xfrm>
              <a:off x="5715000" y="6477120"/>
              <a:ext cx="19051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6477120"/>
              <a:ext cx="18288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6477120"/>
              <a:ext cx="83808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95680" y="6477120"/>
              <a:ext cx="12193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6477120"/>
              <a:ext cx="13716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 of count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828800" y="1924200"/>
            <a:ext cx="2666880" cy="2745720"/>
            <a:chOff x="1828800" y="1924200"/>
            <a:chExt cx="2666880" cy="2745720"/>
          </a:xfrm>
        </p:grpSpPr>
        <p:sp>
          <p:nvSpPr>
            <p:cNvPr id="148" name=""/>
            <p:cNvSpPr/>
            <p:nvPr/>
          </p:nvSpPr>
          <p:spPr>
            <a:xfrm>
              <a:off x="1828800" y="19242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3753000"/>
              <a:ext cx="1828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981600"/>
              <a:ext cx="1828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7600" y="3981600"/>
              <a:ext cx="83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urita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4438800"/>
              <a:ext cx="1828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4438800"/>
              <a:ext cx="83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7600" y="1924200"/>
              <a:ext cx="83808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nya, Malawi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7600" y="3753000"/>
              <a:ext cx="83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28800" y="1924200"/>
            <a:ext cx="3886200" cy="3673800"/>
            <a:chOff x="1828800" y="1924200"/>
            <a:chExt cx="3886200" cy="3673800"/>
          </a:xfrm>
        </p:grpSpPr>
        <p:sp>
          <p:nvSpPr>
            <p:cNvPr id="157" name=""/>
            <p:cNvSpPr/>
            <p:nvPr/>
          </p:nvSpPr>
          <p:spPr>
            <a:xfrm>
              <a:off x="4495680" y="3981240"/>
              <a:ext cx="121932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mbia, </a:t>
              </a:r>
              <a:r>
                <a:rPr b="1" lang="fr-FR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sotho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95680" y="4438440"/>
              <a:ext cx="121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66704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57600" y="4667040"/>
              <a:ext cx="83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dan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5267160"/>
              <a:ext cx="1828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57600" y="5267160"/>
              <a:ext cx="83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5680" y="4667040"/>
              <a:ext cx="12193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oros, Congo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hana, Uganda</a:t>
              </a: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5267160"/>
              <a:ext cx="121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5680" y="1924200"/>
              <a:ext cx="121932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Botswana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mibia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ted Rep. of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nzan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5680" y="3752640"/>
              <a:ext cx="121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28800" y="1924200"/>
            <a:ext cx="5791320" cy="4589640"/>
            <a:chOff x="1828800" y="1924200"/>
            <a:chExt cx="5791320" cy="4589640"/>
          </a:xfrm>
        </p:grpSpPr>
        <p:sp>
          <p:nvSpPr>
            <p:cNvPr id="168" name=""/>
            <p:cNvSpPr/>
            <p:nvPr/>
          </p:nvSpPr>
          <p:spPr>
            <a:xfrm>
              <a:off x="5715000" y="3981600"/>
              <a:ext cx="190512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neg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5000" y="443880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4667400"/>
              <a:ext cx="190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enin, Chad,Togo</a:t>
              </a:r>
              <a:r>
                <a:rPr b="0" lang="fr-FR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15000" y="526752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5505480"/>
              <a:ext cx="19051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urkina Faso, Côte d'Ivoire, Ethiopia, Madagascar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zambique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15000" y="626760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28800" y="5505480"/>
              <a:ext cx="182880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waziland</a:t>
              </a:r>
              <a:r>
                <a:rPr b="0" lang="fr-FR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5505480"/>
              <a:ext cx="83808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ierra Leone</a:t>
              </a:r>
              <a:r>
                <a:rPr b="0" lang="fr-FR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8800" y="62676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7600" y="62676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5680" y="5505480"/>
              <a:ext cx="121932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urundi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iger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0" lang="en-GB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outh Afr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95680" y="6267600"/>
              <a:ext cx="121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1924200"/>
              <a:ext cx="190512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uritius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Zimbabwe</a:t>
              </a: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375300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57200" y="1066680"/>
            <a:ext cx="83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ender parity in primary and secondary education: country prospects for goal achievement in 2005 and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09040" y="640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828800" y="1371600"/>
            <a:ext cx="5791320" cy="676080"/>
            <a:chOff x="1828800" y="1371600"/>
            <a:chExt cx="5791320" cy="676080"/>
          </a:xfrm>
        </p:grpSpPr>
        <p:sp>
          <p:nvSpPr>
            <p:cNvPr id="185" name=""/>
            <p:cNvSpPr/>
            <p:nvPr/>
          </p:nvSpPr>
          <p:spPr>
            <a:xfrm>
              <a:off x="1828800" y="1371600"/>
              <a:ext cx="5791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nder Parity in secondary edu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28800" y="1649160"/>
              <a:ext cx="18288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hieved in 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5680" y="1649160"/>
              <a:ext cx="1219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kely to be achieved in 2015</a:t>
              </a: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57600" y="1649160"/>
              <a:ext cx="8380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kely to be achieved in 20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1649160"/>
              <a:ext cx="19051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 risk of not achieving the goal by 2015</a:t>
              </a:r>
              <a:r>
                <a:rPr b="0" lang="fr-F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onb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1143000" cy="104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990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3733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fr-FR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 </a:t>
            </a:r>
            <a:r>
              <a:rPr b="1" lang="en-GB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Why Girls Are Held Ba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76320" y="3048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fr-FR" sz="5400" spc="-1" strike="noStrike">
                <a:solidFill>
                  <a:srgbClr val="6600cc"/>
                </a:solidFill>
                <a:latin typeface="Garamond"/>
                <a:ea typeface="Times New Roman"/>
              </a:rPr>
              <a:t>I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09040" y="640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76040" y="51768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2.1 Why girls are held ba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80880" y="1828800"/>
            <a:ext cx="8305920" cy="1694520"/>
            <a:chOff x="380880" y="1828800"/>
            <a:chExt cx="8305920" cy="1694520"/>
          </a:xfrm>
        </p:grpSpPr>
        <p:sp>
          <p:nvSpPr>
            <p:cNvPr id="199" name=""/>
            <p:cNvSpPr/>
            <p:nvPr/>
          </p:nvSpPr>
          <p:spPr>
            <a:xfrm>
              <a:off x="380880" y="1828800"/>
              <a:ext cx="457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95280" y="1828800"/>
              <a:ext cx="7391520" cy="169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5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No one single cause of inequality, 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5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no one magic bullet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80880" y="3336840"/>
            <a:ext cx="8305920" cy="2228040"/>
            <a:chOff x="380880" y="3336840"/>
            <a:chExt cx="8305920" cy="2228040"/>
          </a:xfrm>
        </p:grpSpPr>
        <p:sp>
          <p:nvSpPr>
            <p:cNvPr id="202" name=""/>
            <p:cNvSpPr/>
            <p:nvPr/>
          </p:nvSpPr>
          <p:spPr>
            <a:xfrm>
              <a:off x="380880" y="3657600"/>
              <a:ext cx="457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95280" y="3336840"/>
              <a:ext cx="7391520" cy="2228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5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Report adopts three-stage rights framework to analyse inequality and identify strategies 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609040" y="640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856120" y="152280"/>
            <a:ext cx="3135600" cy="363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76040" y="228600"/>
            <a:ext cx="89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2.2a Rights to education</a:t>
            </a:r>
            <a:r>
              <a:rPr b="1" lang="fr-FR" sz="4000" spc="-1" strike="noStrike">
                <a:solidFill>
                  <a:srgbClr val="6600cc"/>
                </a:solidFill>
                <a:latin typeface="Century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0880" y="1371600"/>
            <a:ext cx="8305920" cy="609480"/>
            <a:chOff x="380880" y="1371600"/>
            <a:chExt cx="8305920" cy="609480"/>
          </a:xfrm>
        </p:grpSpPr>
        <p:sp>
          <p:nvSpPr>
            <p:cNvPr id="208" name=""/>
            <p:cNvSpPr/>
            <p:nvPr/>
          </p:nvSpPr>
          <p:spPr>
            <a:xfrm>
              <a:off x="1295280" y="1371600"/>
              <a:ext cx="7391520" cy="5205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Impact of social norms and values</a:t>
              </a:r>
              <a:r>
                <a:rPr b="1" lang="fr-FR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1371600"/>
              <a:ext cx="457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0880" y="2209680"/>
            <a:ext cx="8382240" cy="947160"/>
            <a:chOff x="380880" y="2209680"/>
            <a:chExt cx="8382240" cy="947160"/>
          </a:xfrm>
        </p:grpSpPr>
        <p:sp>
          <p:nvSpPr>
            <p:cNvPr id="211" name=""/>
            <p:cNvSpPr/>
            <p:nvPr/>
          </p:nvSpPr>
          <p:spPr>
            <a:xfrm>
              <a:off x="1295280" y="2209680"/>
              <a:ext cx="7467840" cy="9471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How households allocate tasks, responsibilities and opportunit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880" y="2209680"/>
              <a:ext cx="457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0880" y="3427560"/>
            <a:ext cx="8382240" cy="2226960"/>
            <a:chOff x="380880" y="3427560"/>
            <a:chExt cx="8382240" cy="2226960"/>
          </a:xfrm>
        </p:grpSpPr>
        <p:sp>
          <p:nvSpPr>
            <p:cNvPr id="214" name=""/>
            <p:cNvSpPr/>
            <p:nvPr/>
          </p:nvSpPr>
          <p:spPr>
            <a:xfrm>
              <a:off x="1295280" y="3427560"/>
              <a:ext cx="7467840" cy="22269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Household poverty has more detriment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effect on decision to enrol a girl than a boy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in scho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880" y="3504960"/>
              <a:ext cx="457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8609040" y="640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  <a:ea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5105520"/>
            <a:ext cx="8305920" cy="947160"/>
            <a:chOff x="380880" y="5105520"/>
            <a:chExt cx="8305920" cy="947160"/>
          </a:xfrm>
        </p:grpSpPr>
        <p:sp>
          <p:nvSpPr>
            <p:cNvPr id="218" name=""/>
            <p:cNvSpPr/>
            <p:nvPr/>
          </p:nvSpPr>
          <p:spPr>
            <a:xfrm>
              <a:off x="1295280" y="5105520"/>
              <a:ext cx="7391520" cy="9471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Early marriage massively impedes 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880" y="5105520"/>
              <a:ext cx="45720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2:37:47Z</dcterms:created>
  <dc:creator>l_phuong</dc:creator>
  <dc:description/>
  <dc:language>en-US</dc:language>
  <cp:lastModifiedBy>lp</cp:lastModifiedBy>
  <dcterms:modified xsi:type="dcterms:W3CDTF">2003-12-01T13:52:22Z</dcterms:modified>
  <cp:revision>357</cp:revision>
  <dc:subject/>
  <dc:title>The Education for All The 2002 Global Monitoring Report    Enligt EFA Global  EFA : Is the world on track ?</dc:title>
</cp:coreProperties>
</file>