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E65-0F77-4BF5-8CAC-0C29DC4A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D7A-9F95-4F33-A4D7-75B9C998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F5B-3A6D-4CB8-A324-825C680C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6C2-29B3-4319-8F13-C7CCBDF8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0DC-4A1E-47C9-B2CC-B417F7A5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28B-4A9B-4D60-B963-DAB5417B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6CA-6636-4672-B599-A9653FE8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58C-C2F3-4F4F-861E-E9C4457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555-1460-4458-BB99-8B9E2226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935-76EA-405B-80EA-1BD31357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437-7B67-4CBB-9AD3-89776DC9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B9C-BA4F-4D11-B3B7-ECB6E06C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EDD-67BD-4DD2-9806-40267EEDF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ecentralization 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inding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e uneven, multiple forms, multiple rat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of power not really shif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xed equity and quality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id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ropriate organizational structure, political will, capacity, and resour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nged role of central ministries of educatio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nect management reforms to quality expecta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47920" y="1295280"/>
          <a:ext cx="67053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7053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29528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r in M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6:09:08Z</dcterms:created>
  <dc:creator>Administrator</dc:creator>
  <dc:description/>
  <dc:language>en-US</dc:language>
  <cp:lastModifiedBy>MOE</cp:lastModifiedBy>
  <dcterms:modified xsi:type="dcterms:W3CDTF">2003-12-05T04:04:47Z</dcterms:modified>
  <cp:revision>16</cp:revision>
  <dc:subject/>
  <dc:title>Background Paper   ADEA Study on The Challenge of Learning – Improving the Quality of Basic Education in Sub-Saharan Africa </dc:title>
</cp:coreProperties>
</file>