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57A-102D-4B46-9224-39930D27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5AD-C1B7-4673-A2F4-C1E7D3D4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359-25DD-4946-B706-1078D2B2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3DF-A106-4C09-9370-DF5C9A39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925C-FEC7-4196-B807-570028B4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C73F-B992-4EF1-89F6-932BACB4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B61A-76F0-4FC0-82B6-F5443009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C299-1C3F-4D34-A94E-FC6E04DE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183C-D5D6-45E4-9854-8B1E7FD4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93CF-6F3D-426D-A3BA-69A0FCCE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8E02-1562-4E88-9CD0-0A9030FC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2C5A-173B-40C4-86C0-568721A1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BB84-883B-4ACC-B51F-1137D792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F9AC-A2EA-4A14-850F-5373F52B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FC41-D43E-435B-92C7-0BEA6CFC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04D0-1A45-4E46-8BCA-00118301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8EB9-8EBA-4B65-B342-C35290E5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9DA-5653-4984-BBCC-EDEF5877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5D14-A3ED-489F-965C-CC7EA2CD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739-D112-421E-A122-3C99A2C4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455-1FB7-4565-B31D-E6EE5290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638-84E7-4DEE-8E3B-5658380A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35DB-431F-4553-B3E9-6BCB0697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BD43-AD6F-48D4-9A24-F2628F98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4584-6AA0-49AE-8AF0-C8030CB7E308}" type="slidenum">
              <a:rPr b="0" lang="fr-F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4B13-B769-4F5A-8CE0-295D28B19577}" type="slidenum">
              <a:rPr b="0" lang="fr-F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81342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mproving the Quality of Education in Sub Saharan Africa by Decentralizing and Diversifying available systems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volving and giving responsibility for school citizenship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. Context and Problem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569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conomic and financial crisis in countries of Sub Saharan Africa with scarce and inefficient means made available for school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re field actors, reinforcers of training quality, who have taken initiatives or to whom responsibilities have been transferred capable of contributing in managing schooling system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.Corpus of the Summar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 National case studies (Equatorial Guinea - Gambia - Madagascar – Nigeria – Uganda – Senegal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8 Support Documen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4920" y="301320"/>
            <a:ext cx="806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. Results and effects note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6407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till limited fields of decentralized competenc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Emergence of actor, support structure and facilitation network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Diversification of partners and improvement of participation in school life, in monitoring pupil performanc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Definite access improvement and positive trends as concerns quality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Increasing effective training hour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trengthening of system management capacities, at administrative, financial, as well as educational level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Increased flexibility of administrative, financial, communication procedures, etc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Increased availability for financial contribution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. Lessons and challeng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.1 Trends and mediations to decentralize Basic Education in Sub Saharan Afric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ajor trends : contractualization – devolu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ost buoyant mediations: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Partnership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Participat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Cooperat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Diversification of knowledge acquisition mechanisms and sources (ICT – Distance learning – SchoolNet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3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3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3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3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3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30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3000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. Lessons and challeng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48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.2 Decentralization contributions to  quality improvem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ostering commitment and creativit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mproving school environ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vailability of means, training too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osely supporting teacher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creased staff motiv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reater compatibility between social and school tim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. Lessons and challeng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.3 Favorable conditions for effective partner engagem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ermanent social dialogue (to develop partner loyalty) based on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utonomous commitment and solidari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onfide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ransparenc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valuation of community dynamic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mprovement of education production (adequate and diversified service – needs taken into account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rengthening of ICT u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3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3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3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30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3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. Lessons and challeng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4.4 Financing challenges in the decentralized contex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spcBef>
                <a:spcPts val="700"/>
              </a:spcBef>
              <a:buClr>
                <a:srgbClr val="ff3399"/>
              </a:buClr>
              <a:buFont typeface="Arial Blac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reate sustainable endogenous financing condit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ustained commitment of local communiti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Increased incentive and implication of private firm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ystematic feedback on the use of financial resourc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0560" y="301320"/>
            <a:ext cx="87138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Black"/>
              </a:rPr>
              <a:t>5. Action and/or reflection lea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4247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Mobilize and develop the enormous latent resources by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e emergence of school citizenship as a means of mediation, an indicator of the legitimacy of local and central powers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giving credibility to field actors without disqualifying central structures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tting up flexible qualitative monitoring systems at local and national levels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ubacar NIANE</dc:creator>
  <dc:description/>
  <dc:language>en-US</dc:language>
  <cp:lastModifiedBy>Guest</cp:lastModifiedBy>
  <dcterms:modified xsi:type="dcterms:W3CDTF">2003-12-01T15:36:19Z</dcterms:modified>
  <cp:revision>52</cp:revision>
  <dc:subject>Biennale ADEA - Ile Maurice 3-6 déc. 2003</dc:subject>
  <dc:title>Synthèse thématique Décentralisation et Qualité de l'Education de Base en Afrique</dc:title>
</cp:coreProperties>
</file>